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9599-38F6-4628-B0BB-E414C19309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המוטיבציה: תאור עצמים דמיוניים או אמיתיים ב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 מימדים במונחים מתמטיי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שיטה פופולרית אבל לא היחידה: תאור שפות העצמים (המשטחי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בתוך אלה, קיימים משטחים חלקים (שפת כדור), ומשטחים לא חלקים (שפת קוביה). קיימים משטחים אנליטיים (כדור גליל מישור) ומשטחים בעלי צורה חופשית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למשטחים בעלי צורה חופשית יש תאורים מתמטיים שונים. אחד מהם הוא ע”י תהליכי חלוקה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אפשר להסתכל על תהליך החלוקה כעל קופסה שחורה, ואז מה שנשאר לנו זה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היצוג של העקום ע”י פוליגון הבקרה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העקום עצמו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זה נקרא פוליגון בקרה, כי אם מזיזים את אחת מנקודות הבקרה, העקום משתנה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כבר רואים הבדל בסיסי בין סכימות אינטרפולטוריות לבין סכימות לא אינטרפולטוריות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EEA-829F-4036-82C2-A6203A10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E5B-B484-4F35-ACFB-15C0A66E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30D-834D-4867-B64F-4267C479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63A-729A-433E-AFA2-B13B2DF9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92F0-5D30-4F67-B456-222A3F6C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E31F-09B6-4997-994E-7101FD01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1C8D-84EC-4C72-A3F6-71CFF79B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7C43-52B6-44B8-B3E7-E21FD8FC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C2E5-9625-4A61-A1A5-F55B9A2A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8B94-D3DC-43F7-9159-2EE2E1AA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4CFD-677E-46FF-AD0B-DA61EABE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BD6-2062-4C0C-BD24-16D49856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4188-5DC0-4A90-9ED1-902666B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19BA-11C1-4763-B7F4-BB0D5186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CA44-0F3A-423F-911D-5CD9E706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BB55-CE6A-4F5C-8062-5F4BD62C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0D1E-691A-4771-836B-44F2A4D2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8C2-11CA-45F7-BA9E-10065574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B33-97D9-43F6-ABA3-C66E3307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509-C8FD-4E1B-92FF-42467511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332-4061-4620-B94C-12EFCC23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2F4-246E-4D05-BC7F-A59DF2FD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3FC-2CA5-4C83-83CF-7686B50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0AD-2DBE-423F-A8AC-87F205B1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1A1F-9B74-4188-8F28-46E9235C1AA6}" type="slidenum"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DBAA-7B31-46BB-A235-51431C073EA9}" type="slidenum"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bdivision Curv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30440" y="2430360"/>
            <a:ext cx="4281480" cy="2884680"/>
          </a:xfrm>
          <a:custGeom>
            <a:avLst/>
            <a:gdLst/>
            <a:ahLst/>
            <a:rect l="l" t="t" r="r" b="b"/>
            <a:pathLst>
              <a:path w="2697" h="1817">
                <a:moveTo>
                  <a:pt x="6" y="1369"/>
                </a:moveTo>
                <a:cubicBezTo>
                  <a:pt x="12" y="1248"/>
                  <a:pt x="40" y="1084"/>
                  <a:pt x="66" y="965"/>
                </a:cubicBezTo>
                <a:cubicBezTo>
                  <a:pt x="92" y="846"/>
                  <a:pt x="123" y="746"/>
                  <a:pt x="162" y="653"/>
                </a:cubicBezTo>
                <a:cubicBezTo>
                  <a:pt x="201" y="560"/>
                  <a:pt x="246" y="484"/>
                  <a:pt x="302" y="409"/>
                </a:cubicBezTo>
                <a:cubicBezTo>
                  <a:pt x="358" y="334"/>
                  <a:pt x="433" y="264"/>
                  <a:pt x="498" y="205"/>
                </a:cubicBezTo>
                <a:cubicBezTo>
                  <a:pt x="563" y="146"/>
                  <a:pt x="631" y="87"/>
                  <a:pt x="694" y="53"/>
                </a:cubicBezTo>
                <a:cubicBezTo>
                  <a:pt x="757" y="19"/>
                  <a:pt x="816" y="2"/>
                  <a:pt x="874" y="1"/>
                </a:cubicBezTo>
                <a:cubicBezTo>
                  <a:pt x="932" y="0"/>
                  <a:pt x="986" y="17"/>
                  <a:pt x="1042" y="49"/>
                </a:cubicBezTo>
                <a:cubicBezTo>
                  <a:pt x="1098" y="81"/>
                  <a:pt x="1152" y="140"/>
                  <a:pt x="1210" y="193"/>
                </a:cubicBezTo>
                <a:cubicBezTo>
                  <a:pt x="1268" y="246"/>
                  <a:pt x="1323" y="313"/>
                  <a:pt x="1390" y="365"/>
                </a:cubicBezTo>
                <a:cubicBezTo>
                  <a:pt x="1457" y="417"/>
                  <a:pt x="1527" y="462"/>
                  <a:pt x="1614" y="505"/>
                </a:cubicBezTo>
                <a:cubicBezTo>
                  <a:pt x="1701" y="548"/>
                  <a:pt x="1801" y="592"/>
                  <a:pt x="1910" y="621"/>
                </a:cubicBezTo>
                <a:cubicBezTo>
                  <a:pt x="2019" y="650"/>
                  <a:pt x="2158" y="660"/>
                  <a:pt x="2266" y="681"/>
                </a:cubicBezTo>
                <a:cubicBezTo>
                  <a:pt x="2374" y="702"/>
                  <a:pt x="2491" y="719"/>
                  <a:pt x="2558" y="745"/>
                </a:cubicBezTo>
                <a:cubicBezTo>
                  <a:pt x="2625" y="771"/>
                  <a:pt x="2649" y="801"/>
                  <a:pt x="2670" y="837"/>
                </a:cubicBezTo>
                <a:cubicBezTo>
                  <a:pt x="2691" y="873"/>
                  <a:pt x="2697" y="913"/>
                  <a:pt x="2682" y="961"/>
                </a:cubicBezTo>
                <a:cubicBezTo>
                  <a:pt x="2667" y="1009"/>
                  <a:pt x="2625" y="1073"/>
                  <a:pt x="2582" y="1125"/>
                </a:cubicBezTo>
                <a:cubicBezTo>
                  <a:pt x="2539" y="1177"/>
                  <a:pt x="2484" y="1233"/>
                  <a:pt x="2426" y="1273"/>
                </a:cubicBezTo>
                <a:cubicBezTo>
                  <a:pt x="2368" y="1313"/>
                  <a:pt x="2307" y="1343"/>
                  <a:pt x="2234" y="1365"/>
                </a:cubicBezTo>
                <a:cubicBezTo>
                  <a:pt x="2161" y="1387"/>
                  <a:pt x="2085" y="1408"/>
                  <a:pt x="1990" y="1405"/>
                </a:cubicBezTo>
                <a:cubicBezTo>
                  <a:pt x="1895" y="1402"/>
                  <a:pt x="1775" y="1365"/>
                  <a:pt x="1666" y="1345"/>
                </a:cubicBezTo>
                <a:cubicBezTo>
                  <a:pt x="1557" y="1325"/>
                  <a:pt x="1437" y="1293"/>
                  <a:pt x="1338" y="1285"/>
                </a:cubicBezTo>
                <a:cubicBezTo>
                  <a:pt x="1239" y="1277"/>
                  <a:pt x="1157" y="1280"/>
                  <a:pt x="1070" y="1297"/>
                </a:cubicBezTo>
                <a:cubicBezTo>
                  <a:pt x="983" y="1314"/>
                  <a:pt x="900" y="1338"/>
                  <a:pt x="814" y="1385"/>
                </a:cubicBezTo>
                <a:cubicBezTo>
                  <a:pt x="728" y="1432"/>
                  <a:pt x="637" y="1518"/>
                  <a:pt x="554" y="1581"/>
                </a:cubicBezTo>
                <a:cubicBezTo>
                  <a:pt x="471" y="1644"/>
                  <a:pt x="385" y="1724"/>
                  <a:pt x="314" y="1761"/>
                </a:cubicBezTo>
                <a:cubicBezTo>
                  <a:pt x="243" y="1798"/>
                  <a:pt x="177" y="1817"/>
                  <a:pt x="130" y="1805"/>
                </a:cubicBezTo>
                <a:cubicBezTo>
                  <a:pt x="83" y="1793"/>
                  <a:pt x="50" y="1762"/>
                  <a:pt x="30" y="1689"/>
                </a:cubicBezTo>
                <a:cubicBezTo>
                  <a:pt x="10" y="1616"/>
                  <a:pt x="0" y="1490"/>
                  <a:pt x="6" y="1369"/>
                </a:cubicBezTo>
                <a:close/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082520" y="2048040"/>
            <a:ext cx="7527960" cy="3975840"/>
            <a:chOff x="1082520" y="2048040"/>
            <a:chExt cx="7527960" cy="3975840"/>
          </a:xfrm>
        </p:grpSpPr>
        <p:sp>
          <p:nvSpPr>
            <p:cNvPr id="218" name=""/>
            <p:cNvSpPr/>
            <p:nvPr/>
          </p:nvSpPr>
          <p:spPr>
            <a:xfrm>
              <a:off x="5202360" y="5564160"/>
              <a:ext cx="34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2000"/>
                  </a:solidFill>
                  <a:latin typeface="Times New Roman"/>
                </a:rPr>
                <a:t>The control polygon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082520" y="2048040"/>
              <a:ext cx="6842160" cy="3666960"/>
              <a:chOff x="1082520" y="2048040"/>
              <a:chExt cx="6842160" cy="3666960"/>
            </a:xfrm>
          </p:grpSpPr>
          <p:sp>
            <p:nvSpPr>
              <p:cNvPr id="220" name=""/>
              <p:cNvSpPr/>
              <p:nvPr/>
            </p:nvSpPr>
            <p:spPr>
              <a:xfrm flipV="1">
                <a:off x="2590920" y="2144520"/>
                <a:ext cx="1325520" cy="128412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14640" y="2157480"/>
                <a:ext cx="1114560" cy="119520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29200" y="3352680"/>
                <a:ext cx="2085840" cy="30348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137280" y="3657600"/>
                <a:ext cx="990720" cy="114300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4167000" y="4325400"/>
                <a:ext cx="1958760" cy="47484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514240" y="4325760"/>
                <a:ext cx="1663560" cy="138924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2514600" y="3429000"/>
                <a:ext cx="76320" cy="2286000"/>
              </a:xfrm>
              <a:prstGeom prst="line">
                <a:avLst/>
              </a:prstGeom>
              <a:ln cap="rnd" w="12600">
                <a:solidFill>
                  <a:srgbClr val="402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6315120" y="4694400"/>
                <a:ext cx="93600" cy="86976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08640" y="2174760"/>
                <a:ext cx="251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d3333"/>
                    </a:solidFill>
                    <a:latin typeface="Times New Roman"/>
                  </a:rPr>
                  <a:t>The limit curve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197320" y="2633760"/>
                <a:ext cx="763920" cy="56520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82520" y="2048040"/>
                <a:ext cx="1785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02000"/>
                    </a:solidFill>
                    <a:latin typeface="Times New Roman"/>
                  </a:rPr>
                  <a:t>A control point</a:t>
                </a:r>
                <a:endParaRPr b="0" lang="en-US" sz="2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33480" y="2481120"/>
                <a:ext cx="682560" cy="8701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70320" y="3327480"/>
            <a:ext cx="21240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44800" y="2009880"/>
            <a:ext cx="21276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67280" y="4160880"/>
            <a:ext cx="21276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8400" y="5607000"/>
            <a:ext cx="21240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92280" y="4457880"/>
            <a:ext cx="117720" cy="118800"/>
          </a:xfrm>
          <a:prstGeom prst="ellipse">
            <a:avLst/>
          </a:prstGeom>
          <a:solidFill>
            <a:srgbClr val="47ef2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2133720"/>
            <a:ext cx="228600" cy="2133360"/>
          </a:xfrm>
          <a:prstGeom prst="line">
            <a:avLst/>
          </a:prstGeom>
          <a:ln cap="rnd" w="324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78000">
            <a:off x="2422800" y="428724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 : 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21200" y="3174840"/>
            <a:ext cx="117360" cy="119160"/>
          </a:xfrm>
          <a:prstGeom prst="ellipse">
            <a:avLst/>
          </a:prstGeom>
          <a:solidFill>
            <a:srgbClr val="47ef2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5789000">
            <a:off x="3327840" y="3088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  :  </a:t>
            </a: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70320" y="3327480"/>
            <a:ext cx="21240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44800" y="2009880"/>
            <a:ext cx="21276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4160880"/>
            <a:ext cx="21276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8400" y="5607000"/>
            <a:ext cx="212400" cy="212760"/>
          </a:xfrm>
          <a:prstGeom prst="ellipse">
            <a:avLst/>
          </a:prstGeom>
          <a:noFill/>
          <a:ln w="381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354040" y="3246480"/>
            <a:ext cx="1725480" cy="14270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2133720"/>
            <a:ext cx="228600" cy="2133360"/>
          </a:xfrm>
          <a:prstGeom prst="line">
            <a:avLst/>
          </a:prstGeom>
          <a:ln cap="rnd" w="324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92280" y="4457880"/>
            <a:ext cx="117720" cy="118800"/>
          </a:xfrm>
          <a:prstGeom prst="ellipse">
            <a:avLst/>
          </a:prstGeom>
          <a:solidFill>
            <a:srgbClr val="47ef2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3174840"/>
            <a:ext cx="117360" cy="119160"/>
          </a:xfrm>
          <a:prstGeom prst="ellipse">
            <a:avLst/>
          </a:prstGeom>
          <a:solidFill>
            <a:srgbClr val="47ef2b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9203000">
            <a:off x="1942200" y="38584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 :          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90680" y="460692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90680" y="460692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25800" y="2598840"/>
            <a:ext cx="11736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56000" y="250344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22880" y="344484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67360" y="4229280"/>
            <a:ext cx="11772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91120" y="4427640"/>
            <a:ext cx="11736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5724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86080" y="4902120"/>
            <a:ext cx="11736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2760" y="467820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25800" y="2598840"/>
            <a:ext cx="11736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56000" y="250344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22880" y="3444840"/>
            <a:ext cx="11772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67360" y="4229280"/>
            <a:ext cx="11772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91120" y="4427640"/>
            <a:ext cx="117360" cy="11880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86080" y="4902120"/>
            <a:ext cx="117360" cy="119160"/>
          </a:xfrm>
          <a:prstGeom prst="ellipse">
            <a:avLst/>
          </a:prstGeom>
          <a:solidFill>
            <a:srgbClr val="cd3333"/>
          </a:solidFill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2349000" y="4709880"/>
            <a:ext cx="158760" cy="10047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333600" y="4275000"/>
            <a:ext cx="860400" cy="6969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75280" y="4454640"/>
            <a:ext cx="1090440" cy="3524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919920" y="3663720"/>
            <a:ext cx="236520" cy="6267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008680" y="3330720"/>
            <a:ext cx="1110960" cy="1728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3949200" y="2115720"/>
            <a:ext cx="444600" cy="4050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577960" y="2665440"/>
            <a:ext cx="508320" cy="7444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086280" y="2111040"/>
            <a:ext cx="861840" cy="5540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94160" y="2521080"/>
            <a:ext cx="615960" cy="8110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165720" y="4295880"/>
            <a:ext cx="749520" cy="5112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3520" y="3500280"/>
            <a:ext cx="1033560" cy="1605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91120" y="4273560"/>
            <a:ext cx="877680" cy="1778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508120" y="4982760"/>
            <a:ext cx="836640" cy="7318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346480" y="3406320"/>
            <a:ext cx="231480" cy="129852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349000" y="4709880"/>
            <a:ext cx="158760" cy="10047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333600" y="4275000"/>
            <a:ext cx="860400" cy="696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75280" y="4454640"/>
            <a:ext cx="1090440" cy="3524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919920" y="3663720"/>
            <a:ext cx="236520" cy="6267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008680" y="3330720"/>
            <a:ext cx="1110960" cy="1728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3949200" y="2115720"/>
            <a:ext cx="444600" cy="405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577960" y="2665440"/>
            <a:ext cx="508320" cy="7444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086280" y="2111040"/>
            <a:ext cx="861840" cy="5540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94160" y="2521080"/>
            <a:ext cx="615960" cy="8110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165720" y="4295880"/>
            <a:ext cx="749520" cy="5112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13520" y="3500280"/>
            <a:ext cx="1033560" cy="1605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4273560"/>
            <a:ext cx="877680" cy="177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08120" y="4982760"/>
            <a:ext cx="836640" cy="7318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346480" y="3406320"/>
            <a:ext cx="231480" cy="1298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38480" y="2101680"/>
            <a:ext cx="5113080" cy="3768840"/>
          </a:xfrm>
          <a:custGeom>
            <a:avLst/>
            <a:gdLst/>
            <a:ahLst/>
            <a:rect l="l" t="t" r="r" b="b"/>
            <a:pathLst>
              <a:path w="3221" h="2374">
                <a:moveTo>
                  <a:pt x="168" y="2284"/>
                </a:moveTo>
                <a:cubicBezTo>
                  <a:pt x="0" y="2194"/>
                  <a:pt x="59" y="1211"/>
                  <a:pt x="212" y="832"/>
                </a:cubicBezTo>
                <a:cubicBezTo>
                  <a:pt x="365" y="453"/>
                  <a:pt x="828" y="18"/>
                  <a:pt x="1086" y="9"/>
                </a:cubicBezTo>
                <a:cubicBezTo>
                  <a:pt x="1344" y="0"/>
                  <a:pt x="1424" y="617"/>
                  <a:pt x="1760" y="780"/>
                </a:cubicBezTo>
                <a:cubicBezTo>
                  <a:pt x="2096" y="943"/>
                  <a:pt x="2981" y="835"/>
                  <a:pt x="3101" y="987"/>
                </a:cubicBezTo>
                <a:cubicBezTo>
                  <a:pt x="3221" y="1139"/>
                  <a:pt x="2793" y="1627"/>
                  <a:pt x="2479" y="1691"/>
                </a:cubicBezTo>
                <a:cubicBezTo>
                  <a:pt x="2165" y="1755"/>
                  <a:pt x="1603" y="1274"/>
                  <a:pt x="1219" y="1372"/>
                </a:cubicBezTo>
                <a:cubicBezTo>
                  <a:pt x="835" y="1470"/>
                  <a:pt x="336" y="2374"/>
                  <a:pt x="168" y="2284"/>
                </a:cubicBezTo>
                <a:close/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4-point sche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38480" y="2101680"/>
            <a:ext cx="5113080" cy="3768840"/>
          </a:xfrm>
          <a:custGeom>
            <a:avLst/>
            <a:gdLst/>
            <a:ahLst/>
            <a:rect l="l" t="t" r="r" b="b"/>
            <a:pathLst>
              <a:path w="3221" h="2374">
                <a:moveTo>
                  <a:pt x="168" y="2284"/>
                </a:moveTo>
                <a:cubicBezTo>
                  <a:pt x="0" y="2194"/>
                  <a:pt x="59" y="1211"/>
                  <a:pt x="212" y="832"/>
                </a:cubicBezTo>
                <a:cubicBezTo>
                  <a:pt x="365" y="453"/>
                  <a:pt x="828" y="18"/>
                  <a:pt x="1086" y="9"/>
                </a:cubicBezTo>
                <a:cubicBezTo>
                  <a:pt x="1344" y="0"/>
                  <a:pt x="1424" y="617"/>
                  <a:pt x="1760" y="780"/>
                </a:cubicBezTo>
                <a:cubicBezTo>
                  <a:pt x="2096" y="943"/>
                  <a:pt x="2981" y="835"/>
                  <a:pt x="3101" y="987"/>
                </a:cubicBezTo>
                <a:cubicBezTo>
                  <a:pt x="3221" y="1139"/>
                  <a:pt x="2793" y="1627"/>
                  <a:pt x="2479" y="1691"/>
                </a:cubicBezTo>
                <a:cubicBezTo>
                  <a:pt x="2165" y="1755"/>
                  <a:pt x="1603" y="1274"/>
                  <a:pt x="1219" y="1372"/>
                </a:cubicBezTo>
                <a:cubicBezTo>
                  <a:pt x="835" y="1470"/>
                  <a:pt x="336" y="2374"/>
                  <a:pt x="168" y="2284"/>
                </a:cubicBezTo>
                <a:close/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97240" y="565776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control polyg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576520" y="2117520"/>
            <a:ext cx="1327320" cy="13064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00600" y="2122560"/>
            <a:ext cx="1128600" cy="123012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29200" y="3352680"/>
            <a:ext cx="2104920" cy="29700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129360" y="3651120"/>
            <a:ext cx="1008000" cy="114948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4157640" y="4285800"/>
            <a:ext cx="1968480" cy="5144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513160" y="4287960"/>
            <a:ext cx="1644480" cy="144936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509920" y="3422520"/>
            <a:ext cx="66600" cy="23162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433760" y="4530600"/>
            <a:ext cx="223920" cy="11750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0080" y="2070000"/>
            <a:ext cx="25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The limit curv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783120" y="2575080"/>
            <a:ext cx="153720" cy="930240"/>
          </a:xfrm>
          <a:prstGeom prst="line">
            <a:avLst/>
          </a:prstGeom>
          <a:ln w="93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82520" y="20480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 control poi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33480" y="2481120"/>
            <a:ext cx="682560" cy="8701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bdivision curv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101680"/>
            <a:ext cx="5113080" cy="3768840"/>
          </a:xfrm>
          <a:custGeom>
            <a:avLst/>
            <a:gdLst/>
            <a:ahLst/>
            <a:rect l="l" t="t" r="r" b="b"/>
            <a:pathLst>
              <a:path w="3221" h="2374">
                <a:moveTo>
                  <a:pt x="168" y="2284"/>
                </a:moveTo>
                <a:cubicBezTo>
                  <a:pt x="0" y="2194"/>
                  <a:pt x="59" y="1211"/>
                  <a:pt x="212" y="832"/>
                </a:cubicBezTo>
                <a:cubicBezTo>
                  <a:pt x="365" y="453"/>
                  <a:pt x="828" y="18"/>
                  <a:pt x="1086" y="9"/>
                </a:cubicBezTo>
                <a:cubicBezTo>
                  <a:pt x="1344" y="0"/>
                  <a:pt x="1424" y="617"/>
                  <a:pt x="1760" y="780"/>
                </a:cubicBezTo>
                <a:cubicBezTo>
                  <a:pt x="2096" y="943"/>
                  <a:pt x="2981" y="835"/>
                  <a:pt x="3101" y="987"/>
                </a:cubicBezTo>
                <a:cubicBezTo>
                  <a:pt x="3221" y="1139"/>
                  <a:pt x="2793" y="1627"/>
                  <a:pt x="2479" y="1691"/>
                </a:cubicBezTo>
                <a:cubicBezTo>
                  <a:pt x="2165" y="1755"/>
                  <a:pt x="1603" y="1274"/>
                  <a:pt x="1219" y="1372"/>
                </a:cubicBezTo>
                <a:cubicBezTo>
                  <a:pt x="835" y="1470"/>
                  <a:pt x="336" y="2374"/>
                  <a:pt x="168" y="2284"/>
                </a:cubicBezTo>
                <a:close/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30440" y="2430360"/>
            <a:ext cx="4281480" cy="2884680"/>
          </a:xfrm>
          <a:custGeom>
            <a:avLst/>
            <a:gdLst/>
            <a:ahLst/>
            <a:rect l="l" t="t" r="r" b="b"/>
            <a:pathLst>
              <a:path w="2697" h="1817">
                <a:moveTo>
                  <a:pt x="6" y="1369"/>
                </a:moveTo>
                <a:cubicBezTo>
                  <a:pt x="12" y="1248"/>
                  <a:pt x="40" y="1084"/>
                  <a:pt x="66" y="965"/>
                </a:cubicBezTo>
                <a:cubicBezTo>
                  <a:pt x="92" y="846"/>
                  <a:pt x="123" y="746"/>
                  <a:pt x="162" y="653"/>
                </a:cubicBezTo>
                <a:cubicBezTo>
                  <a:pt x="201" y="560"/>
                  <a:pt x="246" y="484"/>
                  <a:pt x="302" y="409"/>
                </a:cubicBezTo>
                <a:cubicBezTo>
                  <a:pt x="358" y="334"/>
                  <a:pt x="433" y="264"/>
                  <a:pt x="498" y="205"/>
                </a:cubicBezTo>
                <a:cubicBezTo>
                  <a:pt x="563" y="146"/>
                  <a:pt x="631" y="87"/>
                  <a:pt x="694" y="53"/>
                </a:cubicBezTo>
                <a:cubicBezTo>
                  <a:pt x="757" y="19"/>
                  <a:pt x="816" y="2"/>
                  <a:pt x="874" y="1"/>
                </a:cubicBezTo>
                <a:cubicBezTo>
                  <a:pt x="932" y="0"/>
                  <a:pt x="986" y="17"/>
                  <a:pt x="1042" y="49"/>
                </a:cubicBezTo>
                <a:cubicBezTo>
                  <a:pt x="1098" y="81"/>
                  <a:pt x="1152" y="140"/>
                  <a:pt x="1210" y="193"/>
                </a:cubicBezTo>
                <a:cubicBezTo>
                  <a:pt x="1268" y="246"/>
                  <a:pt x="1323" y="313"/>
                  <a:pt x="1390" y="365"/>
                </a:cubicBezTo>
                <a:cubicBezTo>
                  <a:pt x="1457" y="417"/>
                  <a:pt x="1527" y="462"/>
                  <a:pt x="1614" y="505"/>
                </a:cubicBezTo>
                <a:cubicBezTo>
                  <a:pt x="1701" y="548"/>
                  <a:pt x="1801" y="592"/>
                  <a:pt x="1910" y="621"/>
                </a:cubicBezTo>
                <a:cubicBezTo>
                  <a:pt x="2019" y="650"/>
                  <a:pt x="2158" y="660"/>
                  <a:pt x="2266" y="681"/>
                </a:cubicBezTo>
                <a:cubicBezTo>
                  <a:pt x="2374" y="702"/>
                  <a:pt x="2491" y="719"/>
                  <a:pt x="2558" y="745"/>
                </a:cubicBezTo>
                <a:cubicBezTo>
                  <a:pt x="2625" y="771"/>
                  <a:pt x="2649" y="801"/>
                  <a:pt x="2670" y="837"/>
                </a:cubicBezTo>
                <a:cubicBezTo>
                  <a:pt x="2691" y="873"/>
                  <a:pt x="2697" y="913"/>
                  <a:pt x="2682" y="961"/>
                </a:cubicBezTo>
                <a:cubicBezTo>
                  <a:pt x="2667" y="1009"/>
                  <a:pt x="2625" y="1073"/>
                  <a:pt x="2582" y="1125"/>
                </a:cubicBezTo>
                <a:cubicBezTo>
                  <a:pt x="2539" y="1177"/>
                  <a:pt x="2484" y="1233"/>
                  <a:pt x="2426" y="1273"/>
                </a:cubicBezTo>
                <a:cubicBezTo>
                  <a:pt x="2368" y="1313"/>
                  <a:pt x="2307" y="1343"/>
                  <a:pt x="2234" y="1365"/>
                </a:cubicBezTo>
                <a:cubicBezTo>
                  <a:pt x="2161" y="1387"/>
                  <a:pt x="2085" y="1408"/>
                  <a:pt x="1990" y="1405"/>
                </a:cubicBezTo>
                <a:cubicBezTo>
                  <a:pt x="1895" y="1402"/>
                  <a:pt x="1775" y="1365"/>
                  <a:pt x="1666" y="1345"/>
                </a:cubicBezTo>
                <a:cubicBezTo>
                  <a:pt x="1557" y="1325"/>
                  <a:pt x="1437" y="1293"/>
                  <a:pt x="1338" y="1285"/>
                </a:cubicBezTo>
                <a:cubicBezTo>
                  <a:pt x="1239" y="1277"/>
                  <a:pt x="1157" y="1280"/>
                  <a:pt x="1070" y="1297"/>
                </a:cubicBezTo>
                <a:cubicBezTo>
                  <a:pt x="983" y="1314"/>
                  <a:pt x="900" y="1338"/>
                  <a:pt x="814" y="1385"/>
                </a:cubicBezTo>
                <a:cubicBezTo>
                  <a:pt x="728" y="1432"/>
                  <a:pt x="637" y="1518"/>
                  <a:pt x="554" y="1581"/>
                </a:cubicBezTo>
                <a:cubicBezTo>
                  <a:pt x="471" y="1644"/>
                  <a:pt x="385" y="1724"/>
                  <a:pt x="314" y="1761"/>
                </a:cubicBezTo>
                <a:cubicBezTo>
                  <a:pt x="243" y="1798"/>
                  <a:pt x="177" y="1817"/>
                  <a:pt x="130" y="1805"/>
                </a:cubicBezTo>
                <a:cubicBezTo>
                  <a:pt x="83" y="1793"/>
                  <a:pt x="50" y="1762"/>
                  <a:pt x="30" y="1689"/>
                </a:cubicBezTo>
                <a:cubicBezTo>
                  <a:pt x="10" y="1616"/>
                  <a:pt x="0" y="1490"/>
                  <a:pt x="6" y="1369"/>
                </a:cubicBezTo>
                <a:close/>
              </a:path>
            </a:pathLst>
          </a:custGeom>
          <a:noFill/>
          <a:ln w="28440">
            <a:solidFill>
              <a:srgbClr val="29c30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590920" y="2123640"/>
            <a:ext cx="1326960" cy="130500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16440" y="2127240"/>
            <a:ext cx="1112760" cy="12254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3352680"/>
            <a:ext cx="2104920" cy="3002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136920" y="3648240"/>
            <a:ext cx="1003320" cy="115236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4152600" y="4282920"/>
            <a:ext cx="1989000" cy="51624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514600" y="4278240"/>
            <a:ext cx="1635120" cy="143676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cap="rnd" w="12600">
            <a:solidFill>
              <a:srgbClr val="402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27520" y="1903320"/>
            <a:ext cx="3795840" cy="785520"/>
          </a:xfrm>
          <a:prstGeom prst="rect">
            <a:avLst/>
          </a:prstGeom>
          <a:noFill/>
          <a:ln w="9360">
            <a:solidFill>
              <a:srgbClr val="29c3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on interpolatory subdivision schem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orner Cutting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51200" y="5078520"/>
            <a:ext cx="3795840" cy="785520"/>
          </a:xfrm>
          <a:prstGeom prst="rect">
            <a:avLst/>
          </a:prstGeom>
          <a:noFill/>
          <a:ln w="936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nterpolatory subdivision schem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he 4-point sche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sic concepts of Subdivis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26720" y="1828800"/>
            <a:ext cx="751356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subdivision curve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is generated by repeatedly applying a subdivision operator to a given polygon (called the </a:t>
            </a: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control polygon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central theoretical questions: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Convergenc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 Given a subdivision operator and a control polygon, does  the subdivision process converge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Smoothnes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 Does the subdivision process converge to a smooth curve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ubdivision schemes for surfac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Control net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consists of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vertice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edge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, and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face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each iteration, the subdivision operator refines the control net, increasing the number of vertices (approximately) by a factor of 4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the limit the vertices of the control net converge to a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limit surfac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very subdivision method has a method to generate the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topology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of the refined net, and rules to calculate the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location of the new vertice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90920" y="2133720"/>
            <a:ext cx="1371600" cy="1295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133720"/>
            <a:ext cx="1066680" cy="12189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64080" y="2435400"/>
            <a:ext cx="533160" cy="0"/>
          </a:xfrm>
          <a:prstGeom prst="line">
            <a:avLst/>
          </a:prstGeom>
          <a:ln cap="rnd" w="38160">
            <a:solidFill>
              <a:srgbClr val="cd3333"/>
            </a:solidFill>
            <a:custDash>
              <a:ds d="100000" sp="1000"/>
            </a:custDash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906400">
            <a:off x="3843000" y="252900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1 :      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975000">
            <a:off x="2682000" y="216648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402000"/>
                </a:solidFill>
                <a:latin typeface="Times New Roman"/>
              </a:rPr>
              <a:t>3       :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90920" y="2435400"/>
            <a:ext cx="1073160" cy="993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2435400"/>
            <a:ext cx="838080" cy="917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352680"/>
            <a:ext cx="2133720" cy="304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72200" y="3657600"/>
            <a:ext cx="990720" cy="1143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90760" y="4267080"/>
            <a:ext cx="1981080" cy="533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14240" y="4267080"/>
            <a:ext cx="1676520" cy="1447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14600" y="3429000"/>
            <a:ext cx="76320" cy="2286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4080" y="2435400"/>
            <a:ext cx="533160" cy="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0120" y="2435400"/>
            <a:ext cx="723960" cy="669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2435400"/>
            <a:ext cx="533160" cy="6127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429000"/>
            <a:ext cx="1219320" cy="15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400800" y="3962520"/>
            <a:ext cx="457200" cy="5331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647960" y="4419720"/>
            <a:ext cx="1066680" cy="3045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971800" y="4572000"/>
            <a:ext cx="838080" cy="7621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3916440"/>
            <a:ext cx="76320" cy="1339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64080" y="2435400"/>
            <a:ext cx="533160" cy="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90920" y="3105000"/>
            <a:ext cx="349200" cy="8114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256360"/>
            <a:ext cx="457200" cy="777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048120"/>
            <a:ext cx="762120" cy="3808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3581280"/>
            <a:ext cx="152280" cy="3812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714640" y="4495680"/>
            <a:ext cx="685800" cy="2286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520" y="4419720"/>
            <a:ext cx="838440" cy="1522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940120" y="2435400"/>
            <a:ext cx="723960" cy="669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2435400"/>
            <a:ext cx="533160" cy="6127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3429000"/>
            <a:ext cx="1219320" cy="15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400800" y="3962520"/>
            <a:ext cx="457200" cy="5331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647960" y="4419720"/>
            <a:ext cx="1066680" cy="3045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71800" y="4572000"/>
            <a:ext cx="838080" cy="7621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14600" y="3916440"/>
            <a:ext cx="76320" cy="1339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64080" y="2435400"/>
            <a:ext cx="533160" cy="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90920" y="3105000"/>
            <a:ext cx="349200" cy="8114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5256360"/>
            <a:ext cx="457200" cy="777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3048120"/>
            <a:ext cx="762120" cy="3808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581280"/>
            <a:ext cx="152280" cy="3812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714640" y="4495680"/>
            <a:ext cx="685800" cy="228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809520" y="4419720"/>
            <a:ext cx="838440" cy="15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125880" y="2597040"/>
            <a:ext cx="361800" cy="331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24320" y="2592360"/>
            <a:ext cx="271440" cy="312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00680" y="3467160"/>
            <a:ext cx="642960" cy="763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505560" y="4071960"/>
            <a:ext cx="257040" cy="2952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900680" y="4491000"/>
            <a:ext cx="590400" cy="162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180960" y="4734000"/>
            <a:ext cx="452520" cy="4046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23960" y="4258800"/>
            <a:ext cx="38160" cy="69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87920" y="2435400"/>
            <a:ext cx="271440" cy="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690640" y="3262320"/>
            <a:ext cx="187560" cy="425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38440" y="5275440"/>
            <a:ext cx="233280" cy="39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90960" y="3138480"/>
            <a:ext cx="419400" cy="204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8840" y="3686040"/>
            <a:ext cx="81000" cy="1810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890680" y="4548240"/>
            <a:ext cx="366840" cy="1141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024080" y="4457880"/>
            <a:ext cx="409320" cy="71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87680" y="2435040"/>
            <a:ext cx="300240" cy="1616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59360" y="2435400"/>
            <a:ext cx="264960" cy="1522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491080" y="4653000"/>
            <a:ext cx="399960" cy="93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257880" y="4366800"/>
            <a:ext cx="247680" cy="1810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762600" y="3866760"/>
            <a:ext cx="57240" cy="2048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10360" y="3343320"/>
            <a:ext cx="490320" cy="1238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95760" y="2905200"/>
            <a:ext cx="304920" cy="23328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3543480"/>
            <a:ext cx="295200" cy="1425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33760" y="4457880"/>
            <a:ext cx="466920" cy="3312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33840" y="4528800"/>
            <a:ext cx="390600" cy="20484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78200" y="5138640"/>
            <a:ext cx="303120" cy="1764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23960" y="4951440"/>
            <a:ext cx="114480" cy="32400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562120" y="3687480"/>
            <a:ext cx="128520" cy="57132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71720" y="2928960"/>
            <a:ext cx="254160" cy="333360"/>
          </a:xfrm>
          <a:prstGeom prst="line">
            <a:avLst/>
          </a:prstGeom>
          <a:ln w="38160">
            <a:solidFill>
              <a:srgbClr val="cd33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25880" y="2597040"/>
            <a:ext cx="361800" cy="3319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4320" y="2592360"/>
            <a:ext cx="271440" cy="312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00680" y="3467160"/>
            <a:ext cx="642960" cy="763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505560" y="4071960"/>
            <a:ext cx="257040" cy="2952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900680" y="4491000"/>
            <a:ext cx="590400" cy="162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180960" y="4734000"/>
            <a:ext cx="452520" cy="4046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523960" y="4258800"/>
            <a:ext cx="38160" cy="69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87920" y="2435400"/>
            <a:ext cx="271440" cy="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690640" y="3262320"/>
            <a:ext cx="187560" cy="4255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38440" y="5275440"/>
            <a:ext cx="233280" cy="396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90960" y="3138480"/>
            <a:ext cx="419400" cy="204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38840" y="3686040"/>
            <a:ext cx="81000" cy="1810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890680" y="4548240"/>
            <a:ext cx="366840" cy="1141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024080" y="4457880"/>
            <a:ext cx="409320" cy="71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87680" y="2435040"/>
            <a:ext cx="300240" cy="1616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59360" y="2435400"/>
            <a:ext cx="264960" cy="152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491080" y="4653000"/>
            <a:ext cx="399960" cy="93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257880" y="4366800"/>
            <a:ext cx="247680" cy="1810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762600" y="3866760"/>
            <a:ext cx="57240" cy="204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10360" y="3343320"/>
            <a:ext cx="490320" cy="123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95760" y="2905200"/>
            <a:ext cx="304920" cy="23328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3543480"/>
            <a:ext cx="295200" cy="1425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33760" y="4457880"/>
            <a:ext cx="466920" cy="331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633840" y="4528800"/>
            <a:ext cx="390600" cy="20484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78200" y="5138640"/>
            <a:ext cx="303120" cy="1764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523960" y="4951440"/>
            <a:ext cx="114480" cy="32400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562120" y="3687480"/>
            <a:ext cx="128520" cy="57132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71720" y="2928960"/>
            <a:ext cx="254160" cy="333360"/>
          </a:xfrm>
          <a:prstGeom prst="line">
            <a:avLst/>
          </a:prstGeom>
          <a:ln w="38160">
            <a:solidFill>
              <a:srgbClr val="402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rner Cut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30440" y="2430360"/>
            <a:ext cx="4281480" cy="2884680"/>
          </a:xfrm>
          <a:custGeom>
            <a:avLst/>
            <a:gdLst/>
            <a:ahLst/>
            <a:rect l="l" t="t" r="r" b="b"/>
            <a:pathLst>
              <a:path w="2697" h="1817">
                <a:moveTo>
                  <a:pt x="6" y="1369"/>
                </a:moveTo>
                <a:cubicBezTo>
                  <a:pt x="12" y="1248"/>
                  <a:pt x="40" y="1084"/>
                  <a:pt x="66" y="965"/>
                </a:cubicBezTo>
                <a:cubicBezTo>
                  <a:pt x="92" y="846"/>
                  <a:pt x="123" y="746"/>
                  <a:pt x="162" y="653"/>
                </a:cubicBezTo>
                <a:cubicBezTo>
                  <a:pt x="201" y="560"/>
                  <a:pt x="246" y="484"/>
                  <a:pt x="302" y="409"/>
                </a:cubicBezTo>
                <a:cubicBezTo>
                  <a:pt x="358" y="334"/>
                  <a:pt x="433" y="264"/>
                  <a:pt x="498" y="205"/>
                </a:cubicBezTo>
                <a:cubicBezTo>
                  <a:pt x="563" y="146"/>
                  <a:pt x="631" y="87"/>
                  <a:pt x="694" y="53"/>
                </a:cubicBezTo>
                <a:cubicBezTo>
                  <a:pt x="757" y="19"/>
                  <a:pt x="816" y="2"/>
                  <a:pt x="874" y="1"/>
                </a:cubicBezTo>
                <a:cubicBezTo>
                  <a:pt x="932" y="0"/>
                  <a:pt x="986" y="17"/>
                  <a:pt x="1042" y="49"/>
                </a:cubicBezTo>
                <a:cubicBezTo>
                  <a:pt x="1098" y="81"/>
                  <a:pt x="1152" y="140"/>
                  <a:pt x="1210" y="193"/>
                </a:cubicBezTo>
                <a:cubicBezTo>
                  <a:pt x="1268" y="246"/>
                  <a:pt x="1323" y="313"/>
                  <a:pt x="1390" y="365"/>
                </a:cubicBezTo>
                <a:cubicBezTo>
                  <a:pt x="1457" y="417"/>
                  <a:pt x="1527" y="462"/>
                  <a:pt x="1614" y="505"/>
                </a:cubicBezTo>
                <a:cubicBezTo>
                  <a:pt x="1701" y="548"/>
                  <a:pt x="1801" y="592"/>
                  <a:pt x="1910" y="621"/>
                </a:cubicBezTo>
                <a:cubicBezTo>
                  <a:pt x="2019" y="650"/>
                  <a:pt x="2158" y="660"/>
                  <a:pt x="2266" y="681"/>
                </a:cubicBezTo>
                <a:cubicBezTo>
                  <a:pt x="2374" y="702"/>
                  <a:pt x="2491" y="719"/>
                  <a:pt x="2558" y="745"/>
                </a:cubicBezTo>
                <a:cubicBezTo>
                  <a:pt x="2625" y="771"/>
                  <a:pt x="2649" y="801"/>
                  <a:pt x="2670" y="837"/>
                </a:cubicBezTo>
                <a:cubicBezTo>
                  <a:pt x="2691" y="873"/>
                  <a:pt x="2697" y="913"/>
                  <a:pt x="2682" y="961"/>
                </a:cubicBezTo>
                <a:cubicBezTo>
                  <a:pt x="2667" y="1009"/>
                  <a:pt x="2625" y="1073"/>
                  <a:pt x="2582" y="1125"/>
                </a:cubicBezTo>
                <a:cubicBezTo>
                  <a:pt x="2539" y="1177"/>
                  <a:pt x="2484" y="1233"/>
                  <a:pt x="2426" y="1273"/>
                </a:cubicBezTo>
                <a:cubicBezTo>
                  <a:pt x="2368" y="1313"/>
                  <a:pt x="2307" y="1343"/>
                  <a:pt x="2234" y="1365"/>
                </a:cubicBezTo>
                <a:cubicBezTo>
                  <a:pt x="2161" y="1387"/>
                  <a:pt x="2085" y="1408"/>
                  <a:pt x="1990" y="1405"/>
                </a:cubicBezTo>
                <a:cubicBezTo>
                  <a:pt x="1895" y="1402"/>
                  <a:pt x="1775" y="1365"/>
                  <a:pt x="1666" y="1345"/>
                </a:cubicBezTo>
                <a:cubicBezTo>
                  <a:pt x="1557" y="1325"/>
                  <a:pt x="1437" y="1293"/>
                  <a:pt x="1338" y="1285"/>
                </a:cubicBezTo>
                <a:cubicBezTo>
                  <a:pt x="1239" y="1277"/>
                  <a:pt x="1157" y="1280"/>
                  <a:pt x="1070" y="1297"/>
                </a:cubicBezTo>
                <a:cubicBezTo>
                  <a:pt x="983" y="1314"/>
                  <a:pt x="900" y="1338"/>
                  <a:pt x="814" y="1385"/>
                </a:cubicBezTo>
                <a:cubicBezTo>
                  <a:pt x="728" y="1432"/>
                  <a:pt x="637" y="1518"/>
                  <a:pt x="554" y="1581"/>
                </a:cubicBezTo>
                <a:cubicBezTo>
                  <a:pt x="471" y="1644"/>
                  <a:pt x="385" y="1724"/>
                  <a:pt x="314" y="1761"/>
                </a:cubicBezTo>
                <a:cubicBezTo>
                  <a:pt x="243" y="1798"/>
                  <a:pt x="177" y="1817"/>
                  <a:pt x="130" y="1805"/>
                </a:cubicBezTo>
                <a:cubicBezTo>
                  <a:pt x="83" y="1793"/>
                  <a:pt x="50" y="1762"/>
                  <a:pt x="30" y="1689"/>
                </a:cubicBezTo>
                <a:cubicBezTo>
                  <a:pt x="10" y="1616"/>
                  <a:pt x="0" y="1490"/>
                  <a:pt x="6" y="1369"/>
                </a:cubicBezTo>
                <a:close/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09:53:57Z</dcterms:created>
  <dc:creator>Adi Levin</dc:creator>
  <dc:description/>
  <dc:language>en-US</dc:language>
  <cp:lastModifiedBy>Adi</cp:lastModifiedBy>
  <dcterms:modified xsi:type="dcterms:W3CDTF">2001-04-25T17:13:34Z</dcterms:modified>
  <cp:revision>517</cp:revision>
  <dc:subject/>
  <dc:title>Subdivision Surfaces</dc:title>
</cp:coreProperties>
</file>