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1D1-AB9A-4400-9F52-3580EC0D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DAC-6AA3-4474-BDBE-8AE9F106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C13-21A4-44B1-96E1-C4BE380C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FC6-72B7-46E2-8DBF-E74A7D80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B828-8018-447A-A63C-EDD47EE2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40B7-FF14-42DB-9F5C-19524180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E579-3BEB-4C4E-9039-9C1C1FE8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A895-56DF-4282-994F-1167B72C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C1FB-7F30-4849-8AA3-933E31F3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1F17-9E33-4208-BC0A-405B376D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3236-4B22-4BA7-827A-E0088ABA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17F-9A78-4E94-B301-1ECF230D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1A64-A5CE-4A9C-84D4-EEED663A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54C9-4B80-4B3E-9CB0-28D1DA41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E7CE-63E4-4904-ADC2-917E26DF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F66A-027E-4F05-9A2A-1323C51F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CEBF-998A-4DCF-8F75-F326969A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E14E9-BA3D-4CE7-84AD-B79A37AF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2EC27-5581-41F5-AAE6-95ABD06C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818F-CBDB-424B-A45F-7022DD92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4F1F-0711-475A-ADC9-54A68F85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2B19-CBC0-459E-85EF-220E3D6E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5CA-DAA1-49BB-A89F-03D73537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841AA-4BAB-4698-8DA6-DA06BDCF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08EA3-9A6E-4C5A-A502-11C5E118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D4FE6-2163-41E1-A9AC-B0C46D3B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DE995-D144-46C6-800D-C6CDBF20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9D973-C0E9-4338-88F2-29F01D02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1E693-0EF9-49F9-A6BD-D3956257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C8F6A-768A-408C-A2A8-80BCC939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3EA12-B747-4216-A8E6-4B256428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37410-0F92-473B-A881-1EE34939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9F589-2CD5-40FC-9942-4F52A9FD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58C0-179B-4CFE-B8D3-D3ADF24C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C5DC2-770E-481E-ADC8-C3D1C846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1EE6A-4F93-4DB9-AA99-E9538C54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A5050-4875-4242-85AD-17B0AD03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0C4EC-650B-4BDA-AF97-6E79737A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6BE74-092B-4608-957A-F5F1E820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59C54-BFF7-4FB4-862A-59AE19C6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6B9DE-C5EA-4360-9DD7-1E52515B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7851C-5609-448D-BD81-194EC61E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46490-186E-4256-8F3C-66417D7E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93E8E-E84F-4319-9FB9-4A1FFDBC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AA3-D9B2-4C19-87CE-D22980CF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DCC89-CE21-420F-A5DC-E9FA1F17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E6487-798E-478A-9917-4138CAB0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65737-CD04-4DE8-A83B-710947B7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11CA9-858A-4EEF-9DFC-E4C2929B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2C6BC-F89B-46F5-95FC-D5EC6C70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ABA4A-E06A-4E21-8325-2C8430D3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1E908-D29D-4D63-AD23-C030D0C6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1602C-121B-460C-A9C2-E7E6C066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C7DF3-8884-416D-B767-BA4F8F9B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66E4A-8EEF-456D-B7DB-821E90D1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DD7-B1ED-49EF-A20B-C1605049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F3E8C-A004-46D0-88AF-CF541C5D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41FE2-B415-4EDF-B0CE-CCDE7213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17A02-C232-4563-87B7-E36C942B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07E8B-156B-4044-B3D9-0BB88726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029E4-58FA-41BC-9A56-66363606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73313-C11E-40E3-9075-7588DE59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B4F60-D253-4D83-B604-576553A2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BCAC2-EAEE-4B94-851C-299C70AC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34D48-D8D0-405C-8E6F-40DF85CB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D11C8-B3E2-44B9-8A3C-C60AB0CE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3F9-D0FD-45AA-AC4A-652554A7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1DB01-3856-48DA-A89D-34915CC0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9BBB6-4AF8-41DA-BE24-632413C8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43666-D844-4F6E-A605-E61D8C38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662F9-A587-4240-87DD-9E268A54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0774D-D8F0-4504-A968-04403526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1396B-7E9B-48D8-81A4-9739D764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98562-D3AE-4983-A25A-91C4F8FD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C6073-A2C2-4F85-987C-FCC15084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AD67D-E672-491E-9F1E-764B1758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41F98-2DAF-462D-B3B6-11EB7D45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201-54EA-4C26-980D-0222AFEE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0305F-715A-449B-AFDE-2B6DF2B4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C8B05-503D-4D4D-A0D8-52BAFC84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E4E5C-3727-4A5C-B0D1-F4BAE527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2079D-0179-48B1-AA76-1806561D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79849-61EC-4B88-AC6B-9A5CFAD1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9ED-F268-458B-9762-64A84BB3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DF87-D66E-4936-9A13-85771D1585BC}" type="slidenum">
              <a: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  <a:ea typeface="Miria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Times New Roman"/>
                <a:ea typeface="Miria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  <a:ea typeface="Miria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14F0-4A45-4BBF-AAB9-A6846F75B4DE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Miria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  <a:ea typeface="Miria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Times New Roman"/>
                <a:ea typeface="Miria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  <a:ea typeface="Miria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857C-6283-4CBB-849A-AC975B8302D0}" type="slidenum">
              <a:rPr b="0" lang="he-IL" sz="1200" spc="-1" strike="noStrike">
                <a:solidFill>
                  <a:srgbClr val="ffffff"/>
                </a:solidFill>
                <a:latin typeface="Times New Roman"/>
                <a:ea typeface="Miria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9DA9-387D-4031-BF17-85E63EB0611C}" type="slidenum">
              <a: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3567-9846-463A-A6D0-6DC3B79B86F5}" type="slidenum">
              <a: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5AB8-9BFD-4F47-BE78-D9767F25CC72}" type="slidenum">
              <a: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DF4A-A9EA-4E1B-8E82-4D0AA28B0480}" type="slidenum">
              <a:rPr b="0" lang="he-IL" sz="1200" spc="-1" strike="noStrike">
                <a:solidFill>
                  <a:srgbClr val="3f3f3f"/>
                </a:solidFill>
                <a:latin typeface="Times New Roman"/>
                <a:ea typeface="Miria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6"/>
          <p:cNvSpPr/>
          <p:nvPr/>
        </p:nvSpPr>
        <p:spPr>
          <a:xfrm>
            <a:off x="3492360" y="1628640"/>
            <a:ext cx="53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Corbel"/>
                <a:cs typeface="Miriam"/>
              </a:rPr>
              <a:t>ניתן לחשב את כמות הבקטריות בזמן מסוים לפי הנוסחה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Corbel"/>
                <a:cs typeface="Miriam"/>
              </a:rPr>
              <a:t>כאשר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Miriam"/>
              </a:rPr>
              <a:t>Y</a:t>
            </a:r>
            <a:r>
              <a:rPr b="0" lang="he-IL" sz="1800" spc="-1" strike="noStrike">
                <a:solidFill>
                  <a:srgbClr val="000000"/>
                </a:solidFill>
                <a:latin typeface="Corbel"/>
                <a:ea typeface="Miriam"/>
              </a:rPr>
              <a:t>= כמות הבקטריות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Miriam"/>
              </a:rPr>
              <a:t>ip</a:t>
            </a:r>
            <a:r>
              <a:rPr b="0" lang="he-IL" sz="1800" spc="-1" strike="noStrike">
                <a:solidFill>
                  <a:srgbClr val="000000"/>
                </a:solidFill>
                <a:latin typeface="Corbel"/>
                <a:ea typeface="Miriam"/>
              </a:rPr>
              <a:t>= הכמות ההתחלתית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Miriam"/>
              </a:rPr>
              <a:t>t</a:t>
            </a:r>
            <a:r>
              <a:rPr b="0" lang="he-IL" sz="1800" spc="-1" strike="noStrike">
                <a:solidFill>
                  <a:srgbClr val="000000"/>
                </a:solidFill>
                <a:latin typeface="Corbel"/>
                <a:ea typeface="Miriam"/>
              </a:rPr>
              <a:t>= הזמן (בדקות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Miriam"/>
              </a:rPr>
              <a:t>T</a:t>
            </a:r>
            <a:r>
              <a:rPr b="0" lang="he-IL" sz="1800" spc="-1" strike="noStrike">
                <a:solidFill>
                  <a:srgbClr val="000000"/>
                </a:solidFill>
                <a:latin typeface="Corbel"/>
                <a:ea typeface="Miriam"/>
              </a:rPr>
              <a:t>= זמן מחזור החלוקה של החיידקי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2700360" y="30240"/>
            <a:ext cx="7772400" cy="1469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4400" y="2492280"/>
            <a:ext cx="2724120" cy="26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4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8" name="TextBox 5"/>
          <p:cNvGrpSpPr/>
          <p:nvPr/>
        </p:nvGrpSpPr>
        <p:grpSpPr>
          <a:xfrm>
            <a:off x="5005440" y="2139840"/>
            <a:ext cx="2236680" cy="474480"/>
            <a:chOff x="5005440" y="2139840"/>
            <a:chExt cx="2236680" cy="474480"/>
          </a:xfrm>
        </p:grpSpPr>
        <p:pic>
          <p:nvPicPr>
            <p:cNvPr id="309" name="TextBox 5" descr=""/>
            <p:cNvPicPr/>
            <p:nvPr/>
          </p:nvPicPr>
          <p:blipFill>
            <a:blip r:embed="rId5"/>
            <a:stretch/>
          </p:blipFill>
          <p:spPr>
            <a:xfrm>
              <a:off x="5005440" y="2139840"/>
              <a:ext cx="2234880" cy="4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005440" y="2141280"/>
              <a:ext cx="223668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ff0000"/>
                  </a:solidFill>
                  <a:latin typeface="Corbel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11" name="TextBox 7"/>
          <p:cNvSpPr/>
          <p:nvPr/>
        </p:nvSpPr>
        <p:spPr>
          <a:xfrm>
            <a:off x="-541440" y="648828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Corbel"/>
                <a:cs typeface="Miriam"/>
              </a:rPr>
              <a:t>עמרי פרץ </a:t>
            </a:r>
            <a:r>
              <a:rPr b="0" lang="he-IL" sz="1800" spc="-1" strike="noStrike">
                <a:solidFill>
                  <a:srgbClr val="000000"/>
                </a:solidFill>
                <a:latin typeface="Corbel"/>
                <a:ea typeface="Miriam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Title 1" descr=""/>
          <p:cNvPicPr/>
          <p:nvPr/>
        </p:nvPicPr>
        <p:blipFill>
          <a:blip r:embed="rId6"/>
          <a:stretch/>
        </p:blipFill>
        <p:spPr>
          <a:xfrm>
            <a:off x="1011240" y="762120"/>
            <a:ext cx="777240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6:30:07Z</dcterms:created>
  <dc:creator>Mr. O</dc:creator>
  <dc:description/>
  <dc:language>en-US</dc:language>
  <cp:lastModifiedBy>Omri Perez</cp:lastModifiedBy>
  <dcterms:modified xsi:type="dcterms:W3CDTF">2012-11-03T16:06:59Z</dcterms:modified>
  <cp:revision>5</cp:revision>
  <dc:subject/>
  <dc:title>קצב גידול אוכלוסיית חיידקים</dc:title>
</cp:coreProperties>
</file>