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56.png" ContentType="image/pn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0.wmf" ContentType="image/x-wmf"/>
  <Override PartName="/ppt/media/image18.wmf" ContentType="image/x-wmf"/>
  <Override PartName="/ppt/media/image57.png" ContentType="image/png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14.wmf" ContentType="image/x-wmf"/>
  <Override PartName="/ppt/media/image58.jpeg" ContentType="image/jpeg"/>
  <Override PartName="/ppt/media/image37.wmf" ContentType="image/x-wmf"/>
  <Override PartName="/ppt/media/image38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1.wmf" ContentType="image/x-wmf"/>
  <Override PartName="/ppt/media/image6.png" ContentType="image/png"/>
  <Override PartName="/ppt/media/image52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53.wmf" ContentType="image/x-wmf"/>
  <Override PartName="/ppt/media/image16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6.wmf" ContentType="image/x-wmf"/>
  <Override PartName="/ppt/media/image35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8.png" ContentType="image/png"/>
  <Override PartName="/ppt/media/image4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8C49-9DD0-4B38-AACB-A09158713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3C69-944A-4ED1-A6D9-5E6E5102A9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2391-1386-4DE1-B8FD-BF468980BC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4B7C-625F-4CB9-9BFE-F46EE1F45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2B8-50F0-41D3-BA97-35A6E172D9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7406-BC0F-4957-B87F-6347500EB3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ED45-7450-4957-9F26-F09547B0F1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871-84DC-46CE-82EF-386FA2F3E9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3D0-0B57-4C66-9D22-98365D712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DA94-FA02-451B-B53D-2A78A1A44A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18FE-E79D-4629-911A-896EF7F925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3F42-ED91-4AE0-8300-691B88F55F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A96A-31AB-447C-8BA3-4503E408EE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D45F-D92D-418C-A520-6032E8E55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8864-3F70-4957-A260-1CDB1764C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0A10-3F86-422C-80F8-556E3199D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A3B2-1EA1-4ABF-B280-3CBBCFFC76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980-9C70-4A79-A3DF-D4990961D2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68F8-106A-4488-894C-E14EC4CB3C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4075-894F-4182-BDE3-13BB9367B3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854C-E963-4CC9-BD17-30C45E7910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A492-82C4-4D38-B68D-5657A70BBF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3985-66B1-45B5-A855-D42493F3F3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7C3D-D4D7-443B-B221-84007DD7E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D4FB-D403-438E-B1C3-00D6F50E5D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2A0-EC24-4256-856C-813B7D6B41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EAA5-C478-4E35-97F4-5DE41FEC71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EB35-B06D-4E41-BAE5-903154E073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8188-650A-4C1A-BC8E-629928B8FC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7499-D4AA-426F-8C84-506075A1C3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70CD-2B99-4A82-A876-F20C4B41DC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45BE-5022-4A2F-BD40-98D846DB8C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670A-3182-493A-9705-E3729B182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EFD8-4FAE-48FA-9E78-2C7E71CBE5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960E-04AF-4C8E-BF92-020F2944AD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519B-59EF-4F4C-B596-B9B3B589DD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4FC0-AB2D-463F-92AA-B737AAC18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f RL.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wa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e in literature.. 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hastic system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to 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1216-2F23-4DDC-8230-AE7E20055F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44DA-ACCB-492E-BF5C-9C9D49E934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992A-F38C-4E76-ABA1-79B82F303B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DCF-D799-4D1E-B850-0873E214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C50-C75F-4BB9-8DF8-FCE9BDC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F75-6374-4A20-81FD-AF7BC4FE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9C5-D59D-4491-B3F9-F4AABD69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9DE-3EC5-4912-B06C-4FFFE7DA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FB8-AA7E-4860-A519-75DC225F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86E-6A8B-4B7B-B9A2-26E89E48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7F9-67AB-4A94-B0FB-289B0B4A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BCB-8F1C-44A5-A9CD-7D5C0D99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653-AD56-40EB-B89A-76DF442B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55F-AADA-4196-B77E-E06B6A0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186-99AA-463A-8F09-80272B9F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4073-F39B-4822-8856-51455E366D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Reinforcement Learning:</a:t>
            </a:r>
            <a:br>
              <a:rPr sz="4400"/>
            </a:b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Learning from Interaction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ter School on Machine Learning and Vision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ri Per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ed from Ravindran and Sutton and Ba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860B-E846-4F06-888A-90F16C631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The Agent-Environment Interface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46264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4"/>
          <p:cNvGraphicFramePr/>
          <p:nvPr/>
        </p:nvGraphicFramePr>
        <p:xfrm>
          <a:off x="1812960" y="4114800"/>
          <a:ext cx="6519960" cy="17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2960" y="4114800"/>
                    <a:ext cx="65199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Group 5"/>
          <p:cNvGrpSpPr/>
          <p:nvPr/>
        </p:nvGrpSpPr>
        <p:grpSpPr>
          <a:xfrm>
            <a:off x="1294200" y="6019920"/>
            <a:ext cx="6741360" cy="639000"/>
            <a:chOff x="1294200" y="6019920"/>
            <a:chExt cx="6741360" cy="639000"/>
          </a:xfrm>
        </p:grpSpPr>
        <p:sp>
          <p:nvSpPr>
            <p:cNvPr id="143" name="Rectangle 6"/>
            <p:cNvSpPr/>
            <p:nvPr/>
          </p:nvSpPr>
          <p:spPr>
            <a:xfrm>
              <a:off x="2916000" y="6448320"/>
              <a:ext cx="1306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>
              <a:off x="4717800" y="6324480"/>
              <a:ext cx="90720" cy="88920"/>
            </a:xfrm>
            <a:prstGeom prst="ellipse">
              <a:avLst/>
            </a:prstGeom>
            <a:solidFill>
              <a:srgbClr val="caf278"/>
            </a:solidFill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440" bIns="1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6211800" y="6324480"/>
              <a:ext cx="90360" cy="88920"/>
            </a:xfrm>
            <a:prstGeom prst="ellipse">
              <a:avLst/>
            </a:prstGeom>
            <a:solidFill>
              <a:srgbClr val="caf278"/>
            </a:solidFill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440" bIns="1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2251080" y="6102360"/>
              <a:ext cx="533160" cy="523800"/>
            </a:xfrm>
            <a:prstGeom prst="ellipse">
              <a:avLst/>
            </a:prstGeom>
            <a:noFill/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440" bIns="1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2795400" y="6364080"/>
              <a:ext cx="938160" cy="0"/>
            </a:xfrm>
            <a:prstGeom prst="line">
              <a:avLst/>
            </a:prstGeom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3213000" y="6324480"/>
              <a:ext cx="90360" cy="88920"/>
            </a:xfrm>
            <a:prstGeom prst="ellipse">
              <a:avLst/>
            </a:prstGeom>
            <a:solidFill>
              <a:srgbClr val="caf278"/>
            </a:solidFill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440" bIns="1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2"/>
            <p:cNvSpPr/>
            <p:nvPr/>
          </p:nvSpPr>
          <p:spPr>
            <a:xfrm>
              <a:off x="3744720" y="6102360"/>
              <a:ext cx="533520" cy="523800"/>
            </a:xfrm>
            <a:prstGeom prst="ellipse">
              <a:avLst/>
            </a:prstGeom>
            <a:noFill/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440" bIns="1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>
              <a:off x="4289400" y="6364080"/>
              <a:ext cx="938160" cy="0"/>
            </a:xfrm>
            <a:prstGeom prst="line">
              <a:avLst/>
            </a:prstGeom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4"/>
            <p:cNvSpPr/>
            <p:nvPr/>
          </p:nvSpPr>
          <p:spPr>
            <a:xfrm>
              <a:off x="5238720" y="6102360"/>
              <a:ext cx="531720" cy="523800"/>
            </a:xfrm>
            <a:prstGeom prst="ellipse">
              <a:avLst/>
            </a:prstGeom>
            <a:noFill/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440" bIns="1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"/>
            <p:cNvSpPr/>
            <p:nvPr/>
          </p:nvSpPr>
          <p:spPr>
            <a:xfrm>
              <a:off x="6732360" y="6102360"/>
              <a:ext cx="532080" cy="523800"/>
            </a:xfrm>
            <a:prstGeom prst="ellipse">
              <a:avLst/>
            </a:prstGeom>
            <a:noFill/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440" bIns="1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5781600" y="6364080"/>
              <a:ext cx="938160" cy="0"/>
            </a:xfrm>
            <a:prstGeom prst="line">
              <a:avLst/>
            </a:prstGeom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 flipH="1">
              <a:off x="1906200" y="6364080"/>
              <a:ext cx="339480" cy="0"/>
            </a:xfrm>
            <a:prstGeom prst="line">
              <a:avLst/>
            </a:prstGeom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1294200" y="6097680"/>
              <a:ext cx="3819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2395800" y="623088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2482560" y="6354720"/>
              <a:ext cx="1306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2833200" y="632628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3281760" y="601992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>
              <a:off x="3318840" y="6143760"/>
              <a:ext cx="496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3781800" y="617364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3818880" y="6296040"/>
              <a:ext cx="4960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4303080" y="6437160"/>
              <a:ext cx="496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4269960" y="631512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4729680" y="601992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4766760" y="6143760"/>
              <a:ext cx="496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+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0"/>
            <p:cNvSpPr/>
            <p:nvPr/>
          </p:nvSpPr>
          <p:spPr>
            <a:xfrm>
              <a:off x="5261400" y="617220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31"/>
            <p:cNvSpPr/>
            <p:nvPr/>
          </p:nvSpPr>
          <p:spPr>
            <a:xfrm>
              <a:off x="5300280" y="6296040"/>
              <a:ext cx="4960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5833440" y="6437160"/>
              <a:ext cx="496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+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33"/>
            <p:cNvSpPr/>
            <p:nvPr/>
          </p:nvSpPr>
          <p:spPr>
            <a:xfrm>
              <a:off x="5800320" y="631512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34"/>
            <p:cNvSpPr/>
            <p:nvPr/>
          </p:nvSpPr>
          <p:spPr>
            <a:xfrm>
              <a:off x="6220080" y="604980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35"/>
            <p:cNvSpPr/>
            <p:nvPr/>
          </p:nvSpPr>
          <p:spPr>
            <a:xfrm>
              <a:off x="6257520" y="6173640"/>
              <a:ext cx="496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+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36"/>
            <p:cNvSpPr/>
            <p:nvPr/>
          </p:nvSpPr>
          <p:spPr>
            <a:xfrm>
              <a:off x="6787080" y="617544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37"/>
            <p:cNvSpPr/>
            <p:nvPr/>
          </p:nvSpPr>
          <p:spPr>
            <a:xfrm>
              <a:off x="6824160" y="6296040"/>
              <a:ext cx="4960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+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38"/>
            <p:cNvSpPr/>
            <p:nvPr/>
          </p:nvSpPr>
          <p:spPr>
            <a:xfrm flipH="1">
              <a:off x="7281720" y="6364080"/>
              <a:ext cx="339840" cy="0"/>
            </a:xfrm>
            <a:prstGeom prst="line">
              <a:avLst/>
            </a:prstGeom>
            <a:ln w="126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7653600" y="6108480"/>
              <a:ext cx="3819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40"/>
            <p:cNvSpPr/>
            <p:nvPr/>
          </p:nvSpPr>
          <p:spPr>
            <a:xfrm>
              <a:off x="7290720" y="6448320"/>
              <a:ext cx="496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+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1"/>
            <p:cNvSpPr/>
            <p:nvPr/>
          </p:nvSpPr>
          <p:spPr>
            <a:xfrm>
              <a:off x="7257600" y="6326280"/>
              <a:ext cx="1688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" rIns="3960" tIns="1800" bIns="1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DFE9-E7C4-4E6E-8E76-57EC05BDB8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1219320" y="2057400"/>
          <a:ext cx="6804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6804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The Agent Learns a Policy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90960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ement learning methods specify how the agent changes its policy as a result of exper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ghly, the agent’s goal is to get as much reward as it can over the long ru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A350-69FE-4B02-9DAE-6AD87625D1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Goals and Rewards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scalar reward signal an adequate notion of a goal?—maybe not, but it is surprisingly flex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al should specif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 want to achieve, no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ant to achieve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al must be outside the agent’s direct control—thus outside the ag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gent must be able to measure succ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icitl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ly during its lifesp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5D94-C1EB-4432-837B-4601DCFCC5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Returns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189" name="Object 3"/>
          <p:cNvGraphicFramePr/>
          <p:nvPr/>
        </p:nvGraphicFramePr>
        <p:xfrm>
          <a:off x="2254320" y="1806480"/>
          <a:ext cx="509904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4320" y="1806480"/>
                    <a:ext cx="50990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"/>
          <p:cNvGraphicFramePr/>
          <p:nvPr/>
        </p:nvGraphicFramePr>
        <p:xfrm>
          <a:off x="914400" y="2971800"/>
          <a:ext cx="774396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971800"/>
                    <a:ext cx="77439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5"/>
          <p:cNvSpPr/>
          <p:nvPr/>
        </p:nvSpPr>
        <p:spPr>
          <a:xfrm>
            <a:off x="857160" y="3906720"/>
            <a:ext cx="70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isodic tas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teraction breaks naturally into episodes, e.g., plays of a game, trips through a ma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2619360" y="4792680"/>
          <a:ext cx="353844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9360" y="4792680"/>
                    <a:ext cx="35384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7"/>
          <p:cNvSpPr/>
          <p:nvPr/>
        </p:nvSpPr>
        <p:spPr>
          <a:xfrm>
            <a:off x="857160" y="5376960"/>
            <a:ext cx="80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final time step at which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inal st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reached, ending an epis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DD4D-5A6C-408C-9D7C-A9850DDCE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The Markov Property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te” at step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eans whatever information is available to the agent at step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its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te can include immediate “sensations”, highly processed sensations, and structures built up over time from sequences of sens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a state should summarize past sensations so as to retain all “essential” information, i.e., it should have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ov Proper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990720" y="4800600"/>
          <a:ext cx="7696080" cy="14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800600"/>
                    <a:ext cx="769608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58DF-F344-428B-B4DF-B7A4FBD97D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Markov Decision Processes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89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a reinforcement learning task has the Markov Property, it is basically a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kov Decision Process (MDP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state and action sets are finite, it is a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nite MD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define a finite MDP, you need to giv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and action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-step “dynamics” defined b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 probabili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ward expect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1523880" y="4800600"/>
          <a:ext cx="6332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800600"/>
                    <a:ext cx="6332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5"/>
          <p:cNvGraphicFramePr/>
          <p:nvPr/>
        </p:nvGraphicFramePr>
        <p:xfrm>
          <a:off x="1523880" y="5943600"/>
          <a:ext cx="6721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943600"/>
                    <a:ext cx="6721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7086600" y="3048120"/>
          <a:ext cx="198108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3048120"/>
                    <a:ext cx="1981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6526-8DF2-4502-8FCA-2A2DB4E26B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77120" y="146988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ycling Rob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An Example Finite MDP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4280" y="2273400"/>
            <a:ext cx="815328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each step, robot has to decide whether it should (1) actively search for a can, (2) wait for someone to bring it a can, or (3) go to home base and re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ing is better but runs down the battery; if runs out of power while searching, has to be rescued (which is ba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made on basis of current energy level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ard = number of cans col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ED37-9339-429C-9A7B-EEFD91CF26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Recycling Robot MDP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1733400" y="2959200"/>
            <a:ext cx="5894640" cy="318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Object 4"/>
          <p:cNvGraphicFramePr/>
          <p:nvPr/>
        </p:nvGraphicFramePr>
        <p:xfrm>
          <a:off x="685800" y="1600200"/>
          <a:ext cx="3591000" cy="103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00200"/>
                    <a:ext cx="359100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5"/>
          <p:cNvGraphicFramePr/>
          <p:nvPr/>
        </p:nvGraphicFramePr>
        <p:xfrm>
          <a:off x="4495680" y="1676520"/>
          <a:ext cx="411984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1676520"/>
                    <a:ext cx="4119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3829-8868-4CF5-A0AA-1BE4B8F930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of a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expected return starting from that state; depends on the agent’s polic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of a state-action pai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expected return starting from that state, taking that action, and thereafter following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Value Functions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1733400" y="2556000"/>
          <a:ext cx="5351760" cy="12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2556000"/>
                    <a:ext cx="535176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6"/>
          <p:cNvGrpSpPr/>
          <p:nvPr/>
        </p:nvGrpSpPr>
        <p:grpSpPr>
          <a:xfrm>
            <a:off x="1257480" y="5105520"/>
            <a:ext cx="7467480" cy="1409760"/>
            <a:chOff x="1257480" y="5105520"/>
            <a:chExt cx="7467480" cy="1409760"/>
          </a:xfrm>
        </p:grpSpPr>
        <p:sp>
          <p:nvSpPr>
            <p:cNvPr id="230" name="Rectangle 7"/>
            <p:cNvSpPr/>
            <p:nvPr/>
          </p:nvSpPr>
          <p:spPr>
            <a:xfrm>
              <a:off x="1257480" y="5105520"/>
              <a:ext cx="7467480" cy="14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Object 8"/>
                <p:cNvSpPr txBox="1"/>
                <p:nvPr/>
              </p:nvSpPr>
              <p:spPr>
                <a:xfrm>
                  <a:off x="1763640" y="5211720"/>
                  <a:ext cx="6651720" cy="12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ction-value function for policy </m:t>
                          </m:r>
                          <m:r>
                            <m:t xml:space="preserve">π</m:t>
                          </m:r>
                          <m:r>
                            <m:t xml:space="preserve">:</m:t>
                          </m:r>
                        </m:e>
                        <m:e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s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a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a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850E-A218-4CD1-A6EC-790D81D49F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120760" y="3784680"/>
            <a:ext cx="4114800" cy="12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f278"/>
                </a:solidFill>
                <a:latin typeface="Arial"/>
              </a:rPr>
              <a:t>Bellman Equation for a Policy </a:t>
            </a:r>
            <a:r>
              <a:rPr b="0" i="1" lang="en-US" sz="4000" spc="-1" strike="noStrike">
                <a:solidFill>
                  <a:srgbClr val="caf278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235" name="Object 4"/>
          <p:cNvGraphicFramePr/>
          <p:nvPr/>
        </p:nvGraphicFramePr>
        <p:xfrm>
          <a:off x="2556000" y="2092320"/>
          <a:ext cx="4016160" cy="14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092320"/>
                    <a:ext cx="401616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5"/>
          <p:cNvSpPr/>
          <p:nvPr/>
        </p:nvSpPr>
        <p:spPr>
          <a:xfrm>
            <a:off x="585000" y="1447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asic ide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963000" y="38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2355840" y="3900600"/>
          <a:ext cx="372420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5840" y="3900600"/>
                    <a:ext cx="3724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8"/>
          <p:cNvSpPr/>
          <p:nvPr/>
        </p:nvSpPr>
        <p:spPr>
          <a:xfrm>
            <a:off x="-93240" y="504684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, without the expectation operato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9"/>
          <p:cNvGraphicFramePr/>
          <p:nvPr/>
        </p:nvGraphicFramePr>
        <p:xfrm>
          <a:off x="2390760" y="5651640"/>
          <a:ext cx="45277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0760" y="5651640"/>
                    <a:ext cx="4527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D0F-DEEA-4B1C-BCBE-534C87CFBC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Learning to Control 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far looked at two models of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vised: Classification, Regression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upervised: Clustering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you learn to cy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ither of the abo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and erro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ing down hurt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659E-D1B2-4AE6-8D9D-0C1E79F572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25120" y="1219320"/>
            <a:ext cx="8318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finite MDPs, policies can b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ally orde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lways at least one (and possibly many)  policies that is better than or equal to all the others. This is a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timal poli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e denote them all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al policies share the sa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timal state-value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Object 2"/>
          <p:cNvGraphicFramePr/>
          <p:nvPr/>
        </p:nvGraphicFramePr>
        <p:xfrm>
          <a:off x="1752480" y="2057400"/>
          <a:ext cx="64058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6405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Optimal Value Functions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2286000" y="5181480"/>
          <a:ext cx="413532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181480"/>
                    <a:ext cx="41353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D7B6-3C94-4B80-8C2B-33F54975BC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Bellman Optimality Equation 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2109960" y="3100320"/>
          <a:ext cx="5070240" cy="13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960" y="3100320"/>
                    <a:ext cx="507024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-590400" y="2133720"/>
            <a:ext cx="104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alue of a state under an optimal policy must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pected return for the best action from that st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762120" y="4648320"/>
            <a:ext cx="805176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-1303200" y="4773600"/>
            <a:ext cx="122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</a:rPr>
              <a:t>is the unique solution of this system of nonlin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</a:rPr>
              <a:t>equ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1035000" y="4718160"/>
                <a:ext cx="419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8AC5-CE2A-4C90-BEE7-049AB69F94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Bellman Optimality Equation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262" name="Object 3"/>
          <p:cNvGraphicFramePr/>
          <p:nvPr/>
        </p:nvGraphicFramePr>
        <p:xfrm>
          <a:off x="1546200" y="3262320"/>
          <a:ext cx="612288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3262320"/>
                    <a:ext cx="612288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4"/>
          <p:cNvSpPr/>
          <p:nvPr/>
        </p:nvSpPr>
        <p:spPr>
          <a:xfrm>
            <a:off x="774720" y="5130720"/>
            <a:ext cx="803916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-1297080" y="5257800"/>
            <a:ext cx="12250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</a:rPr>
              <a:t>is the unique solution of this system of nonlinear eq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977760" y="5207040"/>
          <a:ext cx="4143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7760" y="5207040"/>
                    <a:ext cx="4143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662400" y="2022480"/>
            <a:ext cx="697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ly, the optimal value of a state-action pair is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cted return for taking that action and thereaf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the optimal poli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01EF-FD52-404D-8923-BFD8E36F3B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Dynamic Programming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P is the solution method of choice for MD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quire complete knowledge of system dynamics (P and 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pensive and often not practic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rse of dimension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uaranteed to converge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L methods: online approximate dynamic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knowledge of P and 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ple trajectories through state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e theoretical convergence analysis avail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5030-64EB-4CA8-86F1-E35F68D5ED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Policy Evaluation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644920" y="2584440"/>
          <a:ext cx="5349600" cy="12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4920" y="2584440"/>
                    <a:ext cx="534960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4"/>
          <p:cNvGraphicFramePr/>
          <p:nvPr/>
        </p:nvGraphicFramePr>
        <p:xfrm>
          <a:off x="2619360" y="3914640"/>
          <a:ext cx="5313240" cy="19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9360" y="3914640"/>
                    <a:ext cx="531324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9" name="Group 5"/>
          <p:cNvGrpSpPr/>
          <p:nvPr/>
        </p:nvGrpSpPr>
        <p:grpSpPr>
          <a:xfrm>
            <a:off x="-333720" y="1600200"/>
            <a:ext cx="9873360" cy="825480"/>
            <a:chOff x="-333720" y="1600200"/>
            <a:chExt cx="9873360" cy="825480"/>
          </a:xfrm>
        </p:grpSpPr>
        <p:sp>
          <p:nvSpPr>
            <p:cNvPr id="280" name="Rectangle 6"/>
            <p:cNvSpPr/>
            <p:nvPr/>
          </p:nvSpPr>
          <p:spPr>
            <a:xfrm>
              <a:off x="-333720" y="1600200"/>
              <a:ext cx="9873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e3d2d"/>
                  </a:solidFill>
                  <a:latin typeface="Times New Roman"/>
                </a:rPr>
                <a:t>Policy Evaluation</a:t>
              </a:r>
              <a:r>
                <a:rPr b="0" lang="en-US" sz="2400" spc="-1" strike="noStrike">
                  <a:solidFill>
                    <a:srgbClr val="3e3d2d"/>
                  </a:solidFill>
                  <a:latin typeface="Times New Roman"/>
                </a:rPr>
                <a:t>: for a given policy </a:t>
              </a:r>
              <a:r>
                <a:rPr b="0" i="1" lang="en-US" sz="2400" spc="-1" strike="noStrike">
                  <a:solidFill>
                    <a:srgbClr val="3e3d2d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3e3d2d"/>
                  </a:solidFill>
                  <a:latin typeface="Times New Roman"/>
                </a:rPr>
                <a:t>, compute th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e3d2d"/>
                  </a:solidFill>
                  <a:latin typeface="Times New Roman"/>
                </a:rPr>
                <a:t>                                </a:t>
              </a:r>
              <a:r>
                <a:rPr b="0" lang="en-US" sz="2400" spc="-1" strike="noStrike">
                  <a:solidFill>
                    <a:srgbClr val="3e3d2d"/>
                  </a:solidFill>
                  <a:latin typeface="Times New Roman"/>
                </a:rPr>
                <a:t>state-value function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7"/>
                <p:cNvSpPr txBox="1"/>
                <p:nvPr/>
              </p:nvSpPr>
              <p:spPr>
                <a:xfrm>
                  <a:off x="6241680" y="1968480"/>
                  <a:ext cx="4204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Rectangle 8"/>
          <p:cNvSpPr/>
          <p:nvPr/>
        </p:nvSpPr>
        <p:spPr>
          <a:xfrm>
            <a:off x="961920" y="249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a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86A3-FCA0-4551-BA0A-BC3570A10B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673200" y="5207040"/>
            <a:ext cx="8128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Policy Improvement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-940680" y="1346040"/>
            <a:ext cx="11138400" cy="464760"/>
            <a:chOff x="-940680" y="1346040"/>
            <a:chExt cx="11138400" cy="464760"/>
          </a:xfrm>
        </p:grpSpPr>
        <p:sp>
          <p:nvSpPr>
            <p:cNvPr id="287" name="Rectangle 5"/>
            <p:cNvSpPr/>
            <p:nvPr/>
          </p:nvSpPr>
          <p:spPr>
            <a:xfrm>
              <a:off x="-940680" y="1351080"/>
              <a:ext cx="111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e3d2d"/>
                  </a:solidFill>
                  <a:latin typeface="Times New Roman"/>
                </a:rPr>
                <a:t>Suppose we have computed       for a deterministic policy </a:t>
              </a:r>
              <a:r>
                <a:rPr b="0" i="1" lang="en-US" sz="2400" spc="-1" strike="noStrike">
                  <a:solidFill>
                    <a:srgbClr val="3e3d2d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3e3d2d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Object 6"/>
                <p:cNvSpPr txBox="1"/>
                <p:nvPr/>
              </p:nvSpPr>
              <p:spPr>
                <a:xfrm>
                  <a:off x="4457880" y="1346040"/>
                  <a:ext cx="4489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Group 7"/>
          <p:cNvGrpSpPr/>
          <p:nvPr/>
        </p:nvGrpSpPr>
        <p:grpSpPr>
          <a:xfrm>
            <a:off x="-1217160" y="2075040"/>
            <a:ext cx="9873360" cy="825480"/>
            <a:chOff x="-1217160" y="2075040"/>
            <a:chExt cx="9873360" cy="825480"/>
          </a:xfrm>
        </p:grpSpPr>
        <p:sp>
          <p:nvSpPr>
            <p:cNvPr id="290" name="Rectangle 8"/>
            <p:cNvSpPr/>
            <p:nvPr/>
          </p:nvSpPr>
          <p:spPr>
            <a:xfrm>
              <a:off x="-1217160" y="2075040"/>
              <a:ext cx="9873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e3d2d"/>
                  </a:solidFill>
                  <a:latin typeface="Times New Roman"/>
                </a:rPr>
                <a:t>For a given state </a:t>
              </a:r>
              <a:r>
                <a:rPr b="0" i="1" lang="en-US" sz="2400" spc="-1" strike="noStrike">
                  <a:solidFill>
                    <a:srgbClr val="3e3d2d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3e3d2d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e3d2d"/>
                  </a:solidFill>
                  <a:latin typeface="Times New Roman"/>
                </a:rPr>
                <a:t>would it be better to do an action                 ?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9"/>
                <p:cNvSpPr txBox="1"/>
                <p:nvPr/>
              </p:nvSpPr>
              <p:spPr>
                <a:xfrm>
                  <a:off x="5067360" y="2463840"/>
                  <a:ext cx="120672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¹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92" name="Object 10"/>
          <p:cNvGraphicFramePr/>
          <p:nvPr/>
        </p:nvGraphicFramePr>
        <p:xfrm>
          <a:off x="1996920" y="3790800"/>
          <a:ext cx="5581800" cy="13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3790800"/>
                    <a:ext cx="558180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870120" y="3200400"/>
          <a:ext cx="459576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0120" y="3200400"/>
                    <a:ext cx="45957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914400" y="5334120"/>
          <a:ext cx="7580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5334120"/>
                    <a:ext cx="7580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C990-E1D5-4B77-B9F8-0AC936A27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Policy Improvement Cont.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290680" y="2762280"/>
          <a:ext cx="473724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762280"/>
                    <a:ext cx="473724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1244520" y="1587600"/>
          <a:ext cx="6416640" cy="90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4520" y="1587600"/>
                    <a:ext cx="641664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1238400" y="4140360"/>
          <a:ext cx="1944360" cy="37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8400" y="4140360"/>
                    <a:ext cx="19443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C6F5-3004-45F7-AC10-0CB33B25CC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Policy Improvement Cont.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308" name="Object 3"/>
          <p:cNvGraphicFramePr/>
          <p:nvPr/>
        </p:nvGraphicFramePr>
        <p:xfrm>
          <a:off x="1333440" y="1625760"/>
          <a:ext cx="651204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1625760"/>
                    <a:ext cx="651204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4"/>
          <p:cNvGraphicFramePr/>
          <p:nvPr/>
        </p:nvGraphicFramePr>
        <p:xfrm>
          <a:off x="1212840" y="3263760"/>
          <a:ext cx="618012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2840" y="3263760"/>
                    <a:ext cx="6180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939F-8A92-4DB4-9AD8-1FAE6547A8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Policy Iteration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1138320" y="1936800"/>
          <a:ext cx="69832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1936800"/>
                    <a:ext cx="6983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Rectangle 4"/>
          <p:cNvSpPr/>
          <p:nvPr/>
        </p:nvSpPr>
        <p:spPr>
          <a:xfrm>
            <a:off x="845280" y="3116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3764520" y="311616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dific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1917720" y="2413080"/>
            <a:ext cx="747720" cy="660240"/>
          </a:xfrm>
          <a:custGeom>
            <a:avLst/>
            <a:gdLst>
              <a:gd name="textAreaLeft" fmla="*/ 0 w 747720"/>
              <a:gd name="textAreaRight" fmla="*/ 748080 w 74772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471" h="416">
                <a:moveTo>
                  <a:pt x="432" y="416"/>
                </a:moveTo>
                <a:cubicBezTo>
                  <a:pt x="451" y="324"/>
                  <a:pt x="471" y="233"/>
                  <a:pt x="424" y="184"/>
                </a:cubicBezTo>
                <a:cubicBezTo>
                  <a:pt x="376" y="134"/>
                  <a:pt x="214" y="150"/>
                  <a:pt x="144" y="120"/>
                </a:cubicBezTo>
                <a:cubicBezTo>
                  <a:pt x="73" y="89"/>
                  <a:pt x="36" y="4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7"/>
          <p:cNvSpPr/>
          <p:nvPr/>
        </p:nvSpPr>
        <p:spPr>
          <a:xfrm>
            <a:off x="2933640" y="2451240"/>
            <a:ext cx="1803600" cy="62208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1136" h="392">
                <a:moveTo>
                  <a:pt x="1136" y="392"/>
                </a:moveTo>
                <a:cubicBezTo>
                  <a:pt x="1083" y="318"/>
                  <a:pt x="1031" y="245"/>
                  <a:pt x="872" y="208"/>
                </a:cubicBezTo>
                <a:cubicBezTo>
                  <a:pt x="712" y="170"/>
                  <a:pt x="321" y="202"/>
                  <a:pt x="176" y="168"/>
                </a:cubicBezTo>
                <a:cubicBezTo>
                  <a:pt x="30" y="133"/>
                  <a:pt x="15" y="66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70CD-0C46-4473-A139-DC4BB5A27D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Value Iteration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-254520" y="185904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all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llman optimality equ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1911240" y="4635360"/>
          <a:ext cx="449892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4635360"/>
                    <a:ext cx="44989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Rectangle 6"/>
          <p:cNvSpPr/>
          <p:nvPr/>
        </p:nvSpPr>
        <p:spPr>
          <a:xfrm>
            <a:off x="-678600" y="4038480"/>
            <a:ext cx="95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convert it to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ll value iteration back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Object 7"/>
          <p:cNvGraphicFramePr/>
          <p:nvPr/>
        </p:nvGraphicFramePr>
        <p:xfrm>
          <a:off x="2057400" y="2514600"/>
          <a:ext cx="5070600" cy="13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514600"/>
                    <a:ext cx="50706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8"/>
          <p:cNvSpPr/>
          <p:nvPr/>
        </p:nvSpPr>
        <p:spPr>
          <a:xfrm>
            <a:off x="9907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erate until “converg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E66A-C7BA-47EC-9FEA-BE4EB6BFF7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2514600" y="1143000"/>
            <a:ext cx="4343400" cy="5016600"/>
            <a:chOff x="2514600" y="1143000"/>
            <a:chExt cx="4343400" cy="5016600"/>
          </a:xfrm>
        </p:grpSpPr>
        <p:pic>
          <p:nvPicPr>
            <p:cNvPr id="56" name="Picture 3" descr="Looking for House Maze"/>
            <p:cNvPicPr/>
            <p:nvPr/>
          </p:nvPicPr>
          <p:blipFill>
            <a:blip r:embed="rId1"/>
            <a:srcRect l="0" t="16299" r="0" b="19559"/>
            <a:stretch/>
          </p:blipFill>
          <p:spPr>
            <a:xfrm>
              <a:off x="2514600" y="1828800"/>
              <a:ext cx="4343400" cy="359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MCj04079240000[1]"/>
            <p:cNvPicPr/>
            <p:nvPr/>
          </p:nvPicPr>
          <p:blipFill>
            <a:blip r:embed="rId2"/>
            <a:stretch/>
          </p:blipFill>
          <p:spPr>
            <a:xfrm>
              <a:off x="2666880" y="5410080"/>
              <a:ext cx="100332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" descr="MCj03438330000[1]"/>
            <p:cNvPicPr/>
            <p:nvPr/>
          </p:nvPicPr>
          <p:blipFill>
            <a:blip r:embed="rId3"/>
            <a:stretch/>
          </p:blipFill>
          <p:spPr>
            <a:xfrm>
              <a:off x="2743200" y="1143000"/>
              <a:ext cx="811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4400" spc="-1" strike="noStrike">
              <a:solidFill>
                <a:srgbClr val="caf278"/>
              </a:solidFill>
              <a:latin typeface="Arial"/>
            </a:endParaRPr>
          </a:p>
        </p:txBody>
      </p:sp>
      <p:pic>
        <p:nvPicPr>
          <p:cNvPr id="60" name="Picture 8" descr="MCj03518550000[1]"/>
          <p:cNvPicPr/>
          <p:nvPr/>
        </p:nvPicPr>
        <p:blipFill>
          <a:blip r:embed="rId4"/>
          <a:stretch/>
        </p:blipFill>
        <p:spPr>
          <a:xfrm>
            <a:off x="7628040" y="914400"/>
            <a:ext cx="1150920" cy="14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rat-with-phone"/>
          <p:cNvPicPr/>
          <p:nvPr/>
        </p:nvPicPr>
        <p:blipFill>
          <a:blip r:embed="rId5"/>
          <a:stretch/>
        </p:blipFill>
        <p:spPr>
          <a:xfrm>
            <a:off x="4191120" y="3200400"/>
            <a:ext cx="1199880" cy="140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img-sathyabama-university"/>
          <p:cNvPicPr/>
          <p:nvPr/>
        </p:nvPicPr>
        <p:blipFill>
          <a:blip r:embed="rId6"/>
          <a:stretch/>
        </p:blipFill>
        <p:spPr>
          <a:xfrm>
            <a:off x="4114800" y="2514600"/>
            <a:ext cx="1558800" cy="23716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2"/>
          <p:cNvGrpSpPr/>
          <p:nvPr/>
        </p:nvGrpSpPr>
        <p:grpSpPr>
          <a:xfrm>
            <a:off x="685800" y="2590920"/>
            <a:ext cx="3886200" cy="3152520"/>
            <a:chOff x="685800" y="2590920"/>
            <a:chExt cx="3886200" cy="3152520"/>
          </a:xfrm>
        </p:grpSpPr>
        <p:pic>
          <p:nvPicPr>
            <p:cNvPr id="64" name="Picture 13" descr="rat-with-phone"/>
            <p:cNvPicPr/>
            <p:nvPr/>
          </p:nvPicPr>
          <p:blipFill>
            <a:blip r:embed="rId7"/>
            <a:stretch/>
          </p:blipFill>
          <p:spPr>
            <a:xfrm>
              <a:off x="990720" y="4343400"/>
              <a:ext cx="119988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AutoShape 14"/>
            <p:cNvSpPr/>
            <p:nvPr/>
          </p:nvSpPr>
          <p:spPr>
            <a:xfrm>
              <a:off x="685800" y="2590920"/>
              <a:ext cx="3886200" cy="914400"/>
            </a:xfrm>
            <a:prstGeom prst="wedgeEllipseCallout">
              <a:avLst>
                <a:gd name="adj1" fmla="val -16175"/>
                <a:gd name="adj2" fmla="val 151388"/>
              </a:avLst>
            </a:prstGeom>
            <a:solidFill>
              <a:srgbClr val="3e3d2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a94a"/>
                  </a:solidFill>
                  <a:latin typeface="Verdana"/>
                </a:rPr>
                <a:t>Can You hear me now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3962520" y="3657600"/>
            <a:ext cx="3886200" cy="3200400"/>
            <a:chOff x="3962520" y="3657600"/>
            <a:chExt cx="3886200" cy="3200400"/>
          </a:xfrm>
        </p:grpSpPr>
        <p:pic>
          <p:nvPicPr>
            <p:cNvPr id="67" name="Picture 16" descr="rat-with-phone"/>
            <p:cNvPicPr/>
            <p:nvPr/>
          </p:nvPicPr>
          <p:blipFill>
            <a:blip r:embed="rId8"/>
            <a:stretch/>
          </p:blipFill>
          <p:spPr>
            <a:xfrm>
              <a:off x="4267080" y="5457960"/>
              <a:ext cx="120024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17"/>
            <p:cNvSpPr/>
            <p:nvPr/>
          </p:nvSpPr>
          <p:spPr>
            <a:xfrm>
              <a:off x="3962520" y="3657600"/>
              <a:ext cx="3886200" cy="914400"/>
            </a:xfrm>
            <a:prstGeom prst="wedgeEllipseCallout">
              <a:avLst>
                <a:gd name="adj1" fmla="val -16175"/>
                <a:gd name="adj2" fmla="val 151388"/>
              </a:avLst>
            </a:prstGeom>
            <a:solidFill>
              <a:srgbClr val="3e3d2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a94a"/>
                  </a:solidFill>
                  <a:latin typeface="Verdana"/>
                </a:rPr>
                <a:t>Can You hear me now?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AutoShape 18"/>
          <p:cNvSpPr/>
          <p:nvPr/>
        </p:nvSpPr>
        <p:spPr>
          <a:xfrm>
            <a:off x="3733920" y="1752480"/>
            <a:ext cx="3886200" cy="914400"/>
          </a:xfrm>
          <a:prstGeom prst="wedgeEllipseCallout">
            <a:avLst>
              <a:gd name="adj1" fmla="val -16175"/>
              <a:gd name="adj2" fmla="val 151388"/>
            </a:avLst>
          </a:prstGeom>
          <a:solidFill>
            <a:srgbClr val="3e3d2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9"/>
          <p:cNvGrpSpPr/>
          <p:nvPr/>
        </p:nvGrpSpPr>
        <p:grpSpPr>
          <a:xfrm>
            <a:off x="5257800" y="2057400"/>
            <a:ext cx="3886200" cy="2543040"/>
            <a:chOff x="5257800" y="2057400"/>
            <a:chExt cx="3886200" cy="2543040"/>
          </a:xfrm>
        </p:grpSpPr>
        <p:pic>
          <p:nvPicPr>
            <p:cNvPr id="71" name="Picture 20" descr="rat-with-phone"/>
            <p:cNvPicPr/>
            <p:nvPr/>
          </p:nvPicPr>
          <p:blipFill>
            <a:blip r:embed="rId9"/>
            <a:stretch/>
          </p:blipFill>
          <p:spPr>
            <a:xfrm>
              <a:off x="7543800" y="3200400"/>
              <a:ext cx="120024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AutoShape 21"/>
            <p:cNvSpPr/>
            <p:nvPr/>
          </p:nvSpPr>
          <p:spPr>
            <a:xfrm>
              <a:off x="5257800" y="2057400"/>
              <a:ext cx="3886200" cy="914400"/>
            </a:xfrm>
            <a:prstGeom prst="wedgeEllipseCallout">
              <a:avLst>
                <a:gd name="adj1" fmla="val 27532"/>
                <a:gd name="adj2" fmla="val 92708"/>
              </a:avLst>
            </a:prstGeom>
            <a:solidFill>
              <a:srgbClr val="3e3d2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Can You hear me now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6F56-DF9B-48F2-876B-5DA1AEA81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Generalized Policy Iteration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1409760" y="2716200"/>
            <a:ext cx="2522520" cy="3570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>
            <a:off x="5118120" y="4368960"/>
            <a:ext cx="3505320" cy="19810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-979560" y="1287360"/>
            <a:ext cx="113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ralized Policy It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GPI)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interaction of policy evaluation and policy improve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pendent of their granula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4372200" y="328140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ometric metaphor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gence of GPI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7844-EA8C-4B83-987D-B363EB9547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91"/>
          <p:cNvSpPr/>
          <p:nvPr/>
        </p:nvSpPr>
        <p:spPr>
          <a:xfrm>
            <a:off x="685800" y="1981080"/>
            <a:ext cx="80773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Dynamic Programming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5281560" y="173988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Object 4"/>
          <p:cNvGraphicFramePr/>
          <p:nvPr/>
        </p:nvGraphicFramePr>
        <p:xfrm>
          <a:off x="3622680" y="1393920"/>
          <a:ext cx="244620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2680" y="1393920"/>
                    <a:ext cx="24462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Freeform 5"/>
          <p:cNvSpPr/>
          <p:nvPr/>
        </p:nvSpPr>
        <p:spPr>
          <a:xfrm>
            <a:off x="1711440" y="2225520"/>
            <a:ext cx="5613120" cy="1594080"/>
          </a:xfrm>
          <a:custGeom>
            <a:avLst/>
            <a:gdLst>
              <a:gd name="textAreaLeft" fmla="*/ 0 w 5613120"/>
              <a:gd name="textAreaRight" fmla="*/ 5613120 w 5613120"/>
              <a:gd name="textAreaTop" fmla="*/ 0 h 1594080"/>
              <a:gd name="textAreaBottom" fmla="*/ 1594440 h 1594080"/>
            </a:gdLst>
            <a:ahLst/>
            <a:rect l="textAreaLeft" t="textAreaTop" r="textAreaRight" b="textAreaBottom"/>
            <a:pathLst>
              <a:path w="3536" h="1004">
                <a:moveTo>
                  <a:pt x="1763" y="0"/>
                </a:moveTo>
                <a:lnTo>
                  <a:pt x="1889" y="21"/>
                </a:lnTo>
                <a:lnTo>
                  <a:pt x="1948" y="74"/>
                </a:lnTo>
                <a:lnTo>
                  <a:pt x="2025" y="74"/>
                </a:lnTo>
                <a:lnTo>
                  <a:pt x="2064" y="116"/>
                </a:lnTo>
                <a:lnTo>
                  <a:pt x="2248" y="159"/>
                </a:lnTo>
                <a:lnTo>
                  <a:pt x="2480" y="243"/>
                </a:lnTo>
                <a:lnTo>
                  <a:pt x="2703" y="296"/>
                </a:lnTo>
                <a:lnTo>
                  <a:pt x="2887" y="391"/>
                </a:lnTo>
                <a:lnTo>
                  <a:pt x="3091" y="423"/>
                </a:lnTo>
                <a:lnTo>
                  <a:pt x="3178" y="507"/>
                </a:lnTo>
                <a:lnTo>
                  <a:pt x="3420" y="655"/>
                </a:lnTo>
                <a:lnTo>
                  <a:pt x="3536" y="792"/>
                </a:lnTo>
                <a:lnTo>
                  <a:pt x="3488" y="951"/>
                </a:lnTo>
                <a:lnTo>
                  <a:pt x="3100" y="982"/>
                </a:lnTo>
                <a:lnTo>
                  <a:pt x="2374" y="993"/>
                </a:lnTo>
                <a:lnTo>
                  <a:pt x="1841" y="982"/>
                </a:lnTo>
                <a:lnTo>
                  <a:pt x="1231" y="993"/>
                </a:lnTo>
                <a:lnTo>
                  <a:pt x="581" y="1004"/>
                </a:lnTo>
                <a:lnTo>
                  <a:pt x="97" y="993"/>
                </a:lnTo>
                <a:lnTo>
                  <a:pt x="0" y="909"/>
                </a:lnTo>
                <a:lnTo>
                  <a:pt x="29" y="771"/>
                </a:lnTo>
                <a:lnTo>
                  <a:pt x="242" y="666"/>
                </a:lnTo>
                <a:lnTo>
                  <a:pt x="388" y="571"/>
                </a:lnTo>
                <a:lnTo>
                  <a:pt x="533" y="507"/>
                </a:lnTo>
                <a:lnTo>
                  <a:pt x="766" y="370"/>
                </a:lnTo>
                <a:lnTo>
                  <a:pt x="1076" y="264"/>
                </a:lnTo>
                <a:lnTo>
                  <a:pt x="1424" y="85"/>
                </a:lnTo>
                <a:lnTo>
                  <a:pt x="1725" y="21"/>
                </a:lnTo>
                <a:lnTo>
                  <a:pt x="1773" y="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6"/>
          <p:cNvSpPr/>
          <p:nvPr/>
        </p:nvSpPr>
        <p:spPr>
          <a:xfrm>
            <a:off x="1727280" y="2225520"/>
            <a:ext cx="5567400" cy="1594080"/>
          </a:xfrm>
          <a:custGeom>
            <a:avLst/>
            <a:gdLst>
              <a:gd name="textAreaLeft" fmla="*/ 0 w 5567400"/>
              <a:gd name="textAreaRight" fmla="*/ 5567760 w 5567400"/>
              <a:gd name="textAreaTop" fmla="*/ 0 h 1594080"/>
              <a:gd name="textAreaBottom" fmla="*/ 1594440 h 1594080"/>
            </a:gdLst>
            <a:ahLst/>
            <a:rect l="textAreaLeft" t="textAreaTop" r="textAreaRight" b="textAreaBottom"/>
            <a:pathLst>
              <a:path w="3507" h="1004">
                <a:moveTo>
                  <a:pt x="1753" y="0"/>
                </a:moveTo>
                <a:lnTo>
                  <a:pt x="1763" y="0"/>
                </a:lnTo>
                <a:lnTo>
                  <a:pt x="1802" y="11"/>
                </a:lnTo>
                <a:lnTo>
                  <a:pt x="1821" y="11"/>
                </a:lnTo>
                <a:lnTo>
                  <a:pt x="1850" y="21"/>
                </a:lnTo>
                <a:lnTo>
                  <a:pt x="1860" y="21"/>
                </a:lnTo>
                <a:lnTo>
                  <a:pt x="1889" y="32"/>
                </a:lnTo>
                <a:lnTo>
                  <a:pt x="1908" y="42"/>
                </a:lnTo>
                <a:lnTo>
                  <a:pt x="1918" y="53"/>
                </a:lnTo>
                <a:lnTo>
                  <a:pt x="1938" y="64"/>
                </a:lnTo>
                <a:lnTo>
                  <a:pt x="1957" y="74"/>
                </a:lnTo>
                <a:lnTo>
                  <a:pt x="1967" y="74"/>
                </a:lnTo>
                <a:lnTo>
                  <a:pt x="1976" y="74"/>
                </a:lnTo>
                <a:lnTo>
                  <a:pt x="1996" y="74"/>
                </a:lnTo>
                <a:lnTo>
                  <a:pt x="2025" y="85"/>
                </a:lnTo>
                <a:lnTo>
                  <a:pt x="2034" y="95"/>
                </a:lnTo>
                <a:lnTo>
                  <a:pt x="2044" y="106"/>
                </a:lnTo>
                <a:lnTo>
                  <a:pt x="2063" y="116"/>
                </a:lnTo>
                <a:lnTo>
                  <a:pt x="2093" y="127"/>
                </a:lnTo>
                <a:lnTo>
                  <a:pt x="2122" y="137"/>
                </a:lnTo>
                <a:lnTo>
                  <a:pt x="2141" y="137"/>
                </a:lnTo>
                <a:lnTo>
                  <a:pt x="2189" y="148"/>
                </a:lnTo>
                <a:lnTo>
                  <a:pt x="2296" y="180"/>
                </a:lnTo>
                <a:lnTo>
                  <a:pt x="2354" y="201"/>
                </a:lnTo>
                <a:lnTo>
                  <a:pt x="2412" y="222"/>
                </a:lnTo>
                <a:lnTo>
                  <a:pt x="2529" y="254"/>
                </a:lnTo>
                <a:lnTo>
                  <a:pt x="2577" y="264"/>
                </a:lnTo>
                <a:lnTo>
                  <a:pt x="2606" y="275"/>
                </a:lnTo>
                <a:lnTo>
                  <a:pt x="2654" y="285"/>
                </a:lnTo>
                <a:lnTo>
                  <a:pt x="2703" y="306"/>
                </a:lnTo>
                <a:lnTo>
                  <a:pt x="2761" y="328"/>
                </a:lnTo>
                <a:lnTo>
                  <a:pt x="2780" y="338"/>
                </a:lnTo>
                <a:lnTo>
                  <a:pt x="2800" y="349"/>
                </a:lnTo>
                <a:lnTo>
                  <a:pt x="2848" y="370"/>
                </a:lnTo>
                <a:lnTo>
                  <a:pt x="2906" y="391"/>
                </a:lnTo>
                <a:lnTo>
                  <a:pt x="2955" y="402"/>
                </a:lnTo>
                <a:lnTo>
                  <a:pt x="2974" y="402"/>
                </a:lnTo>
                <a:lnTo>
                  <a:pt x="3003" y="412"/>
                </a:lnTo>
                <a:lnTo>
                  <a:pt x="3052" y="423"/>
                </a:lnTo>
                <a:lnTo>
                  <a:pt x="3081" y="433"/>
                </a:lnTo>
                <a:lnTo>
                  <a:pt x="3110" y="454"/>
                </a:lnTo>
                <a:lnTo>
                  <a:pt x="3120" y="465"/>
                </a:lnTo>
                <a:lnTo>
                  <a:pt x="3129" y="475"/>
                </a:lnTo>
                <a:lnTo>
                  <a:pt x="3158" y="497"/>
                </a:lnTo>
                <a:lnTo>
                  <a:pt x="3197" y="528"/>
                </a:lnTo>
                <a:lnTo>
                  <a:pt x="3255" y="560"/>
                </a:lnTo>
                <a:lnTo>
                  <a:pt x="3284" y="581"/>
                </a:lnTo>
                <a:lnTo>
                  <a:pt x="3323" y="602"/>
                </a:lnTo>
                <a:lnTo>
                  <a:pt x="3362" y="634"/>
                </a:lnTo>
                <a:lnTo>
                  <a:pt x="3410" y="666"/>
                </a:lnTo>
                <a:lnTo>
                  <a:pt x="3459" y="708"/>
                </a:lnTo>
                <a:lnTo>
                  <a:pt x="3468" y="718"/>
                </a:lnTo>
                <a:lnTo>
                  <a:pt x="3478" y="729"/>
                </a:lnTo>
                <a:lnTo>
                  <a:pt x="3488" y="750"/>
                </a:lnTo>
                <a:lnTo>
                  <a:pt x="3497" y="771"/>
                </a:lnTo>
                <a:lnTo>
                  <a:pt x="3507" y="792"/>
                </a:lnTo>
                <a:lnTo>
                  <a:pt x="3507" y="803"/>
                </a:lnTo>
                <a:lnTo>
                  <a:pt x="3507" y="813"/>
                </a:lnTo>
                <a:lnTo>
                  <a:pt x="3507" y="835"/>
                </a:lnTo>
                <a:lnTo>
                  <a:pt x="3497" y="866"/>
                </a:lnTo>
                <a:lnTo>
                  <a:pt x="3497" y="877"/>
                </a:lnTo>
                <a:lnTo>
                  <a:pt x="3488" y="887"/>
                </a:lnTo>
                <a:lnTo>
                  <a:pt x="3478" y="909"/>
                </a:lnTo>
                <a:lnTo>
                  <a:pt x="3439" y="930"/>
                </a:lnTo>
                <a:lnTo>
                  <a:pt x="3420" y="940"/>
                </a:lnTo>
                <a:lnTo>
                  <a:pt x="3381" y="951"/>
                </a:lnTo>
                <a:lnTo>
                  <a:pt x="3352" y="951"/>
                </a:lnTo>
                <a:lnTo>
                  <a:pt x="3304" y="961"/>
                </a:lnTo>
                <a:lnTo>
                  <a:pt x="3284" y="961"/>
                </a:lnTo>
                <a:lnTo>
                  <a:pt x="3265" y="961"/>
                </a:lnTo>
                <a:lnTo>
                  <a:pt x="3197" y="972"/>
                </a:lnTo>
                <a:lnTo>
                  <a:pt x="3149" y="972"/>
                </a:lnTo>
                <a:lnTo>
                  <a:pt x="3090" y="972"/>
                </a:lnTo>
                <a:lnTo>
                  <a:pt x="3003" y="982"/>
                </a:lnTo>
                <a:lnTo>
                  <a:pt x="2935" y="982"/>
                </a:lnTo>
                <a:lnTo>
                  <a:pt x="2848" y="982"/>
                </a:lnTo>
                <a:lnTo>
                  <a:pt x="2771" y="982"/>
                </a:lnTo>
                <a:lnTo>
                  <a:pt x="2722" y="982"/>
                </a:lnTo>
                <a:lnTo>
                  <a:pt x="2684" y="982"/>
                </a:lnTo>
                <a:lnTo>
                  <a:pt x="2596" y="982"/>
                </a:lnTo>
                <a:lnTo>
                  <a:pt x="2509" y="982"/>
                </a:lnTo>
                <a:lnTo>
                  <a:pt x="2422" y="993"/>
                </a:lnTo>
                <a:lnTo>
                  <a:pt x="2354" y="993"/>
                </a:lnTo>
                <a:lnTo>
                  <a:pt x="2267" y="982"/>
                </a:lnTo>
                <a:lnTo>
                  <a:pt x="2189" y="982"/>
                </a:lnTo>
                <a:lnTo>
                  <a:pt x="2122" y="982"/>
                </a:lnTo>
                <a:lnTo>
                  <a:pt x="2093" y="982"/>
                </a:lnTo>
                <a:lnTo>
                  <a:pt x="2025" y="982"/>
                </a:lnTo>
                <a:lnTo>
                  <a:pt x="1889" y="982"/>
                </a:lnTo>
                <a:lnTo>
                  <a:pt x="1744" y="982"/>
                </a:lnTo>
                <a:lnTo>
                  <a:pt x="1598" y="982"/>
                </a:lnTo>
                <a:lnTo>
                  <a:pt x="1521" y="982"/>
                </a:lnTo>
                <a:lnTo>
                  <a:pt x="1453" y="982"/>
                </a:lnTo>
                <a:lnTo>
                  <a:pt x="1288" y="993"/>
                </a:lnTo>
                <a:lnTo>
                  <a:pt x="1133" y="993"/>
                </a:lnTo>
                <a:lnTo>
                  <a:pt x="978" y="993"/>
                </a:lnTo>
                <a:lnTo>
                  <a:pt x="891" y="993"/>
                </a:lnTo>
                <a:lnTo>
                  <a:pt x="814" y="993"/>
                </a:lnTo>
                <a:lnTo>
                  <a:pt x="659" y="1004"/>
                </a:lnTo>
                <a:lnTo>
                  <a:pt x="523" y="1004"/>
                </a:lnTo>
                <a:lnTo>
                  <a:pt x="387" y="993"/>
                </a:lnTo>
                <a:lnTo>
                  <a:pt x="329" y="993"/>
                </a:lnTo>
                <a:lnTo>
                  <a:pt x="300" y="993"/>
                </a:lnTo>
                <a:lnTo>
                  <a:pt x="252" y="993"/>
                </a:lnTo>
                <a:lnTo>
                  <a:pt x="203" y="993"/>
                </a:lnTo>
                <a:lnTo>
                  <a:pt x="145" y="982"/>
                </a:lnTo>
                <a:lnTo>
                  <a:pt x="126" y="982"/>
                </a:lnTo>
                <a:lnTo>
                  <a:pt x="87" y="972"/>
                </a:lnTo>
                <a:lnTo>
                  <a:pt x="58" y="961"/>
                </a:lnTo>
                <a:lnTo>
                  <a:pt x="48" y="961"/>
                </a:lnTo>
                <a:lnTo>
                  <a:pt x="39" y="951"/>
                </a:lnTo>
                <a:lnTo>
                  <a:pt x="29" y="940"/>
                </a:lnTo>
                <a:lnTo>
                  <a:pt x="10" y="919"/>
                </a:lnTo>
                <a:lnTo>
                  <a:pt x="0" y="887"/>
                </a:lnTo>
                <a:lnTo>
                  <a:pt x="0" y="856"/>
                </a:lnTo>
                <a:lnTo>
                  <a:pt x="0" y="835"/>
                </a:lnTo>
                <a:lnTo>
                  <a:pt x="10" y="813"/>
                </a:lnTo>
                <a:lnTo>
                  <a:pt x="19" y="803"/>
                </a:lnTo>
                <a:lnTo>
                  <a:pt x="29" y="782"/>
                </a:lnTo>
                <a:lnTo>
                  <a:pt x="48" y="771"/>
                </a:lnTo>
                <a:lnTo>
                  <a:pt x="68" y="750"/>
                </a:lnTo>
                <a:lnTo>
                  <a:pt x="87" y="740"/>
                </a:lnTo>
                <a:lnTo>
                  <a:pt x="106" y="729"/>
                </a:lnTo>
                <a:lnTo>
                  <a:pt x="126" y="718"/>
                </a:lnTo>
                <a:lnTo>
                  <a:pt x="145" y="708"/>
                </a:lnTo>
                <a:lnTo>
                  <a:pt x="203" y="676"/>
                </a:lnTo>
                <a:lnTo>
                  <a:pt x="242" y="655"/>
                </a:lnTo>
                <a:lnTo>
                  <a:pt x="291" y="623"/>
                </a:lnTo>
                <a:lnTo>
                  <a:pt x="300" y="613"/>
                </a:lnTo>
                <a:lnTo>
                  <a:pt x="339" y="592"/>
                </a:lnTo>
                <a:lnTo>
                  <a:pt x="407" y="560"/>
                </a:lnTo>
                <a:lnTo>
                  <a:pt x="446" y="539"/>
                </a:lnTo>
                <a:lnTo>
                  <a:pt x="465" y="528"/>
                </a:lnTo>
                <a:lnTo>
                  <a:pt x="513" y="507"/>
                </a:lnTo>
                <a:lnTo>
                  <a:pt x="552" y="486"/>
                </a:lnTo>
                <a:lnTo>
                  <a:pt x="610" y="454"/>
                </a:lnTo>
                <a:lnTo>
                  <a:pt x="639" y="433"/>
                </a:lnTo>
                <a:lnTo>
                  <a:pt x="668" y="423"/>
                </a:lnTo>
                <a:lnTo>
                  <a:pt x="726" y="391"/>
                </a:lnTo>
                <a:lnTo>
                  <a:pt x="794" y="359"/>
                </a:lnTo>
                <a:lnTo>
                  <a:pt x="872" y="328"/>
                </a:lnTo>
                <a:lnTo>
                  <a:pt x="911" y="317"/>
                </a:lnTo>
                <a:lnTo>
                  <a:pt x="949" y="306"/>
                </a:lnTo>
                <a:lnTo>
                  <a:pt x="1027" y="275"/>
                </a:lnTo>
                <a:lnTo>
                  <a:pt x="1114" y="233"/>
                </a:lnTo>
                <a:lnTo>
                  <a:pt x="1201" y="190"/>
                </a:lnTo>
                <a:lnTo>
                  <a:pt x="1240" y="169"/>
                </a:lnTo>
                <a:lnTo>
                  <a:pt x="1288" y="148"/>
                </a:lnTo>
                <a:lnTo>
                  <a:pt x="1366" y="116"/>
                </a:lnTo>
                <a:lnTo>
                  <a:pt x="1443" y="85"/>
                </a:lnTo>
                <a:lnTo>
                  <a:pt x="1521" y="64"/>
                </a:lnTo>
                <a:lnTo>
                  <a:pt x="1560" y="53"/>
                </a:lnTo>
                <a:lnTo>
                  <a:pt x="1579" y="53"/>
                </a:lnTo>
                <a:lnTo>
                  <a:pt x="1608" y="42"/>
                </a:lnTo>
                <a:lnTo>
                  <a:pt x="1647" y="32"/>
                </a:lnTo>
                <a:lnTo>
                  <a:pt x="1666" y="32"/>
                </a:lnTo>
                <a:lnTo>
                  <a:pt x="1705" y="21"/>
                </a:lnTo>
                <a:lnTo>
                  <a:pt x="1715" y="21"/>
                </a:lnTo>
                <a:lnTo>
                  <a:pt x="1744" y="11"/>
                </a:lnTo>
                <a:lnTo>
                  <a:pt x="1763" y="11"/>
                </a:lnTo>
              </a:path>
            </a:pathLst>
          </a:custGeom>
          <a:solidFill>
            <a:srgbClr val="cb4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7"/>
          <p:cNvSpPr/>
          <p:nvPr/>
        </p:nvSpPr>
        <p:spPr>
          <a:xfrm>
            <a:off x="3033720" y="2897280"/>
            <a:ext cx="108000" cy="1000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8"/>
          <p:cNvSpPr/>
          <p:nvPr/>
        </p:nvSpPr>
        <p:spPr>
          <a:xfrm>
            <a:off x="6972480" y="3433680"/>
            <a:ext cx="168120" cy="2001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9"/>
          <p:cNvSpPr/>
          <p:nvPr/>
        </p:nvSpPr>
        <p:spPr>
          <a:xfrm>
            <a:off x="6710400" y="3952800"/>
            <a:ext cx="108000" cy="1177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7694640" y="4606920"/>
            <a:ext cx="1699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11"/>
          <p:cNvSpPr/>
          <p:nvPr/>
        </p:nvSpPr>
        <p:spPr>
          <a:xfrm>
            <a:off x="7494480" y="3952800"/>
            <a:ext cx="108000" cy="1000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 flipH="1">
            <a:off x="6756120" y="3618000"/>
            <a:ext cx="245880" cy="352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7110360" y="3584520"/>
            <a:ext cx="41436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14"/>
          <p:cNvSpPr/>
          <p:nvPr/>
        </p:nvSpPr>
        <p:spPr>
          <a:xfrm>
            <a:off x="6756480" y="4052880"/>
            <a:ext cx="1440" cy="536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5"/>
          <p:cNvSpPr/>
          <p:nvPr/>
        </p:nvSpPr>
        <p:spPr>
          <a:xfrm>
            <a:off x="7570800" y="4037040"/>
            <a:ext cx="185760" cy="56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6"/>
          <p:cNvSpPr/>
          <p:nvPr/>
        </p:nvSpPr>
        <p:spPr>
          <a:xfrm flipH="1">
            <a:off x="7278480" y="4052880"/>
            <a:ext cx="231480" cy="571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17"/>
          <p:cNvSpPr/>
          <p:nvPr/>
        </p:nvSpPr>
        <p:spPr>
          <a:xfrm>
            <a:off x="1957320" y="3433680"/>
            <a:ext cx="169920" cy="2001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18"/>
          <p:cNvSpPr/>
          <p:nvPr/>
        </p:nvSpPr>
        <p:spPr>
          <a:xfrm>
            <a:off x="1711440" y="4606920"/>
            <a:ext cx="1699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Oval 19"/>
          <p:cNvSpPr/>
          <p:nvPr/>
        </p:nvSpPr>
        <p:spPr>
          <a:xfrm>
            <a:off x="1203480" y="4606920"/>
            <a:ext cx="16956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20"/>
          <p:cNvSpPr/>
          <p:nvPr/>
        </p:nvSpPr>
        <p:spPr>
          <a:xfrm>
            <a:off x="1511280" y="3952800"/>
            <a:ext cx="108000" cy="1000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21"/>
          <p:cNvSpPr/>
          <p:nvPr/>
        </p:nvSpPr>
        <p:spPr>
          <a:xfrm>
            <a:off x="2173320" y="4606920"/>
            <a:ext cx="1681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Oval 22"/>
          <p:cNvSpPr/>
          <p:nvPr/>
        </p:nvSpPr>
        <p:spPr>
          <a:xfrm>
            <a:off x="2481120" y="3952800"/>
            <a:ext cx="106560" cy="1000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23"/>
          <p:cNvSpPr/>
          <p:nvPr/>
        </p:nvSpPr>
        <p:spPr>
          <a:xfrm flipH="1">
            <a:off x="1572840" y="3600360"/>
            <a:ext cx="384120" cy="37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24"/>
          <p:cNvSpPr/>
          <p:nvPr/>
        </p:nvSpPr>
        <p:spPr>
          <a:xfrm>
            <a:off x="2095560" y="3600360"/>
            <a:ext cx="415800" cy="352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25"/>
          <p:cNvSpPr/>
          <p:nvPr/>
        </p:nvSpPr>
        <p:spPr>
          <a:xfrm flipH="1">
            <a:off x="1296720" y="4037040"/>
            <a:ext cx="230040" cy="56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26"/>
          <p:cNvSpPr/>
          <p:nvPr/>
        </p:nvSpPr>
        <p:spPr>
          <a:xfrm>
            <a:off x="1573200" y="4037040"/>
            <a:ext cx="200160" cy="56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27"/>
          <p:cNvSpPr/>
          <p:nvPr/>
        </p:nvSpPr>
        <p:spPr>
          <a:xfrm flipH="1">
            <a:off x="2265120" y="4052880"/>
            <a:ext cx="230040" cy="571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28"/>
          <p:cNvSpPr/>
          <p:nvPr/>
        </p:nvSpPr>
        <p:spPr>
          <a:xfrm>
            <a:off x="3479760" y="3433680"/>
            <a:ext cx="169920" cy="2001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29"/>
          <p:cNvSpPr/>
          <p:nvPr/>
        </p:nvSpPr>
        <p:spPr>
          <a:xfrm>
            <a:off x="3187800" y="4606920"/>
            <a:ext cx="18576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30"/>
          <p:cNvSpPr/>
          <p:nvPr/>
        </p:nvSpPr>
        <p:spPr>
          <a:xfrm>
            <a:off x="2727360" y="4606920"/>
            <a:ext cx="1681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31"/>
          <p:cNvSpPr/>
          <p:nvPr/>
        </p:nvSpPr>
        <p:spPr>
          <a:xfrm>
            <a:off x="3233880" y="3952800"/>
            <a:ext cx="91800" cy="1177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32"/>
          <p:cNvSpPr/>
          <p:nvPr/>
        </p:nvSpPr>
        <p:spPr>
          <a:xfrm>
            <a:off x="4203720" y="4606920"/>
            <a:ext cx="1681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33"/>
          <p:cNvSpPr/>
          <p:nvPr/>
        </p:nvSpPr>
        <p:spPr>
          <a:xfrm>
            <a:off x="3695760" y="4606920"/>
            <a:ext cx="1699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34"/>
          <p:cNvSpPr/>
          <p:nvPr/>
        </p:nvSpPr>
        <p:spPr>
          <a:xfrm>
            <a:off x="4003560" y="3952800"/>
            <a:ext cx="108000" cy="1000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35"/>
          <p:cNvSpPr/>
          <p:nvPr/>
        </p:nvSpPr>
        <p:spPr>
          <a:xfrm flipH="1">
            <a:off x="3295440" y="3600360"/>
            <a:ext cx="199800" cy="37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36"/>
          <p:cNvSpPr/>
          <p:nvPr/>
        </p:nvSpPr>
        <p:spPr>
          <a:xfrm>
            <a:off x="3619440" y="3600360"/>
            <a:ext cx="414360" cy="352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37"/>
          <p:cNvSpPr/>
          <p:nvPr/>
        </p:nvSpPr>
        <p:spPr>
          <a:xfrm>
            <a:off x="3265560" y="4052880"/>
            <a:ext cx="1440" cy="554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8"/>
          <p:cNvSpPr/>
          <p:nvPr/>
        </p:nvSpPr>
        <p:spPr>
          <a:xfrm>
            <a:off x="4079880" y="4037040"/>
            <a:ext cx="184320" cy="56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9"/>
          <p:cNvSpPr/>
          <p:nvPr/>
        </p:nvSpPr>
        <p:spPr>
          <a:xfrm flipH="1">
            <a:off x="3787560" y="4052880"/>
            <a:ext cx="230040" cy="571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40"/>
          <p:cNvSpPr/>
          <p:nvPr/>
        </p:nvSpPr>
        <p:spPr>
          <a:xfrm>
            <a:off x="5418000" y="3433680"/>
            <a:ext cx="169920" cy="2001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41"/>
          <p:cNvSpPr/>
          <p:nvPr/>
        </p:nvSpPr>
        <p:spPr>
          <a:xfrm>
            <a:off x="4664160" y="4606920"/>
            <a:ext cx="1699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42"/>
          <p:cNvSpPr/>
          <p:nvPr/>
        </p:nvSpPr>
        <p:spPr>
          <a:xfrm>
            <a:off x="4971960" y="3952800"/>
            <a:ext cx="108000" cy="1000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3"/>
          <p:cNvGrpSpPr/>
          <p:nvPr/>
        </p:nvGrpSpPr>
        <p:grpSpPr>
          <a:xfrm>
            <a:off x="5634000" y="3952800"/>
            <a:ext cx="676440" cy="855720"/>
            <a:chOff x="5634000" y="3952800"/>
            <a:chExt cx="676440" cy="855720"/>
          </a:xfrm>
        </p:grpSpPr>
        <p:sp>
          <p:nvSpPr>
            <p:cNvPr id="380" name="Oval 44"/>
            <p:cNvSpPr/>
            <p:nvPr/>
          </p:nvSpPr>
          <p:spPr>
            <a:xfrm>
              <a:off x="6140520" y="4606920"/>
              <a:ext cx="169920" cy="20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5"/>
            <p:cNvSpPr/>
            <p:nvPr/>
          </p:nvSpPr>
          <p:spPr>
            <a:xfrm>
              <a:off x="5634000" y="4606920"/>
              <a:ext cx="168480" cy="20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6"/>
            <p:cNvSpPr/>
            <p:nvPr/>
          </p:nvSpPr>
          <p:spPr>
            <a:xfrm>
              <a:off x="5940360" y="3952800"/>
              <a:ext cx="108000" cy="10008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Line 47"/>
          <p:cNvSpPr/>
          <p:nvPr/>
        </p:nvSpPr>
        <p:spPr>
          <a:xfrm flipH="1">
            <a:off x="5033520" y="3600360"/>
            <a:ext cx="384120" cy="37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48"/>
          <p:cNvSpPr/>
          <p:nvPr/>
        </p:nvSpPr>
        <p:spPr>
          <a:xfrm>
            <a:off x="5556240" y="3600360"/>
            <a:ext cx="415800" cy="352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9"/>
          <p:cNvSpPr/>
          <p:nvPr/>
        </p:nvSpPr>
        <p:spPr>
          <a:xfrm flipH="1">
            <a:off x="4755960" y="4037040"/>
            <a:ext cx="231480" cy="56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50"/>
          <p:cNvSpPr/>
          <p:nvPr/>
        </p:nvSpPr>
        <p:spPr>
          <a:xfrm>
            <a:off x="5033880" y="4037040"/>
            <a:ext cx="200160" cy="56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51"/>
          <p:cNvSpPr/>
          <p:nvPr/>
        </p:nvSpPr>
        <p:spPr>
          <a:xfrm>
            <a:off x="6018120" y="4037040"/>
            <a:ext cx="184320" cy="56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2"/>
          <p:cNvSpPr/>
          <p:nvPr/>
        </p:nvSpPr>
        <p:spPr>
          <a:xfrm flipH="1">
            <a:off x="5725800" y="4052880"/>
            <a:ext cx="230040" cy="571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53"/>
          <p:cNvSpPr/>
          <p:nvPr/>
        </p:nvSpPr>
        <p:spPr>
          <a:xfrm>
            <a:off x="4449600" y="2376360"/>
            <a:ext cx="16848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54"/>
          <p:cNvSpPr/>
          <p:nvPr/>
        </p:nvSpPr>
        <p:spPr>
          <a:xfrm>
            <a:off x="5940360" y="2897280"/>
            <a:ext cx="108000" cy="1000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55"/>
          <p:cNvSpPr/>
          <p:nvPr/>
        </p:nvSpPr>
        <p:spPr>
          <a:xfrm flipH="1">
            <a:off x="3125520" y="2511360"/>
            <a:ext cx="1323720" cy="40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56"/>
          <p:cNvSpPr/>
          <p:nvPr/>
        </p:nvSpPr>
        <p:spPr>
          <a:xfrm>
            <a:off x="4603680" y="2511360"/>
            <a:ext cx="1352520" cy="40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7"/>
          <p:cNvSpPr/>
          <p:nvPr/>
        </p:nvSpPr>
        <p:spPr>
          <a:xfrm>
            <a:off x="3095640" y="2979720"/>
            <a:ext cx="399960" cy="469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58"/>
          <p:cNvSpPr/>
          <p:nvPr/>
        </p:nvSpPr>
        <p:spPr>
          <a:xfrm flipH="1">
            <a:off x="2095560" y="2963880"/>
            <a:ext cx="938160" cy="503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59"/>
          <p:cNvSpPr/>
          <p:nvPr/>
        </p:nvSpPr>
        <p:spPr>
          <a:xfrm>
            <a:off x="6018120" y="2963880"/>
            <a:ext cx="968400" cy="503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60"/>
          <p:cNvSpPr/>
          <p:nvPr/>
        </p:nvSpPr>
        <p:spPr>
          <a:xfrm flipH="1">
            <a:off x="5555880" y="2979720"/>
            <a:ext cx="399960" cy="487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61"/>
          <p:cNvSpPr/>
          <p:nvPr/>
        </p:nvSpPr>
        <p:spPr>
          <a:xfrm>
            <a:off x="2541600" y="4037040"/>
            <a:ext cx="245880" cy="587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62"/>
          <p:cNvSpPr/>
          <p:nvPr/>
        </p:nvSpPr>
        <p:spPr>
          <a:xfrm>
            <a:off x="1357200" y="5680080"/>
            <a:ext cx="1699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63"/>
          <p:cNvSpPr/>
          <p:nvPr/>
        </p:nvSpPr>
        <p:spPr>
          <a:xfrm>
            <a:off x="1757520" y="5680080"/>
            <a:ext cx="16956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64"/>
          <p:cNvSpPr/>
          <p:nvPr/>
        </p:nvSpPr>
        <p:spPr>
          <a:xfrm>
            <a:off x="2157480" y="5680080"/>
            <a:ext cx="1699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65"/>
          <p:cNvSpPr/>
          <p:nvPr/>
        </p:nvSpPr>
        <p:spPr>
          <a:xfrm>
            <a:off x="2557440" y="5680080"/>
            <a:ext cx="1699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66"/>
          <p:cNvSpPr/>
          <p:nvPr/>
        </p:nvSpPr>
        <p:spPr>
          <a:xfrm>
            <a:off x="2957400" y="5680080"/>
            <a:ext cx="16848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67"/>
          <p:cNvSpPr/>
          <p:nvPr/>
        </p:nvSpPr>
        <p:spPr>
          <a:xfrm>
            <a:off x="3803760" y="5662440"/>
            <a:ext cx="183960" cy="2019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68"/>
          <p:cNvSpPr/>
          <p:nvPr/>
        </p:nvSpPr>
        <p:spPr>
          <a:xfrm>
            <a:off x="4572000" y="5680080"/>
            <a:ext cx="1843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69"/>
          <p:cNvSpPr/>
          <p:nvPr/>
        </p:nvSpPr>
        <p:spPr>
          <a:xfrm>
            <a:off x="5002200" y="5680080"/>
            <a:ext cx="18576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70"/>
          <p:cNvSpPr/>
          <p:nvPr/>
        </p:nvSpPr>
        <p:spPr>
          <a:xfrm>
            <a:off x="5802480" y="5680080"/>
            <a:ext cx="18540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71"/>
          <p:cNvSpPr/>
          <p:nvPr/>
        </p:nvSpPr>
        <p:spPr>
          <a:xfrm>
            <a:off x="7432560" y="5680080"/>
            <a:ext cx="16992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72"/>
          <p:cNvSpPr/>
          <p:nvPr/>
        </p:nvSpPr>
        <p:spPr>
          <a:xfrm>
            <a:off x="7832880" y="5680080"/>
            <a:ext cx="169560" cy="201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73"/>
          <p:cNvSpPr/>
          <p:nvPr/>
        </p:nvSpPr>
        <p:spPr>
          <a:xfrm>
            <a:off x="2173320" y="5160960"/>
            <a:ext cx="108000" cy="117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74"/>
          <p:cNvSpPr/>
          <p:nvPr/>
        </p:nvSpPr>
        <p:spPr>
          <a:xfrm>
            <a:off x="1665360" y="5160960"/>
            <a:ext cx="92160" cy="117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75"/>
          <p:cNvSpPr/>
          <p:nvPr/>
        </p:nvSpPr>
        <p:spPr>
          <a:xfrm flipH="1">
            <a:off x="1711440" y="4791240"/>
            <a:ext cx="77760" cy="385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76"/>
          <p:cNvSpPr/>
          <p:nvPr/>
        </p:nvSpPr>
        <p:spPr>
          <a:xfrm flipH="1">
            <a:off x="1449360" y="5261040"/>
            <a:ext cx="246240" cy="41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77"/>
          <p:cNvSpPr/>
          <p:nvPr/>
        </p:nvSpPr>
        <p:spPr>
          <a:xfrm>
            <a:off x="1727280" y="5261040"/>
            <a:ext cx="108000" cy="41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78"/>
          <p:cNvSpPr/>
          <p:nvPr/>
        </p:nvSpPr>
        <p:spPr>
          <a:xfrm flipH="1">
            <a:off x="2219400" y="4791240"/>
            <a:ext cx="30240" cy="369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79"/>
          <p:cNvSpPr/>
          <p:nvPr/>
        </p:nvSpPr>
        <p:spPr>
          <a:xfrm>
            <a:off x="2219400" y="5261040"/>
            <a:ext cx="1440" cy="41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80"/>
          <p:cNvSpPr/>
          <p:nvPr/>
        </p:nvSpPr>
        <p:spPr>
          <a:xfrm>
            <a:off x="2787480" y="5160960"/>
            <a:ext cx="92160" cy="117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81"/>
          <p:cNvSpPr/>
          <p:nvPr/>
        </p:nvSpPr>
        <p:spPr>
          <a:xfrm>
            <a:off x="2803680" y="4791240"/>
            <a:ext cx="15840" cy="369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82"/>
          <p:cNvSpPr/>
          <p:nvPr/>
        </p:nvSpPr>
        <p:spPr>
          <a:xfrm flipH="1">
            <a:off x="2649600" y="5243400"/>
            <a:ext cx="154080" cy="436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83"/>
          <p:cNvSpPr/>
          <p:nvPr/>
        </p:nvSpPr>
        <p:spPr>
          <a:xfrm>
            <a:off x="2849400" y="5243400"/>
            <a:ext cx="154080" cy="41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84"/>
          <p:cNvSpPr/>
          <p:nvPr/>
        </p:nvSpPr>
        <p:spPr>
          <a:xfrm>
            <a:off x="3649680" y="5143680"/>
            <a:ext cx="108000" cy="117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85"/>
          <p:cNvSpPr/>
          <p:nvPr/>
        </p:nvSpPr>
        <p:spPr>
          <a:xfrm flipH="1">
            <a:off x="3695760" y="4791240"/>
            <a:ext cx="61920" cy="369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86"/>
          <p:cNvSpPr/>
          <p:nvPr/>
        </p:nvSpPr>
        <p:spPr>
          <a:xfrm flipH="1">
            <a:off x="3465360" y="5210280"/>
            <a:ext cx="214560" cy="469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87"/>
          <p:cNvSpPr/>
          <p:nvPr/>
        </p:nvSpPr>
        <p:spPr>
          <a:xfrm>
            <a:off x="3711600" y="5227560"/>
            <a:ext cx="154080" cy="452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88"/>
          <p:cNvSpPr/>
          <p:nvPr/>
        </p:nvSpPr>
        <p:spPr>
          <a:xfrm>
            <a:off x="4233960" y="5160960"/>
            <a:ext cx="108000" cy="117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89"/>
          <p:cNvSpPr/>
          <p:nvPr/>
        </p:nvSpPr>
        <p:spPr>
          <a:xfrm>
            <a:off x="4280040" y="4808520"/>
            <a:ext cx="1440" cy="33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90"/>
          <p:cNvSpPr/>
          <p:nvPr/>
        </p:nvSpPr>
        <p:spPr>
          <a:xfrm>
            <a:off x="4280040" y="5261040"/>
            <a:ext cx="1440" cy="41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91"/>
          <p:cNvSpPr/>
          <p:nvPr/>
        </p:nvSpPr>
        <p:spPr>
          <a:xfrm>
            <a:off x="4695840" y="5160960"/>
            <a:ext cx="108000" cy="1000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92"/>
          <p:cNvSpPr/>
          <p:nvPr/>
        </p:nvSpPr>
        <p:spPr>
          <a:xfrm>
            <a:off x="4741920" y="4791240"/>
            <a:ext cx="1440" cy="352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93"/>
          <p:cNvSpPr/>
          <p:nvPr/>
        </p:nvSpPr>
        <p:spPr>
          <a:xfrm flipH="1">
            <a:off x="4664160" y="5243400"/>
            <a:ext cx="46080" cy="41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94"/>
          <p:cNvSpPr/>
          <p:nvPr/>
        </p:nvSpPr>
        <p:spPr>
          <a:xfrm>
            <a:off x="5618160" y="5143680"/>
            <a:ext cx="108000" cy="117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95"/>
          <p:cNvSpPr/>
          <p:nvPr/>
        </p:nvSpPr>
        <p:spPr>
          <a:xfrm>
            <a:off x="4756320" y="5227560"/>
            <a:ext cx="293400" cy="452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96"/>
          <p:cNvSpPr/>
          <p:nvPr/>
        </p:nvSpPr>
        <p:spPr>
          <a:xfrm flipH="1">
            <a:off x="5664240" y="4791240"/>
            <a:ext cx="46080" cy="369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97"/>
          <p:cNvSpPr/>
          <p:nvPr/>
        </p:nvSpPr>
        <p:spPr>
          <a:xfrm flipH="1">
            <a:off x="5510160" y="5243400"/>
            <a:ext cx="138240" cy="436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98"/>
          <p:cNvSpPr/>
          <p:nvPr/>
        </p:nvSpPr>
        <p:spPr>
          <a:xfrm>
            <a:off x="5680080" y="5243400"/>
            <a:ext cx="200160" cy="436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Oval 99"/>
          <p:cNvSpPr/>
          <p:nvPr/>
        </p:nvSpPr>
        <p:spPr>
          <a:xfrm>
            <a:off x="7740720" y="5143680"/>
            <a:ext cx="108000" cy="117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100"/>
          <p:cNvSpPr/>
          <p:nvPr/>
        </p:nvSpPr>
        <p:spPr>
          <a:xfrm>
            <a:off x="7786800" y="4791240"/>
            <a:ext cx="1440" cy="369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101"/>
          <p:cNvSpPr/>
          <p:nvPr/>
        </p:nvSpPr>
        <p:spPr>
          <a:xfrm>
            <a:off x="7802640" y="5243400"/>
            <a:ext cx="92160" cy="436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102"/>
          <p:cNvSpPr/>
          <p:nvPr/>
        </p:nvSpPr>
        <p:spPr>
          <a:xfrm flipH="1">
            <a:off x="7556400" y="5227560"/>
            <a:ext cx="214560" cy="469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103"/>
          <p:cNvSpPr/>
          <p:nvPr/>
        </p:nvSpPr>
        <p:spPr>
          <a:xfrm>
            <a:off x="6172200" y="5160960"/>
            <a:ext cx="108000" cy="1173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104"/>
          <p:cNvSpPr/>
          <p:nvPr/>
        </p:nvSpPr>
        <p:spPr>
          <a:xfrm>
            <a:off x="6218280" y="4791240"/>
            <a:ext cx="144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105"/>
          <p:cNvSpPr/>
          <p:nvPr/>
        </p:nvSpPr>
        <p:spPr>
          <a:xfrm>
            <a:off x="6218280" y="5243400"/>
            <a:ext cx="61920" cy="436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106"/>
          <p:cNvSpPr/>
          <p:nvPr/>
        </p:nvSpPr>
        <p:spPr>
          <a:xfrm>
            <a:off x="1481040" y="5848200"/>
            <a:ext cx="46080" cy="133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107"/>
          <p:cNvSpPr/>
          <p:nvPr/>
        </p:nvSpPr>
        <p:spPr>
          <a:xfrm>
            <a:off x="1835280" y="5864400"/>
            <a:ext cx="1440" cy="101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108"/>
          <p:cNvSpPr/>
          <p:nvPr/>
        </p:nvSpPr>
        <p:spPr>
          <a:xfrm flipH="1">
            <a:off x="1280880" y="5830920"/>
            <a:ext cx="91800" cy="135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9"/>
          <p:cNvSpPr/>
          <p:nvPr/>
        </p:nvSpPr>
        <p:spPr>
          <a:xfrm flipH="1">
            <a:off x="1219320" y="5999040"/>
            <a:ext cx="31680" cy="4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110"/>
          <p:cNvSpPr/>
          <p:nvPr/>
        </p:nvSpPr>
        <p:spPr>
          <a:xfrm flipH="1">
            <a:off x="1157400" y="6099120"/>
            <a:ext cx="31680" cy="5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11"/>
          <p:cNvSpPr/>
          <p:nvPr/>
        </p:nvSpPr>
        <p:spPr>
          <a:xfrm>
            <a:off x="1527120" y="6014880"/>
            <a:ext cx="30240" cy="68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112"/>
          <p:cNvSpPr/>
          <p:nvPr/>
        </p:nvSpPr>
        <p:spPr>
          <a:xfrm>
            <a:off x="1573200" y="6116760"/>
            <a:ext cx="158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13"/>
          <p:cNvSpPr/>
          <p:nvPr/>
        </p:nvSpPr>
        <p:spPr>
          <a:xfrm>
            <a:off x="1835280" y="6014880"/>
            <a:ext cx="1440" cy="84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114"/>
          <p:cNvSpPr/>
          <p:nvPr/>
        </p:nvSpPr>
        <p:spPr>
          <a:xfrm>
            <a:off x="1835280" y="6149880"/>
            <a:ext cx="14040" cy="84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115"/>
          <p:cNvSpPr/>
          <p:nvPr/>
        </p:nvSpPr>
        <p:spPr>
          <a:xfrm flipH="1">
            <a:off x="2511360" y="5848200"/>
            <a:ext cx="76320" cy="150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16"/>
          <p:cNvSpPr/>
          <p:nvPr/>
        </p:nvSpPr>
        <p:spPr>
          <a:xfrm>
            <a:off x="2681280" y="5848200"/>
            <a:ext cx="46080" cy="150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117"/>
          <p:cNvSpPr/>
          <p:nvPr/>
        </p:nvSpPr>
        <p:spPr>
          <a:xfrm>
            <a:off x="2757600" y="6048360"/>
            <a:ext cx="29880" cy="84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118"/>
          <p:cNvSpPr/>
          <p:nvPr/>
        </p:nvSpPr>
        <p:spPr>
          <a:xfrm>
            <a:off x="2803680" y="6199200"/>
            <a:ext cx="29880" cy="5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119"/>
          <p:cNvSpPr/>
          <p:nvPr/>
        </p:nvSpPr>
        <p:spPr>
          <a:xfrm flipH="1">
            <a:off x="2449440" y="6032520"/>
            <a:ext cx="3168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120"/>
          <p:cNvSpPr/>
          <p:nvPr/>
        </p:nvSpPr>
        <p:spPr>
          <a:xfrm flipH="1">
            <a:off x="2387160" y="6149880"/>
            <a:ext cx="4788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121"/>
          <p:cNvSpPr/>
          <p:nvPr/>
        </p:nvSpPr>
        <p:spPr>
          <a:xfrm>
            <a:off x="3033720" y="5864400"/>
            <a:ext cx="15840" cy="117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22"/>
          <p:cNvSpPr/>
          <p:nvPr/>
        </p:nvSpPr>
        <p:spPr>
          <a:xfrm>
            <a:off x="3049560" y="6066000"/>
            <a:ext cx="1440" cy="83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123"/>
          <p:cNvSpPr/>
          <p:nvPr/>
        </p:nvSpPr>
        <p:spPr>
          <a:xfrm>
            <a:off x="3049560" y="6216480"/>
            <a:ext cx="1440" cy="6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24"/>
          <p:cNvSpPr/>
          <p:nvPr/>
        </p:nvSpPr>
        <p:spPr>
          <a:xfrm flipH="1">
            <a:off x="3787920" y="5848200"/>
            <a:ext cx="61920" cy="133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25"/>
          <p:cNvSpPr/>
          <p:nvPr/>
        </p:nvSpPr>
        <p:spPr>
          <a:xfrm flipH="1">
            <a:off x="3741840" y="6032520"/>
            <a:ext cx="30240" cy="84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126"/>
          <p:cNvSpPr/>
          <p:nvPr/>
        </p:nvSpPr>
        <p:spPr>
          <a:xfrm flipH="1">
            <a:off x="3665520" y="6165720"/>
            <a:ext cx="46080" cy="84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127"/>
          <p:cNvSpPr/>
          <p:nvPr/>
        </p:nvSpPr>
        <p:spPr>
          <a:xfrm>
            <a:off x="3925800" y="5848200"/>
            <a:ext cx="61920" cy="117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128"/>
          <p:cNvSpPr/>
          <p:nvPr/>
        </p:nvSpPr>
        <p:spPr>
          <a:xfrm>
            <a:off x="4017960" y="6014880"/>
            <a:ext cx="31680" cy="68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129"/>
          <p:cNvSpPr/>
          <p:nvPr/>
        </p:nvSpPr>
        <p:spPr>
          <a:xfrm>
            <a:off x="4079880" y="6149880"/>
            <a:ext cx="3168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30"/>
          <p:cNvSpPr/>
          <p:nvPr/>
        </p:nvSpPr>
        <p:spPr>
          <a:xfrm>
            <a:off x="4649760" y="5864400"/>
            <a:ext cx="1440" cy="134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31"/>
          <p:cNvSpPr/>
          <p:nvPr/>
        </p:nvSpPr>
        <p:spPr>
          <a:xfrm>
            <a:off x="4649760" y="6048360"/>
            <a:ext cx="1440" cy="68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132"/>
          <p:cNvSpPr/>
          <p:nvPr/>
        </p:nvSpPr>
        <p:spPr>
          <a:xfrm>
            <a:off x="4649760" y="618336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133"/>
          <p:cNvSpPr/>
          <p:nvPr/>
        </p:nvSpPr>
        <p:spPr>
          <a:xfrm flipH="1">
            <a:off x="5033880" y="5864400"/>
            <a:ext cx="30240" cy="101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34"/>
          <p:cNvSpPr/>
          <p:nvPr/>
        </p:nvSpPr>
        <p:spPr>
          <a:xfrm flipH="1">
            <a:off x="4987800" y="5999040"/>
            <a:ext cx="30240" cy="84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35"/>
          <p:cNvSpPr/>
          <p:nvPr/>
        </p:nvSpPr>
        <p:spPr>
          <a:xfrm flipH="1">
            <a:off x="4941720" y="6149880"/>
            <a:ext cx="302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36"/>
          <p:cNvSpPr/>
          <p:nvPr/>
        </p:nvSpPr>
        <p:spPr>
          <a:xfrm>
            <a:off x="5126040" y="5848200"/>
            <a:ext cx="6192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37"/>
          <p:cNvSpPr/>
          <p:nvPr/>
        </p:nvSpPr>
        <p:spPr>
          <a:xfrm>
            <a:off x="5218200" y="5999040"/>
            <a:ext cx="31680" cy="6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8"/>
          <p:cNvSpPr/>
          <p:nvPr/>
        </p:nvSpPr>
        <p:spPr>
          <a:xfrm>
            <a:off x="5264280" y="6132600"/>
            <a:ext cx="4608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39"/>
          <p:cNvSpPr/>
          <p:nvPr/>
        </p:nvSpPr>
        <p:spPr>
          <a:xfrm>
            <a:off x="5880240" y="5864400"/>
            <a:ext cx="1440" cy="101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40"/>
          <p:cNvSpPr/>
          <p:nvPr/>
        </p:nvSpPr>
        <p:spPr>
          <a:xfrm>
            <a:off x="5894280" y="603252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41"/>
          <p:cNvSpPr/>
          <p:nvPr/>
        </p:nvSpPr>
        <p:spPr>
          <a:xfrm>
            <a:off x="5894280" y="6132600"/>
            <a:ext cx="1800" cy="83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42"/>
          <p:cNvSpPr/>
          <p:nvPr/>
        </p:nvSpPr>
        <p:spPr>
          <a:xfrm>
            <a:off x="7969320" y="5861160"/>
            <a:ext cx="92160" cy="13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43"/>
          <p:cNvSpPr/>
          <p:nvPr/>
        </p:nvSpPr>
        <p:spPr>
          <a:xfrm>
            <a:off x="8094600" y="6053040"/>
            <a:ext cx="47520" cy="5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44"/>
          <p:cNvSpPr/>
          <p:nvPr/>
        </p:nvSpPr>
        <p:spPr>
          <a:xfrm>
            <a:off x="8150400" y="6156360"/>
            <a:ext cx="31680" cy="5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145"/>
          <p:cNvSpPr/>
          <p:nvPr/>
        </p:nvSpPr>
        <p:spPr>
          <a:xfrm flipH="1">
            <a:off x="7816320" y="5848200"/>
            <a:ext cx="47880" cy="166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146"/>
          <p:cNvSpPr/>
          <p:nvPr/>
        </p:nvSpPr>
        <p:spPr>
          <a:xfrm flipH="1">
            <a:off x="7786440" y="6066000"/>
            <a:ext cx="29880" cy="99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147"/>
          <p:cNvSpPr/>
          <p:nvPr/>
        </p:nvSpPr>
        <p:spPr>
          <a:xfrm flipH="1">
            <a:off x="7756560" y="6199200"/>
            <a:ext cx="30240" cy="101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148"/>
          <p:cNvSpPr/>
          <p:nvPr/>
        </p:nvSpPr>
        <p:spPr>
          <a:xfrm>
            <a:off x="7540560" y="5864400"/>
            <a:ext cx="30240" cy="101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149"/>
          <p:cNvSpPr/>
          <p:nvPr/>
        </p:nvSpPr>
        <p:spPr>
          <a:xfrm>
            <a:off x="7586640" y="5999040"/>
            <a:ext cx="3168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50"/>
          <p:cNvSpPr/>
          <p:nvPr/>
        </p:nvSpPr>
        <p:spPr>
          <a:xfrm>
            <a:off x="7632720" y="6149880"/>
            <a:ext cx="31680" cy="4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51"/>
          <p:cNvSpPr/>
          <p:nvPr/>
        </p:nvSpPr>
        <p:spPr>
          <a:xfrm flipH="1">
            <a:off x="7402320" y="5830920"/>
            <a:ext cx="45720" cy="135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152"/>
          <p:cNvSpPr/>
          <p:nvPr/>
        </p:nvSpPr>
        <p:spPr>
          <a:xfrm flipH="1">
            <a:off x="7372440" y="6014880"/>
            <a:ext cx="30240" cy="68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153"/>
          <p:cNvSpPr/>
          <p:nvPr/>
        </p:nvSpPr>
        <p:spPr>
          <a:xfrm flipH="1">
            <a:off x="7340760" y="6116760"/>
            <a:ext cx="31680" cy="82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54"/>
          <p:cNvSpPr/>
          <p:nvPr/>
        </p:nvSpPr>
        <p:spPr>
          <a:xfrm>
            <a:off x="2189160" y="56800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55"/>
          <p:cNvSpPr/>
          <p:nvPr/>
        </p:nvSpPr>
        <p:spPr>
          <a:xfrm>
            <a:off x="1235160" y="46245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56"/>
          <p:cNvSpPr/>
          <p:nvPr/>
        </p:nvSpPr>
        <p:spPr>
          <a:xfrm>
            <a:off x="3233880" y="46069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57"/>
          <p:cNvGrpSpPr/>
          <p:nvPr/>
        </p:nvGrpSpPr>
        <p:grpSpPr>
          <a:xfrm>
            <a:off x="7137360" y="4597560"/>
            <a:ext cx="254160" cy="291960"/>
            <a:chOff x="7137360" y="4597560"/>
            <a:chExt cx="254160" cy="291960"/>
          </a:xfrm>
        </p:grpSpPr>
        <p:sp>
          <p:nvSpPr>
            <p:cNvPr id="494" name="Rectangle 158"/>
            <p:cNvSpPr/>
            <p:nvPr/>
          </p:nvSpPr>
          <p:spPr>
            <a:xfrm>
              <a:off x="7137360" y="459756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159"/>
            <p:cNvSpPr/>
            <p:nvPr/>
          </p:nvSpPr>
          <p:spPr>
            <a:xfrm>
              <a:off x="7205760" y="46371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Rectangle 160"/>
          <p:cNvSpPr/>
          <p:nvPr/>
        </p:nvSpPr>
        <p:spPr>
          <a:xfrm>
            <a:off x="6881760" y="2195640"/>
            <a:ext cx="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Object 161"/>
          <p:cNvGraphicFramePr/>
          <p:nvPr/>
        </p:nvGraphicFramePr>
        <p:xfrm>
          <a:off x="4460760" y="1901880"/>
          <a:ext cx="3924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Object 1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0760" y="1901880"/>
                    <a:ext cx="392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9" name="Object 162"/>
              <p:cNvSpPr txBox="1"/>
              <p:nvPr/>
            </p:nvSpPr>
            <p:spPr>
              <a:xfrm>
                <a:off x="6496200" y="2789280"/>
                <a:ext cx="20476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163"/>
              <p:cNvSpPr txBox="1"/>
              <p:nvPr/>
            </p:nvSpPr>
            <p:spPr>
              <a:xfrm>
                <a:off x="7300800" y="3241800"/>
                <a:ext cx="5810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01" name="Group 164"/>
          <p:cNvGrpSpPr/>
          <p:nvPr/>
        </p:nvGrpSpPr>
        <p:grpSpPr>
          <a:xfrm>
            <a:off x="6629400" y="4597560"/>
            <a:ext cx="254160" cy="291960"/>
            <a:chOff x="6629400" y="4597560"/>
            <a:chExt cx="254160" cy="291960"/>
          </a:xfrm>
        </p:grpSpPr>
        <p:sp>
          <p:nvSpPr>
            <p:cNvPr id="502" name="Rectangle 165"/>
            <p:cNvSpPr/>
            <p:nvPr/>
          </p:nvSpPr>
          <p:spPr>
            <a:xfrm>
              <a:off x="6629400" y="459756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66"/>
            <p:cNvSpPr/>
            <p:nvPr/>
          </p:nvSpPr>
          <p:spPr>
            <a:xfrm>
              <a:off x="6697800" y="46371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Group 167"/>
          <p:cNvGrpSpPr/>
          <p:nvPr/>
        </p:nvGrpSpPr>
        <p:grpSpPr>
          <a:xfrm>
            <a:off x="6159600" y="5676840"/>
            <a:ext cx="253800" cy="291960"/>
            <a:chOff x="6159600" y="5676840"/>
            <a:chExt cx="253800" cy="291960"/>
          </a:xfrm>
        </p:grpSpPr>
        <p:sp>
          <p:nvSpPr>
            <p:cNvPr id="505" name="Rectangle 168"/>
            <p:cNvSpPr/>
            <p:nvPr/>
          </p:nvSpPr>
          <p:spPr>
            <a:xfrm>
              <a:off x="6159600" y="5676840"/>
              <a:ext cx="25380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69"/>
            <p:cNvSpPr/>
            <p:nvPr/>
          </p:nvSpPr>
          <p:spPr>
            <a:xfrm>
              <a:off x="6227640" y="5716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oup 170"/>
          <p:cNvGrpSpPr/>
          <p:nvPr/>
        </p:nvGrpSpPr>
        <p:grpSpPr>
          <a:xfrm>
            <a:off x="5378400" y="5664240"/>
            <a:ext cx="254160" cy="291960"/>
            <a:chOff x="5378400" y="5664240"/>
            <a:chExt cx="254160" cy="291960"/>
          </a:xfrm>
        </p:grpSpPr>
        <p:sp>
          <p:nvSpPr>
            <p:cNvPr id="508" name="Rectangle 171"/>
            <p:cNvSpPr/>
            <p:nvPr/>
          </p:nvSpPr>
          <p:spPr>
            <a:xfrm>
              <a:off x="5378400" y="566424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172"/>
            <p:cNvSpPr/>
            <p:nvPr/>
          </p:nvSpPr>
          <p:spPr>
            <a:xfrm>
              <a:off x="5446800" y="57038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Group 173"/>
          <p:cNvGrpSpPr/>
          <p:nvPr/>
        </p:nvGrpSpPr>
        <p:grpSpPr>
          <a:xfrm>
            <a:off x="5105520" y="4591080"/>
            <a:ext cx="253800" cy="291960"/>
            <a:chOff x="5105520" y="4591080"/>
            <a:chExt cx="253800" cy="291960"/>
          </a:xfrm>
        </p:grpSpPr>
        <p:sp>
          <p:nvSpPr>
            <p:cNvPr id="511" name="Rectangle 174"/>
            <p:cNvSpPr/>
            <p:nvPr/>
          </p:nvSpPr>
          <p:spPr>
            <a:xfrm>
              <a:off x="5105520" y="4591080"/>
              <a:ext cx="25380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175"/>
            <p:cNvSpPr/>
            <p:nvPr/>
          </p:nvSpPr>
          <p:spPr>
            <a:xfrm>
              <a:off x="5173560" y="46306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Group 176"/>
          <p:cNvGrpSpPr/>
          <p:nvPr/>
        </p:nvGrpSpPr>
        <p:grpSpPr>
          <a:xfrm>
            <a:off x="4159080" y="5645160"/>
            <a:ext cx="254160" cy="291960"/>
            <a:chOff x="4159080" y="5645160"/>
            <a:chExt cx="254160" cy="291960"/>
          </a:xfrm>
        </p:grpSpPr>
        <p:sp>
          <p:nvSpPr>
            <p:cNvPr id="514" name="Rectangle 177"/>
            <p:cNvSpPr/>
            <p:nvPr/>
          </p:nvSpPr>
          <p:spPr>
            <a:xfrm>
              <a:off x="4159080" y="564516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78"/>
            <p:cNvSpPr/>
            <p:nvPr/>
          </p:nvSpPr>
          <p:spPr>
            <a:xfrm>
              <a:off x="4227480" y="56847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Group 179"/>
          <p:cNvGrpSpPr/>
          <p:nvPr/>
        </p:nvGrpSpPr>
        <p:grpSpPr>
          <a:xfrm>
            <a:off x="3340080" y="5657760"/>
            <a:ext cx="254160" cy="291960"/>
            <a:chOff x="3340080" y="5657760"/>
            <a:chExt cx="254160" cy="291960"/>
          </a:xfrm>
        </p:grpSpPr>
        <p:sp>
          <p:nvSpPr>
            <p:cNvPr id="517" name="Rectangle 180"/>
            <p:cNvSpPr/>
            <p:nvPr/>
          </p:nvSpPr>
          <p:spPr>
            <a:xfrm>
              <a:off x="3340080" y="565776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81"/>
            <p:cNvSpPr/>
            <p:nvPr/>
          </p:nvSpPr>
          <p:spPr>
            <a:xfrm>
              <a:off x="3408480" y="56973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Group 182"/>
          <p:cNvGrpSpPr/>
          <p:nvPr/>
        </p:nvGrpSpPr>
        <p:grpSpPr>
          <a:xfrm>
            <a:off x="3143160" y="4572000"/>
            <a:ext cx="254160" cy="291960"/>
            <a:chOff x="3143160" y="4572000"/>
            <a:chExt cx="254160" cy="291960"/>
          </a:xfrm>
        </p:grpSpPr>
        <p:sp>
          <p:nvSpPr>
            <p:cNvPr id="520" name="Rectangle 183"/>
            <p:cNvSpPr/>
            <p:nvPr/>
          </p:nvSpPr>
          <p:spPr>
            <a:xfrm>
              <a:off x="3143160" y="457200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84"/>
            <p:cNvSpPr/>
            <p:nvPr/>
          </p:nvSpPr>
          <p:spPr>
            <a:xfrm>
              <a:off x="3211560" y="4611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Group 185"/>
          <p:cNvGrpSpPr/>
          <p:nvPr/>
        </p:nvGrpSpPr>
        <p:grpSpPr>
          <a:xfrm>
            <a:off x="2101680" y="5664240"/>
            <a:ext cx="254160" cy="291960"/>
            <a:chOff x="2101680" y="5664240"/>
            <a:chExt cx="254160" cy="291960"/>
          </a:xfrm>
        </p:grpSpPr>
        <p:sp>
          <p:nvSpPr>
            <p:cNvPr id="523" name="Rectangle 186"/>
            <p:cNvSpPr/>
            <p:nvPr/>
          </p:nvSpPr>
          <p:spPr>
            <a:xfrm>
              <a:off x="2101680" y="566424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187"/>
            <p:cNvSpPr/>
            <p:nvPr/>
          </p:nvSpPr>
          <p:spPr>
            <a:xfrm>
              <a:off x="2170080" y="57038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188"/>
          <p:cNvGrpSpPr/>
          <p:nvPr/>
        </p:nvGrpSpPr>
        <p:grpSpPr>
          <a:xfrm>
            <a:off x="1162080" y="4565520"/>
            <a:ext cx="253800" cy="291960"/>
            <a:chOff x="1162080" y="4565520"/>
            <a:chExt cx="253800" cy="291960"/>
          </a:xfrm>
        </p:grpSpPr>
        <p:sp>
          <p:nvSpPr>
            <p:cNvPr id="526" name="Rectangle 189"/>
            <p:cNvSpPr/>
            <p:nvPr/>
          </p:nvSpPr>
          <p:spPr>
            <a:xfrm>
              <a:off x="1162080" y="4565520"/>
              <a:ext cx="25380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Rectangle 190"/>
            <p:cNvSpPr/>
            <p:nvPr/>
          </p:nvSpPr>
          <p:spPr>
            <a:xfrm>
              <a:off x="1230120" y="4605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E9AB-CC6D-4774-BB47-272316AACC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205"/>
          <p:cNvSpPr/>
          <p:nvPr/>
        </p:nvSpPr>
        <p:spPr>
          <a:xfrm>
            <a:off x="762120" y="2057400"/>
            <a:ext cx="769608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Simplest Temporal Difference (TD)  Method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531" name="Freeform 3"/>
          <p:cNvSpPr/>
          <p:nvPr/>
        </p:nvSpPr>
        <p:spPr>
          <a:xfrm>
            <a:off x="4264200" y="2085840"/>
            <a:ext cx="1852560" cy="1636920"/>
          </a:xfrm>
          <a:custGeom>
            <a:avLst/>
            <a:gdLst>
              <a:gd name="textAreaLeft" fmla="*/ 0 w 1852560"/>
              <a:gd name="textAreaRight" fmla="*/ 1852920 w 18525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1167" h="1031">
                <a:moveTo>
                  <a:pt x="57" y="31"/>
                </a:moveTo>
                <a:lnTo>
                  <a:pt x="245" y="0"/>
                </a:lnTo>
                <a:lnTo>
                  <a:pt x="414" y="62"/>
                </a:lnTo>
                <a:lnTo>
                  <a:pt x="819" y="245"/>
                </a:lnTo>
                <a:lnTo>
                  <a:pt x="1054" y="307"/>
                </a:lnTo>
                <a:lnTo>
                  <a:pt x="1167" y="460"/>
                </a:lnTo>
                <a:lnTo>
                  <a:pt x="988" y="746"/>
                </a:lnTo>
                <a:lnTo>
                  <a:pt x="800" y="991"/>
                </a:lnTo>
                <a:lnTo>
                  <a:pt x="631" y="1031"/>
                </a:lnTo>
                <a:lnTo>
                  <a:pt x="537" y="960"/>
                </a:lnTo>
                <a:lnTo>
                  <a:pt x="537" y="746"/>
                </a:lnTo>
                <a:lnTo>
                  <a:pt x="781" y="541"/>
                </a:lnTo>
                <a:lnTo>
                  <a:pt x="490" y="490"/>
                </a:lnTo>
                <a:lnTo>
                  <a:pt x="339" y="470"/>
                </a:lnTo>
                <a:lnTo>
                  <a:pt x="179" y="388"/>
                </a:lnTo>
                <a:lnTo>
                  <a:pt x="19" y="296"/>
                </a:lnTo>
                <a:lnTo>
                  <a:pt x="0" y="143"/>
                </a:lnTo>
                <a:lnTo>
                  <a:pt x="28" y="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Freeform 4"/>
          <p:cNvSpPr/>
          <p:nvPr/>
        </p:nvSpPr>
        <p:spPr>
          <a:xfrm>
            <a:off x="4280040" y="2119320"/>
            <a:ext cx="1778040" cy="158760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120" h="1000">
                <a:moveTo>
                  <a:pt x="47" y="10"/>
                </a:moveTo>
                <a:lnTo>
                  <a:pt x="66" y="10"/>
                </a:lnTo>
                <a:lnTo>
                  <a:pt x="122" y="0"/>
                </a:lnTo>
                <a:lnTo>
                  <a:pt x="150" y="0"/>
                </a:lnTo>
                <a:lnTo>
                  <a:pt x="188" y="0"/>
                </a:lnTo>
                <a:lnTo>
                  <a:pt x="226" y="0"/>
                </a:lnTo>
                <a:lnTo>
                  <a:pt x="263" y="0"/>
                </a:lnTo>
                <a:lnTo>
                  <a:pt x="282" y="0"/>
                </a:lnTo>
                <a:lnTo>
                  <a:pt x="310" y="10"/>
                </a:lnTo>
                <a:lnTo>
                  <a:pt x="320" y="10"/>
                </a:lnTo>
                <a:lnTo>
                  <a:pt x="329" y="10"/>
                </a:lnTo>
                <a:lnTo>
                  <a:pt x="348" y="20"/>
                </a:lnTo>
                <a:lnTo>
                  <a:pt x="376" y="30"/>
                </a:lnTo>
                <a:lnTo>
                  <a:pt x="423" y="51"/>
                </a:lnTo>
                <a:lnTo>
                  <a:pt x="442" y="61"/>
                </a:lnTo>
                <a:lnTo>
                  <a:pt x="489" y="81"/>
                </a:lnTo>
                <a:lnTo>
                  <a:pt x="536" y="102"/>
                </a:lnTo>
                <a:lnTo>
                  <a:pt x="583" y="122"/>
                </a:lnTo>
                <a:lnTo>
                  <a:pt x="602" y="133"/>
                </a:lnTo>
                <a:lnTo>
                  <a:pt x="621" y="143"/>
                </a:lnTo>
                <a:lnTo>
                  <a:pt x="668" y="163"/>
                </a:lnTo>
                <a:lnTo>
                  <a:pt x="715" y="184"/>
                </a:lnTo>
                <a:lnTo>
                  <a:pt x="771" y="204"/>
                </a:lnTo>
                <a:lnTo>
                  <a:pt x="800" y="214"/>
                </a:lnTo>
                <a:lnTo>
                  <a:pt x="847" y="235"/>
                </a:lnTo>
                <a:lnTo>
                  <a:pt x="884" y="245"/>
                </a:lnTo>
                <a:lnTo>
                  <a:pt x="913" y="255"/>
                </a:lnTo>
                <a:lnTo>
                  <a:pt x="922" y="255"/>
                </a:lnTo>
                <a:lnTo>
                  <a:pt x="960" y="265"/>
                </a:lnTo>
                <a:lnTo>
                  <a:pt x="1007" y="286"/>
                </a:lnTo>
                <a:lnTo>
                  <a:pt x="1044" y="306"/>
                </a:lnTo>
                <a:lnTo>
                  <a:pt x="1082" y="337"/>
                </a:lnTo>
                <a:lnTo>
                  <a:pt x="1101" y="357"/>
                </a:lnTo>
                <a:lnTo>
                  <a:pt x="1110" y="367"/>
                </a:lnTo>
                <a:lnTo>
                  <a:pt x="1120" y="398"/>
                </a:lnTo>
                <a:lnTo>
                  <a:pt x="1120" y="408"/>
                </a:lnTo>
                <a:lnTo>
                  <a:pt x="1120" y="449"/>
                </a:lnTo>
                <a:lnTo>
                  <a:pt x="1120" y="459"/>
                </a:lnTo>
                <a:lnTo>
                  <a:pt x="1110" y="490"/>
                </a:lnTo>
                <a:lnTo>
                  <a:pt x="1091" y="531"/>
                </a:lnTo>
                <a:lnTo>
                  <a:pt x="1073" y="571"/>
                </a:lnTo>
                <a:lnTo>
                  <a:pt x="1063" y="582"/>
                </a:lnTo>
                <a:lnTo>
                  <a:pt x="1026" y="653"/>
                </a:lnTo>
                <a:lnTo>
                  <a:pt x="931" y="786"/>
                </a:lnTo>
                <a:lnTo>
                  <a:pt x="884" y="847"/>
                </a:lnTo>
                <a:lnTo>
                  <a:pt x="875" y="857"/>
                </a:lnTo>
                <a:lnTo>
                  <a:pt x="847" y="898"/>
                </a:lnTo>
                <a:lnTo>
                  <a:pt x="818" y="919"/>
                </a:lnTo>
                <a:lnTo>
                  <a:pt x="800" y="939"/>
                </a:lnTo>
                <a:lnTo>
                  <a:pt x="790" y="949"/>
                </a:lnTo>
                <a:lnTo>
                  <a:pt x="753" y="970"/>
                </a:lnTo>
                <a:lnTo>
                  <a:pt x="734" y="980"/>
                </a:lnTo>
                <a:lnTo>
                  <a:pt x="715" y="990"/>
                </a:lnTo>
                <a:lnTo>
                  <a:pt x="706" y="990"/>
                </a:lnTo>
                <a:lnTo>
                  <a:pt x="677" y="1000"/>
                </a:lnTo>
                <a:lnTo>
                  <a:pt x="640" y="1000"/>
                </a:lnTo>
                <a:lnTo>
                  <a:pt x="611" y="990"/>
                </a:lnTo>
                <a:lnTo>
                  <a:pt x="583" y="980"/>
                </a:lnTo>
                <a:lnTo>
                  <a:pt x="574" y="970"/>
                </a:lnTo>
                <a:lnTo>
                  <a:pt x="555" y="959"/>
                </a:lnTo>
                <a:lnTo>
                  <a:pt x="546" y="939"/>
                </a:lnTo>
                <a:lnTo>
                  <a:pt x="536" y="908"/>
                </a:lnTo>
                <a:lnTo>
                  <a:pt x="527" y="857"/>
                </a:lnTo>
                <a:lnTo>
                  <a:pt x="527" y="827"/>
                </a:lnTo>
                <a:lnTo>
                  <a:pt x="527" y="816"/>
                </a:lnTo>
                <a:lnTo>
                  <a:pt x="527" y="796"/>
                </a:lnTo>
                <a:lnTo>
                  <a:pt x="536" y="765"/>
                </a:lnTo>
                <a:lnTo>
                  <a:pt x="546" y="745"/>
                </a:lnTo>
                <a:lnTo>
                  <a:pt x="564" y="714"/>
                </a:lnTo>
                <a:lnTo>
                  <a:pt x="583" y="694"/>
                </a:lnTo>
                <a:lnTo>
                  <a:pt x="611" y="653"/>
                </a:lnTo>
                <a:lnTo>
                  <a:pt x="640" y="633"/>
                </a:lnTo>
                <a:lnTo>
                  <a:pt x="649" y="623"/>
                </a:lnTo>
                <a:lnTo>
                  <a:pt x="658" y="612"/>
                </a:lnTo>
                <a:lnTo>
                  <a:pt x="687" y="582"/>
                </a:lnTo>
                <a:lnTo>
                  <a:pt x="696" y="571"/>
                </a:lnTo>
                <a:lnTo>
                  <a:pt x="706" y="541"/>
                </a:lnTo>
                <a:lnTo>
                  <a:pt x="706" y="531"/>
                </a:lnTo>
                <a:lnTo>
                  <a:pt x="687" y="510"/>
                </a:lnTo>
                <a:lnTo>
                  <a:pt x="668" y="500"/>
                </a:lnTo>
                <a:lnTo>
                  <a:pt x="640" y="490"/>
                </a:lnTo>
                <a:lnTo>
                  <a:pt x="621" y="490"/>
                </a:lnTo>
                <a:lnTo>
                  <a:pt x="593" y="490"/>
                </a:lnTo>
                <a:lnTo>
                  <a:pt x="527" y="480"/>
                </a:lnTo>
                <a:lnTo>
                  <a:pt x="470" y="469"/>
                </a:lnTo>
                <a:lnTo>
                  <a:pt x="423" y="459"/>
                </a:lnTo>
                <a:lnTo>
                  <a:pt x="404" y="459"/>
                </a:lnTo>
                <a:lnTo>
                  <a:pt x="386" y="459"/>
                </a:lnTo>
                <a:lnTo>
                  <a:pt x="348" y="449"/>
                </a:lnTo>
                <a:lnTo>
                  <a:pt x="310" y="439"/>
                </a:lnTo>
                <a:lnTo>
                  <a:pt x="263" y="418"/>
                </a:lnTo>
                <a:lnTo>
                  <a:pt x="244" y="408"/>
                </a:lnTo>
                <a:lnTo>
                  <a:pt x="207" y="388"/>
                </a:lnTo>
                <a:lnTo>
                  <a:pt x="131" y="347"/>
                </a:lnTo>
                <a:lnTo>
                  <a:pt x="84" y="316"/>
                </a:lnTo>
                <a:lnTo>
                  <a:pt x="66" y="306"/>
                </a:lnTo>
                <a:lnTo>
                  <a:pt x="37" y="286"/>
                </a:lnTo>
                <a:lnTo>
                  <a:pt x="18" y="255"/>
                </a:lnTo>
                <a:lnTo>
                  <a:pt x="0" y="214"/>
                </a:lnTo>
                <a:lnTo>
                  <a:pt x="0" y="194"/>
                </a:lnTo>
                <a:lnTo>
                  <a:pt x="0" y="184"/>
                </a:lnTo>
                <a:lnTo>
                  <a:pt x="0" y="143"/>
                </a:lnTo>
                <a:lnTo>
                  <a:pt x="0" y="112"/>
                </a:lnTo>
                <a:lnTo>
                  <a:pt x="9" y="81"/>
                </a:lnTo>
                <a:lnTo>
                  <a:pt x="18" y="61"/>
                </a:lnTo>
              </a:path>
            </a:pathLst>
          </a:custGeom>
          <a:solidFill>
            <a:srgbClr val="cb4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5"/>
          <p:cNvGrpSpPr/>
          <p:nvPr/>
        </p:nvGrpSpPr>
        <p:grpSpPr>
          <a:xfrm>
            <a:off x="1201680" y="2281320"/>
            <a:ext cx="6797880" cy="3792600"/>
            <a:chOff x="1201680" y="2281320"/>
            <a:chExt cx="6797880" cy="3792600"/>
          </a:xfrm>
        </p:grpSpPr>
        <p:sp>
          <p:nvSpPr>
            <p:cNvPr id="534" name="Oval 6"/>
            <p:cNvSpPr/>
            <p:nvPr/>
          </p:nvSpPr>
          <p:spPr>
            <a:xfrm>
              <a:off x="3024360" y="2782800"/>
              <a:ext cx="104760" cy="986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7"/>
            <p:cNvSpPr/>
            <p:nvPr/>
          </p:nvSpPr>
          <p:spPr>
            <a:xfrm>
              <a:off x="6848640" y="3301920"/>
              <a:ext cx="164880" cy="1954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8"/>
            <p:cNvSpPr/>
            <p:nvPr/>
          </p:nvSpPr>
          <p:spPr>
            <a:xfrm>
              <a:off x="6550200" y="4437000"/>
              <a:ext cx="1792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9"/>
            <p:cNvSpPr/>
            <p:nvPr/>
          </p:nvSpPr>
          <p:spPr>
            <a:xfrm>
              <a:off x="6594480" y="3803760"/>
              <a:ext cx="10476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10"/>
            <p:cNvSpPr/>
            <p:nvPr/>
          </p:nvSpPr>
          <p:spPr>
            <a:xfrm>
              <a:off x="7551720" y="4437000"/>
              <a:ext cx="1634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11"/>
            <p:cNvSpPr/>
            <p:nvPr/>
          </p:nvSpPr>
          <p:spPr>
            <a:xfrm>
              <a:off x="7058160" y="4437000"/>
              <a:ext cx="1648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12"/>
            <p:cNvSpPr/>
            <p:nvPr/>
          </p:nvSpPr>
          <p:spPr>
            <a:xfrm>
              <a:off x="7356600" y="3803760"/>
              <a:ext cx="104760" cy="982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13"/>
            <p:cNvSpPr/>
            <p:nvPr/>
          </p:nvSpPr>
          <p:spPr>
            <a:xfrm flipH="1">
              <a:off x="6640200" y="3479760"/>
              <a:ext cx="237960" cy="341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4"/>
            <p:cNvSpPr/>
            <p:nvPr/>
          </p:nvSpPr>
          <p:spPr>
            <a:xfrm>
              <a:off x="6983280" y="3448080"/>
              <a:ext cx="4032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5"/>
            <p:cNvSpPr/>
            <p:nvPr/>
          </p:nvSpPr>
          <p:spPr>
            <a:xfrm>
              <a:off x="6640560" y="3902040"/>
              <a:ext cx="1440" cy="517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6"/>
            <p:cNvSpPr/>
            <p:nvPr/>
          </p:nvSpPr>
          <p:spPr>
            <a:xfrm>
              <a:off x="7432560" y="3886200"/>
              <a:ext cx="17784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17"/>
            <p:cNvSpPr/>
            <p:nvPr/>
          </p:nvSpPr>
          <p:spPr>
            <a:xfrm flipH="1">
              <a:off x="7148520" y="3902040"/>
              <a:ext cx="22392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18"/>
            <p:cNvSpPr/>
            <p:nvPr/>
          </p:nvSpPr>
          <p:spPr>
            <a:xfrm>
              <a:off x="1978200" y="3301920"/>
              <a:ext cx="164880" cy="1954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19"/>
            <p:cNvSpPr/>
            <p:nvPr/>
          </p:nvSpPr>
          <p:spPr>
            <a:xfrm>
              <a:off x="1739880" y="4437000"/>
              <a:ext cx="1634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20"/>
            <p:cNvSpPr/>
            <p:nvPr/>
          </p:nvSpPr>
          <p:spPr>
            <a:xfrm>
              <a:off x="1246320" y="4437000"/>
              <a:ext cx="1648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21"/>
            <p:cNvSpPr/>
            <p:nvPr/>
          </p:nvSpPr>
          <p:spPr>
            <a:xfrm>
              <a:off x="1544760" y="3803760"/>
              <a:ext cx="104760" cy="982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22"/>
            <p:cNvSpPr/>
            <p:nvPr/>
          </p:nvSpPr>
          <p:spPr>
            <a:xfrm>
              <a:off x="2187720" y="4437000"/>
              <a:ext cx="1648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23"/>
            <p:cNvSpPr/>
            <p:nvPr/>
          </p:nvSpPr>
          <p:spPr>
            <a:xfrm>
              <a:off x="2486160" y="3803760"/>
              <a:ext cx="104760" cy="982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24"/>
            <p:cNvSpPr/>
            <p:nvPr/>
          </p:nvSpPr>
          <p:spPr>
            <a:xfrm flipH="1">
              <a:off x="1604520" y="3463920"/>
              <a:ext cx="37332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25"/>
            <p:cNvSpPr/>
            <p:nvPr/>
          </p:nvSpPr>
          <p:spPr>
            <a:xfrm>
              <a:off x="2112840" y="3463920"/>
              <a:ext cx="403200" cy="33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26"/>
            <p:cNvSpPr/>
            <p:nvPr/>
          </p:nvSpPr>
          <p:spPr>
            <a:xfrm flipH="1">
              <a:off x="1336680" y="3886200"/>
              <a:ext cx="22392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27"/>
            <p:cNvSpPr/>
            <p:nvPr/>
          </p:nvSpPr>
          <p:spPr>
            <a:xfrm>
              <a:off x="1604880" y="3886200"/>
              <a:ext cx="19368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28"/>
            <p:cNvSpPr/>
            <p:nvPr/>
          </p:nvSpPr>
          <p:spPr>
            <a:xfrm flipH="1">
              <a:off x="2276640" y="3902040"/>
              <a:ext cx="22536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29"/>
            <p:cNvSpPr/>
            <p:nvPr/>
          </p:nvSpPr>
          <p:spPr>
            <a:xfrm>
              <a:off x="3457440" y="3301920"/>
              <a:ext cx="165240" cy="1954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30"/>
            <p:cNvSpPr/>
            <p:nvPr/>
          </p:nvSpPr>
          <p:spPr>
            <a:xfrm>
              <a:off x="3173400" y="4437000"/>
              <a:ext cx="1792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31"/>
            <p:cNvSpPr/>
            <p:nvPr/>
          </p:nvSpPr>
          <p:spPr>
            <a:xfrm>
              <a:off x="2725560" y="4437000"/>
              <a:ext cx="16380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32"/>
            <p:cNvSpPr/>
            <p:nvPr/>
          </p:nvSpPr>
          <p:spPr>
            <a:xfrm>
              <a:off x="3218040" y="3803760"/>
              <a:ext cx="9036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33"/>
            <p:cNvSpPr/>
            <p:nvPr/>
          </p:nvSpPr>
          <p:spPr>
            <a:xfrm>
              <a:off x="4159080" y="4437000"/>
              <a:ext cx="1652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34"/>
            <p:cNvSpPr/>
            <p:nvPr/>
          </p:nvSpPr>
          <p:spPr>
            <a:xfrm>
              <a:off x="3666960" y="4437000"/>
              <a:ext cx="16380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35"/>
            <p:cNvSpPr/>
            <p:nvPr/>
          </p:nvSpPr>
          <p:spPr>
            <a:xfrm>
              <a:off x="3965400" y="3803760"/>
              <a:ext cx="105120" cy="982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36"/>
            <p:cNvSpPr/>
            <p:nvPr/>
          </p:nvSpPr>
          <p:spPr>
            <a:xfrm flipH="1">
              <a:off x="3278160" y="3463920"/>
              <a:ext cx="193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37"/>
            <p:cNvSpPr/>
            <p:nvPr/>
          </p:nvSpPr>
          <p:spPr>
            <a:xfrm>
              <a:off x="3592440" y="3463920"/>
              <a:ext cx="403200" cy="33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38"/>
            <p:cNvSpPr/>
            <p:nvPr/>
          </p:nvSpPr>
          <p:spPr>
            <a:xfrm>
              <a:off x="3247920" y="3902040"/>
              <a:ext cx="1800" cy="53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39"/>
            <p:cNvSpPr/>
            <p:nvPr/>
          </p:nvSpPr>
          <p:spPr>
            <a:xfrm>
              <a:off x="4040280" y="3886200"/>
              <a:ext cx="17928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40"/>
            <p:cNvSpPr/>
            <p:nvPr/>
          </p:nvSpPr>
          <p:spPr>
            <a:xfrm flipH="1">
              <a:off x="3755880" y="3902040"/>
              <a:ext cx="22392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41"/>
            <p:cNvSpPr/>
            <p:nvPr/>
          </p:nvSpPr>
          <p:spPr>
            <a:xfrm>
              <a:off x="5340240" y="3301920"/>
              <a:ext cx="163800" cy="1954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0" name="Group 42"/>
            <p:cNvGrpSpPr/>
            <p:nvPr/>
          </p:nvGrpSpPr>
          <p:grpSpPr>
            <a:xfrm>
              <a:off x="4608360" y="3803760"/>
              <a:ext cx="657360" cy="826920"/>
              <a:chOff x="4608360" y="3803760"/>
              <a:chExt cx="657360" cy="826920"/>
            </a:xfrm>
          </p:grpSpPr>
          <p:sp>
            <p:nvSpPr>
              <p:cNvPr id="571" name="Oval 43"/>
              <p:cNvSpPr/>
              <p:nvPr/>
            </p:nvSpPr>
            <p:spPr>
              <a:xfrm>
                <a:off x="5100480" y="4437000"/>
                <a:ext cx="165240" cy="19368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Oval 44"/>
              <p:cNvSpPr/>
              <p:nvPr/>
            </p:nvSpPr>
            <p:spPr>
              <a:xfrm>
                <a:off x="4608360" y="4437000"/>
                <a:ext cx="163800" cy="19368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Oval 45"/>
              <p:cNvSpPr/>
              <p:nvPr/>
            </p:nvSpPr>
            <p:spPr>
              <a:xfrm>
                <a:off x="4906800" y="3803760"/>
                <a:ext cx="104760" cy="98280"/>
              </a:xfrm>
              <a:prstGeom prst="ellipse">
                <a:avLst/>
              </a:prstGeom>
              <a:solidFill>
                <a:srgbClr val="0000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46"/>
            <p:cNvGrpSpPr/>
            <p:nvPr/>
          </p:nvGrpSpPr>
          <p:grpSpPr>
            <a:xfrm>
              <a:off x="5549760" y="3803760"/>
              <a:ext cx="657360" cy="826920"/>
              <a:chOff x="5549760" y="3803760"/>
              <a:chExt cx="657360" cy="826920"/>
            </a:xfrm>
          </p:grpSpPr>
          <p:sp>
            <p:nvSpPr>
              <p:cNvPr id="575" name="Oval 47"/>
              <p:cNvSpPr/>
              <p:nvPr/>
            </p:nvSpPr>
            <p:spPr>
              <a:xfrm>
                <a:off x="6041880" y="4437000"/>
                <a:ext cx="165240" cy="19368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8"/>
              <p:cNvSpPr/>
              <p:nvPr/>
            </p:nvSpPr>
            <p:spPr>
              <a:xfrm>
                <a:off x="5549760" y="4437000"/>
                <a:ext cx="163800" cy="19368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49"/>
              <p:cNvSpPr/>
              <p:nvPr/>
            </p:nvSpPr>
            <p:spPr>
              <a:xfrm>
                <a:off x="5848200" y="3803760"/>
                <a:ext cx="104760" cy="98280"/>
              </a:xfrm>
              <a:prstGeom prst="ellipse">
                <a:avLst/>
              </a:prstGeom>
              <a:solidFill>
                <a:srgbClr val="0000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8" name="Line 50"/>
            <p:cNvSpPr/>
            <p:nvPr/>
          </p:nvSpPr>
          <p:spPr>
            <a:xfrm flipH="1">
              <a:off x="4967280" y="3463920"/>
              <a:ext cx="37296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51"/>
            <p:cNvSpPr/>
            <p:nvPr/>
          </p:nvSpPr>
          <p:spPr>
            <a:xfrm>
              <a:off x="5475240" y="3463920"/>
              <a:ext cx="403200" cy="33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52"/>
            <p:cNvSpPr/>
            <p:nvPr/>
          </p:nvSpPr>
          <p:spPr>
            <a:xfrm flipH="1">
              <a:off x="4697280" y="3886200"/>
              <a:ext cx="22392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53"/>
            <p:cNvSpPr/>
            <p:nvPr/>
          </p:nvSpPr>
          <p:spPr>
            <a:xfrm>
              <a:off x="4967280" y="3886200"/>
              <a:ext cx="19368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54"/>
            <p:cNvSpPr/>
            <p:nvPr/>
          </p:nvSpPr>
          <p:spPr>
            <a:xfrm>
              <a:off x="5923080" y="3886200"/>
              <a:ext cx="17928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55"/>
            <p:cNvSpPr/>
            <p:nvPr/>
          </p:nvSpPr>
          <p:spPr>
            <a:xfrm flipH="1">
              <a:off x="5638680" y="3902040"/>
              <a:ext cx="223920" cy="550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56"/>
            <p:cNvSpPr/>
            <p:nvPr/>
          </p:nvSpPr>
          <p:spPr>
            <a:xfrm>
              <a:off x="4398840" y="2281320"/>
              <a:ext cx="16380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57"/>
            <p:cNvSpPr/>
            <p:nvPr/>
          </p:nvSpPr>
          <p:spPr>
            <a:xfrm>
              <a:off x="5848200" y="2782800"/>
              <a:ext cx="104760" cy="986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58"/>
            <p:cNvSpPr/>
            <p:nvPr/>
          </p:nvSpPr>
          <p:spPr>
            <a:xfrm flipH="1">
              <a:off x="3114360" y="2411280"/>
              <a:ext cx="1284120" cy="389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59"/>
            <p:cNvSpPr/>
            <p:nvPr/>
          </p:nvSpPr>
          <p:spPr>
            <a:xfrm>
              <a:off x="4548240" y="2411280"/>
              <a:ext cx="1314360" cy="389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60"/>
            <p:cNvSpPr/>
            <p:nvPr/>
          </p:nvSpPr>
          <p:spPr>
            <a:xfrm>
              <a:off x="3084480" y="2863800"/>
              <a:ext cx="387360" cy="45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61"/>
            <p:cNvSpPr/>
            <p:nvPr/>
          </p:nvSpPr>
          <p:spPr>
            <a:xfrm flipH="1">
              <a:off x="2112840" y="2847960"/>
              <a:ext cx="911520" cy="48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62"/>
            <p:cNvSpPr/>
            <p:nvPr/>
          </p:nvSpPr>
          <p:spPr>
            <a:xfrm>
              <a:off x="5923080" y="2847960"/>
              <a:ext cx="941400" cy="48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63"/>
            <p:cNvSpPr/>
            <p:nvPr/>
          </p:nvSpPr>
          <p:spPr>
            <a:xfrm flipH="1">
              <a:off x="5475240" y="2863800"/>
              <a:ext cx="387360" cy="469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64"/>
            <p:cNvSpPr/>
            <p:nvPr/>
          </p:nvSpPr>
          <p:spPr>
            <a:xfrm>
              <a:off x="2546280" y="3886200"/>
              <a:ext cx="238320" cy="566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65"/>
            <p:cNvSpPr/>
            <p:nvPr/>
          </p:nvSpPr>
          <p:spPr>
            <a:xfrm>
              <a:off x="1395360" y="5473800"/>
              <a:ext cx="1652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66"/>
            <p:cNvSpPr/>
            <p:nvPr/>
          </p:nvSpPr>
          <p:spPr>
            <a:xfrm>
              <a:off x="1784520" y="5473800"/>
              <a:ext cx="1634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67"/>
            <p:cNvSpPr/>
            <p:nvPr/>
          </p:nvSpPr>
          <p:spPr>
            <a:xfrm>
              <a:off x="2173320" y="5473800"/>
              <a:ext cx="1634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68"/>
            <p:cNvSpPr/>
            <p:nvPr/>
          </p:nvSpPr>
          <p:spPr>
            <a:xfrm>
              <a:off x="2560680" y="5473800"/>
              <a:ext cx="1648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69"/>
            <p:cNvSpPr/>
            <p:nvPr/>
          </p:nvSpPr>
          <p:spPr>
            <a:xfrm>
              <a:off x="2949480" y="5473800"/>
              <a:ext cx="1652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70"/>
            <p:cNvSpPr/>
            <p:nvPr/>
          </p:nvSpPr>
          <p:spPr>
            <a:xfrm>
              <a:off x="3338640" y="5473800"/>
              <a:ext cx="1634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71"/>
            <p:cNvSpPr/>
            <p:nvPr/>
          </p:nvSpPr>
          <p:spPr>
            <a:xfrm>
              <a:off x="3772080" y="5457960"/>
              <a:ext cx="1792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Oval 72"/>
            <p:cNvSpPr/>
            <p:nvPr/>
          </p:nvSpPr>
          <p:spPr>
            <a:xfrm>
              <a:off x="4159080" y="5473800"/>
              <a:ext cx="1796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73"/>
            <p:cNvSpPr/>
            <p:nvPr/>
          </p:nvSpPr>
          <p:spPr>
            <a:xfrm>
              <a:off x="4518000" y="5473800"/>
              <a:ext cx="1792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74"/>
            <p:cNvSpPr/>
            <p:nvPr/>
          </p:nvSpPr>
          <p:spPr>
            <a:xfrm>
              <a:off x="4937040" y="5473800"/>
              <a:ext cx="1796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75"/>
            <p:cNvSpPr/>
            <p:nvPr/>
          </p:nvSpPr>
          <p:spPr>
            <a:xfrm>
              <a:off x="5324400" y="5473800"/>
              <a:ext cx="1796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76"/>
            <p:cNvSpPr/>
            <p:nvPr/>
          </p:nvSpPr>
          <p:spPr>
            <a:xfrm>
              <a:off x="5713560" y="5473800"/>
              <a:ext cx="1792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77"/>
            <p:cNvSpPr/>
            <p:nvPr/>
          </p:nvSpPr>
          <p:spPr>
            <a:xfrm>
              <a:off x="6102360" y="5473800"/>
              <a:ext cx="17928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78"/>
            <p:cNvSpPr/>
            <p:nvPr/>
          </p:nvSpPr>
          <p:spPr>
            <a:xfrm>
              <a:off x="7297560" y="5473800"/>
              <a:ext cx="16380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79"/>
            <p:cNvSpPr/>
            <p:nvPr/>
          </p:nvSpPr>
          <p:spPr>
            <a:xfrm>
              <a:off x="7686720" y="5473800"/>
              <a:ext cx="163440" cy="1936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80"/>
            <p:cNvSpPr/>
            <p:nvPr/>
          </p:nvSpPr>
          <p:spPr>
            <a:xfrm>
              <a:off x="2187720" y="4970520"/>
              <a:ext cx="10476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Oval 81"/>
            <p:cNvSpPr/>
            <p:nvPr/>
          </p:nvSpPr>
          <p:spPr>
            <a:xfrm>
              <a:off x="1693800" y="4970520"/>
              <a:ext cx="9072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82"/>
            <p:cNvSpPr/>
            <p:nvPr/>
          </p:nvSpPr>
          <p:spPr>
            <a:xfrm flipH="1">
              <a:off x="1739520" y="4614840"/>
              <a:ext cx="74520" cy="37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83"/>
            <p:cNvSpPr/>
            <p:nvPr/>
          </p:nvSpPr>
          <p:spPr>
            <a:xfrm flipH="1">
              <a:off x="1485720" y="5068800"/>
              <a:ext cx="237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84"/>
            <p:cNvSpPr/>
            <p:nvPr/>
          </p:nvSpPr>
          <p:spPr>
            <a:xfrm>
              <a:off x="1754280" y="5068800"/>
              <a:ext cx="104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85"/>
            <p:cNvSpPr/>
            <p:nvPr/>
          </p:nvSpPr>
          <p:spPr>
            <a:xfrm flipH="1">
              <a:off x="2232000" y="4614840"/>
              <a:ext cx="302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86"/>
            <p:cNvSpPr/>
            <p:nvPr/>
          </p:nvSpPr>
          <p:spPr>
            <a:xfrm>
              <a:off x="2232000" y="5068800"/>
              <a:ext cx="144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87"/>
            <p:cNvSpPr/>
            <p:nvPr/>
          </p:nvSpPr>
          <p:spPr>
            <a:xfrm>
              <a:off x="2784600" y="4970520"/>
              <a:ext cx="9036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88"/>
            <p:cNvSpPr/>
            <p:nvPr/>
          </p:nvSpPr>
          <p:spPr>
            <a:xfrm>
              <a:off x="2800440" y="4614840"/>
              <a:ext cx="140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89"/>
            <p:cNvSpPr/>
            <p:nvPr/>
          </p:nvSpPr>
          <p:spPr>
            <a:xfrm flipH="1">
              <a:off x="2650680" y="5051520"/>
              <a:ext cx="149400" cy="422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90"/>
            <p:cNvSpPr/>
            <p:nvPr/>
          </p:nvSpPr>
          <p:spPr>
            <a:xfrm>
              <a:off x="2844720" y="5051520"/>
              <a:ext cx="149400" cy="406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91"/>
            <p:cNvSpPr/>
            <p:nvPr/>
          </p:nvSpPr>
          <p:spPr>
            <a:xfrm>
              <a:off x="3622680" y="4954680"/>
              <a:ext cx="10332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92"/>
            <p:cNvSpPr/>
            <p:nvPr/>
          </p:nvSpPr>
          <p:spPr>
            <a:xfrm flipH="1">
              <a:off x="3666960" y="4614840"/>
              <a:ext cx="590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93"/>
            <p:cNvSpPr/>
            <p:nvPr/>
          </p:nvSpPr>
          <p:spPr>
            <a:xfrm flipH="1">
              <a:off x="3443040" y="5019840"/>
              <a:ext cx="207720" cy="45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94"/>
            <p:cNvSpPr/>
            <p:nvPr/>
          </p:nvSpPr>
          <p:spPr>
            <a:xfrm>
              <a:off x="3681360" y="5035680"/>
              <a:ext cx="149400" cy="4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95"/>
            <p:cNvSpPr/>
            <p:nvPr/>
          </p:nvSpPr>
          <p:spPr>
            <a:xfrm>
              <a:off x="4189320" y="4970520"/>
              <a:ext cx="10476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96"/>
            <p:cNvSpPr/>
            <p:nvPr/>
          </p:nvSpPr>
          <p:spPr>
            <a:xfrm>
              <a:off x="4233960" y="4630680"/>
              <a:ext cx="1440" cy="324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7"/>
            <p:cNvSpPr/>
            <p:nvPr/>
          </p:nvSpPr>
          <p:spPr>
            <a:xfrm>
              <a:off x="4233960" y="5068800"/>
              <a:ext cx="144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98"/>
            <p:cNvSpPr/>
            <p:nvPr/>
          </p:nvSpPr>
          <p:spPr>
            <a:xfrm>
              <a:off x="4638600" y="4970520"/>
              <a:ext cx="103320" cy="982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99"/>
            <p:cNvSpPr/>
            <p:nvPr/>
          </p:nvSpPr>
          <p:spPr>
            <a:xfrm>
              <a:off x="4683240" y="4614840"/>
              <a:ext cx="1440" cy="33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00"/>
            <p:cNvSpPr/>
            <p:nvPr/>
          </p:nvSpPr>
          <p:spPr>
            <a:xfrm flipH="1">
              <a:off x="4608360" y="5051520"/>
              <a:ext cx="44640" cy="406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101"/>
            <p:cNvSpPr/>
            <p:nvPr/>
          </p:nvSpPr>
          <p:spPr>
            <a:xfrm>
              <a:off x="5533920" y="4954680"/>
              <a:ext cx="10476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02"/>
            <p:cNvSpPr/>
            <p:nvPr/>
          </p:nvSpPr>
          <p:spPr>
            <a:xfrm>
              <a:off x="4697280" y="5035680"/>
              <a:ext cx="284400" cy="4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03"/>
            <p:cNvSpPr/>
            <p:nvPr/>
          </p:nvSpPr>
          <p:spPr>
            <a:xfrm flipH="1">
              <a:off x="5578560" y="4614840"/>
              <a:ext cx="4608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04"/>
            <p:cNvSpPr/>
            <p:nvPr/>
          </p:nvSpPr>
          <p:spPr>
            <a:xfrm flipH="1">
              <a:off x="5428800" y="5051520"/>
              <a:ext cx="135000" cy="422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05"/>
            <p:cNvSpPr/>
            <p:nvPr/>
          </p:nvSpPr>
          <p:spPr>
            <a:xfrm>
              <a:off x="5594400" y="5051520"/>
              <a:ext cx="193680" cy="422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106"/>
            <p:cNvSpPr/>
            <p:nvPr/>
          </p:nvSpPr>
          <p:spPr>
            <a:xfrm>
              <a:off x="7596360" y="4954680"/>
              <a:ext cx="10476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07"/>
            <p:cNvSpPr/>
            <p:nvPr/>
          </p:nvSpPr>
          <p:spPr>
            <a:xfrm>
              <a:off x="7640640" y="461484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08"/>
            <p:cNvSpPr/>
            <p:nvPr/>
          </p:nvSpPr>
          <p:spPr>
            <a:xfrm>
              <a:off x="7656480" y="5051520"/>
              <a:ext cx="88920" cy="422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09"/>
            <p:cNvSpPr/>
            <p:nvPr/>
          </p:nvSpPr>
          <p:spPr>
            <a:xfrm flipH="1">
              <a:off x="7416720" y="5035680"/>
              <a:ext cx="209520" cy="45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10"/>
            <p:cNvSpPr/>
            <p:nvPr/>
          </p:nvSpPr>
          <p:spPr>
            <a:xfrm>
              <a:off x="6072120" y="4970520"/>
              <a:ext cx="104760" cy="114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11"/>
            <p:cNvSpPr/>
            <p:nvPr/>
          </p:nvSpPr>
          <p:spPr>
            <a:xfrm>
              <a:off x="6116760" y="4614840"/>
              <a:ext cx="1440" cy="38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12"/>
            <p:cNvSpPr/>
            <p:nvPr/>
          </p:nvSpPr>
          <p:spPr>
            <a:xfrm>
              <a:off x="6116760" y="5051520"/>
              <a:ext cx="60120" cy="422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Line 113"/>
            <p:cNvSpPr/>
            <p:nvPr/>
          </p:nvSpPr>
          <p:spPr>
            <a:xfrm>
              <a:off x="1514520" y="5635800"/>
              <a:ext cx="46080" cy="12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Line 114"/>
            <p:cNvSpPr/>
            <p:nvPr/>
          </p:nvSpPr>
          <p:spPr>
            <a:xfrm>
              <a:off x="1859040" y="5651640"/>
              <a:ext cx="1440" cy="9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115"/>
            <p:cNvSpPr/>
            <p:nvPr/>
          </p:nvSpPr>
          <p:spPr>
            <a:xfrm flipH="1">
              <a:off x="1320480" y="5619600"/>
              <a:ext cx="90360" cy="12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116"/>
            <p:cNvSpPr/>
            <p:nvPr/>
          </p:nvSpPr>
          <p:spPr>
            <a:xfrm flipH="1">
              <a:off x="1260360" y="5781600"/>
              <a:ext cx="30240" cy="47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17"/>
            <p:cNvSpPr/>
            <p:nvPr/>
          </p:nvSpPr>
          <p:spPr>
            <a:xfrm flipH="1">
              <a:off x="1201680" y="5878440"/>
              <a:ext cx="30240" cy="49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Line 118"/>
            <p:cNvSpPr/>
            <p:nvPr/>
          </p:nvSpPr>
          <p:spPr>
            <a:xfrm>
              <a:off x="1560600" y="5797440"/>
              <a:ext cx="3024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119"/>
            <p:cNvSpPr/>
            <p:nvPr/>
          </p:nvSpPr>
          <p:spPr>
            <a:xfrm>
              <a:off x="1604880" y="5894280"/>
              <a:ext cx="1440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20"/>
            <p:cNvSpPr/>
            <p:nvPr/>
          </p:nvSpPr>
          <p:spPr>
            <a:xfrm>
              <a:off x="1859040" y="5797440"/>
              <a:ext cx="1440" cy="8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21"/>
            <p:cNvSpPr/>
            <p:nvPr/>
          </p:nvSpPr>
          <p:spPr>
            <a:xfrm>
              <a:off x="1859040" y="5927760"/>
              <a:ext cx="14040" cy="8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22"/>
            <p:cNvSpPr/>
            <p:nvPr/>
          </p:nvSpPr>
          <p:spPr>
            <a:xfrm flipH="1">
              <a:off x="2516040" y="5635800"/>
              <a:ext cx="74880" cy="14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123"/>
            <p:cNvSpPr/>
            <p:nvPr/>
          </p:nvSpPr>
          <p:spPr>
            <a:xfrm>
              <a:off x="2681280" y="5635800"/>
              <a:ext cx="44280" cy="145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124"/>
            <p:cNvSpPr/>
            <p:nvPr/>
          </p:nvSpPr>
          <p:spPr>
            <a:xfrm>
              <a:off x="2755800" y="5829480"/>
              <a:ext cx="28800" cy="8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125"/>
            <p:cNvSpPr/>
            <p:nvPr/>
          </p:nvSpPr>
          <p:spPr>
            <a:xfrm>
              <a:off x="2800440" y="5975280"/>
              <a:ext cx="30240" cy="49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126"/>
            <p:cNvSpPr/>
            <p:nvPr/>
          </p:nvSpPr>
          <p:spPr>
            <a:xfrm flipH="1">
              <a:off x="2455920" y="5813280"/>
              <a:ext cx="3024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127"/>
            <p:cNvSpPr/>
            <p:nvPr/>
          </p:nvSpPr>
          <p:spPr>
            <a:xfrm flipH="1">
              <a:off x="2396880" y="5927760"/>
              <a:ext cx="44280" cy="9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28"/>
            <p:cNvSpPr/>
            <p:nvPr/>
          </p:nvSpPr>
          <p:spPr>
            <a:xfrm>
              <a:off x="3024360" y="5651640"/>
              <a:ext cx="14040" cy="114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129"/>
            <p:cNvSpPr/>
            <p:nvPr/>
          </p:nvSpPr>
          <p:spPr>
            <a:xfrm>
              <a:off x="3038400" y="5846760"/>
              <a:ext cx="1800" cy="8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130"/>
            <p:cNvSpPr/>
            <p:nvPr/>
          </p:nvSpPr>
          <p:spPr>
            <a:xfrm>
              <a:off x="3038400" y="5992920"/>
              <a:ext cx="1800" cy="63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131"/>
            <p:cNvSpPr/>
            <p:nvPr/>
          </p:nvSpPr>
          <p:spPr>
            <a:xfrm flipH="1">
              <a:off x="3755880" y="5635800"/>
              <a:ext cx="60480" cy="12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132"/>
            <p:cNvSpPr/>
            <p:nvPr/>
          </p:nvSpPr>
          <p:spPr>
            <a:xfrm flipH="1">
              <a:off x="3711600" y="5813280"/>
              <a:ext cx="30240" cy="8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33"/>
            <p:cNvSpPr/>
            <p:nvPr/>
          </p:nvSpPr>
          <p:spPr>
            <a:xfrm flipH="1">
              <a:off x="3636720" y="5943600"/>
              <a:ext cx="44280" cy="8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134"/>
            <p:cNvSpPr/>
            <p:nvPr/>
          </p:nvSpPr>
          <p:spPr>
            <a:xfrm>
              <a:off x="3890880" y="5635800"/>
              <a:ext cx="60480" cy="11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135"/>
            <p:cNvSpPr/>
            <p:nvPr/>
          </p:nvSpPr>
          <p:spPr>
            <a:xfrm>
              <a:off x="3979800" y="5797440"/>
              <a:ext cx="3024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136"/>
            <p:cNvSpPr/>
            <p:nvPr/>
          </p:nvSpPr>
          <p:spPr>
            <a:xfrm>
              <a:off x="4040280" y="5927760"/>
              <a:ext cx="3024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137"/>
            <p:cNvSpPr/>
            <p:nvPr/>
          </p:nvSpPr>
          <p:spPr>
            <a:xfrm>
              <a:off x="4592520" y="5651640"/>
              <a:ext cx="1800" cy="12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138"/>
            <p:cNvSpPr/>
            <p:nvPr/>
          </p:nvSpPr>
          <p:spPr>
            <a:xfrm>
              <a:off x="4592520" y="5829480"/>
              <a:ext cx="1800" cy="64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139"/>
            <p:cNvSpPr/>
            <p:nvPr/>
          </p:nvSpPr>
          <p:spPr>
            <a:xfrm>
              <a:off x="4592520" y="5959440"/>
              <a:ext cx="1800" cy="9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40"/>
            <p:cNvSpPr/>
            <p:nvPr/>
          </p:nvSpPr>
          <p:spPr>
            <a:xfrm flipH="1">
              <a:off x="4966920" y="5651640"/>
              <a:ext cx="28440" cy="9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141"/>
            <p:cNvSpPr/>
            <p:nvPr/>
          </p:nvSpPr>
          <p:spPr>
            <a:xfrm flipH="1">
              <a:off x="4921200" y="5781600"/>
              <a:ext cx="30240" cy="8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42"/>
            <p:cNvSpPr/>
            <p:nvPr/>
          </p:nvSpPr>
          <p:spPr>
            <a:xfrm flipH="1">
              <a:off x="4876560" y="5927760"/>
              <a:ext cx="2988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143"/>
            <p:cNvSpPr/>
            <p:nvPr/>
          </p:nvSpPr>
          <p:spPr>
            <a:xfrm>
              <a:off x="5056200" y="5635800"/>
              <a:ext cx="60480" cy="9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144"/>
            <p:cNvSpPr/>
            <p:nvPr/>
          </p:nvSpPr>
          <p:spPr>
            <a:xfrm>
              <a:off x="5146560" y="5781600"/>
              <a:ext cx="2880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145"/>
            <p:cNvSpPr/>
            <p:nvPr/>
          </p:nvSpPr>
          <p:spPr>
            <a:xfrm>
              <a:off x="5191200" y="5911920"/>
              <a:ext cx="44280" cy="63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146"/>
            <p:cNvSpPr/>
            <p:nvPr/>
          </p:nvSpPr>
          <p:spPr>
            <a:xfrm>
              <a:off x="5788080" y="5651640"/>
              <a:ext cx="1440" cy="9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147"/>
            <p:cNvSpPr/>
            <p:nvPr/>
          </p:nvSpPr>
          <p:spPr>
            <a:xfrm>
              <a:off x="5803920" y="5813280"/>
              <a:ext cx="144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148"/>
            <p:cNvSpPr/>
            <p:nvPr/>
          </p:nvSpPr>
          <p:spPr>
            <a:xfrm>
              <a:off x="5803920" y="5911920"/>
              <a:ext cx="1440" cy="8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49"/>
            <p:cNvSpPr/>
            <p:nvPr/>
          </p:nvSpPr>
          <p:spPr>
            <a:xfrm>
              <a:off x="7805880" y="5635800"/>
              <a:ext cx="88920" cy="12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Line 150"/>
            <p:cNvSpPr/>
            <p:nvPr/>
          </p:nvSpPr>
          <p:spPr>
            <a:xfrm>
              <a:off x="7910640" y="5797440"/>
              <a:ext cx="44280" cy="49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Line 151"/>
            <p:cNvSpPr/>
            <p:nvPr/>
          </p:nvSpPr>
          <p:spPr>
            <a:xfrm>
              <a:off x="7969320" y="5878440"/>
              <a:ext cx="30240" cy="49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52"/>
            <p:cNvSpPr/>
            <p:nvPr/>
          </p:nvSpPr>
          <p:spPr>
            <a:xfrm flipH="1">
              <a:off x="7670520" y="5635800"/>
              <a:ext cx="44280" cy="16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153"/>
            <p:cNvSpPr/>
            <p:nvPr/>
          </p:nvSpPr>
          <p:spPr>
            <a:xfrm flipH="1">
              <a:off x="7640640" y="5846760"/>
              <a:ext cx="30240" cy="9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154"/>
            <p:cNvSpPr/>
            <p:nvPr/>
          </p:nvSpPr>
          <p:spPr>
            <a:xfrm flipH="1">
              <a:off x="7610400" y="5975280"/>
              <a:ext cx="30240" cy="98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155"/>
            <p:cNvSpPr/>
            <p:nvPr/>
          </p:nvSpPr>
          <p:spPr>
            <a:xfrm>
              <a:off x="7402680" y="5651640"/>
              <a:ext cx="29880" cy="9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Line 156"/>
            <p:cNvSpPr/>
            <p:nvPr/>
          </p:nvSpPr>
          <p:spPr>
            <a:xfrm>
              <a:off x="7446960" y="5781600"/>
              <a:ext cx="30240" cy="96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Line 157"/>
            <p:cNvSpPr/>
            <p:nvPr/>
          </p:nvSpPr>
          <p:spPr>
            <a:xfrm>
              <a:off x="7491240" y="5927760"/>
              <a:ext cx="30240" cy="47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158"/>
            <p:cNvSpPr/>
            <p:nvPr/>
          </p:nvSpPr>
          <p:spPr>
            <a:xfrm flipH="1">
              <a:off x="7267320" y="5619600"/>
              <a:ext cx="44280" cy="12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159"/>
            <p:cNvSpPr/>
            <p:nvPr/>
          </p:nvSpPr>
          <p:spPr>
            <a:xfrm flipH="1">
              <a:off x="7237440" y="5797440"/>
              <a:ext cx="3024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160"/>
            <p:cNvSpPr/>
            <p:nvPr/>
          </p:nvSpPr>
          <p:spPr>
            <a:xfrm flipH="1">
              <a:off x="7207200" y="5894280"/>
              <a:ext cx="30240" cy="8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161"/>
            <p:cNvSpPr/>
            <p:nvPr/>
          </p:nvSpPr>
          <p:spPr>
            <a:xfrm>
              <a:off x="3368520" y="5473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162"/>
            <p:cNvSpPr/>
            <p:nvPr/>
          </p:nvSpPr>
          <p:spPr>
            <a:xfrm>
              <a:off x="4205160" y="5473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163"/>
            <p:cNvSpPr/>
            <p:nvPr/>
          </p:nvSpPr>
          <p:spPr>
            <a:xfrm>
              <a:off x="5370480" y="54896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164"/>
            <p:cNvSpPr/>
            <p:nvPr/>
          </p:nvSpPr>
          <p:spPr>
            <a:xfrm>
              <a:off x="6146640" y="5473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165"/>
            <p:cNvSpPr/>
            <p:nvPr/>
          </p:nvSpPr>
          <p:spPr>
            <a:xfrm>
              <a:off x="2201760" y="5473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166"/>
            <p:cNvSpPr/>
            <p:nvPr/>
          </p:nvSpPr>
          <p:spPr>
            <a:xfrm>
              <a:off x="1276200" y="4452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167"/>
            <p:cNvSpPr/>
            <p:nvPr/>
          </p:nvSpPr>
          <p:spPr>
            <a:xfrm>
              <a:off x="3218040" y="44355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168"/>
            <p:cNvSpPr/>
            <p:nvPr/>
          </p:nvSpPr>
          <p:spPr>
            <a:xfrm>
              <a:off x="5146560" y="4452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169"/>
            <p:cNvSpPr/>
            <p:nvPr/>
          </p:nvSpPr>
          <p:spPr>
            <a:xfrm>
              <a:off x="6594480" y="4452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170"/>
            <p:cNvSpPr/>
            <p:nvPr/>
          </p:nvSpPr>
          <p:spPr>
            <a:xfrm>
              <a:off x="7088040" y="4452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9" name="Object 171"/>
              <p:cNvSpPr txBox="1"/>
              <p:nvPr/>
            </p:nvSpPr>
            <p:spPr>
              <a:xfrm>
                <a:off x="4836960" y="3156120"/>
                <a:ext cx="60984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172"/>
              <p:cNvSpPr txBox="1"/>
              <p:nvPr/>
            </p:nvSpPr>
            <p:spPr>
              <a:xfrm>
                <a:off x="5688000" y="2865600"/>
                <a:ext cx="21463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173"/>
              <p:cNvSpPr txBox="1"/>
              <p:nvPr/>
            </p:nvSpPr>
            <p:spPr>
              <a:xfrm>
                <a:off x="4010040" y="1913040"/>
                <a:ext cx="412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02" name="Object 174"/>
          <p:cNvGraphicFramePr/>
          <p:nvPr/>
        </p:nvGraphicFramePr>
        <p:xfrm>
          <a:off x="1855800" y="1436760"/>
          <a:ext cx="548316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1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436760"/>
                    <a:ext cx="54831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4" name="Group 175"/>
          <p:cNvGrpSpPr/>
          <p:nvPr/>
        </p:nvGrpSpPr>
        <p:grpSpPr>
          <a:xfrm>
            <a:off x="7010280" y="4381560"/>
            <a:ext cx="254160" cy="291960"/>
            <a:chOff x="7010280" y="4381560"/>
            <a:chExt cx="254160" cy="291960"/>
          </a:xfrm>
        </p:grpSpPr>
        <p:sp>
          <p:nvSpPr>
            <p:cNvPr id="705" name="Rectangle 176"/>
            <p:cNvSpPr/>
            <p:nvPr/>
          </p:nvSpPr>
          <p:spPr>
            <a:xfrm>
              <a:off x="7010280" y="438156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177"/>
            <p:cNvSpPr/>
            <p:nvPr/>
          </p:nvSpPr>
          <p:spPr>
            <a:xfrm>
              <a:off x="7078680" y="44211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Group 178"/>
          <p:cNvGrpSpPr/>
          <p:nvPr/>
        </p:nvGrpSpPr>
        <p:grpSpPr>
          <a:xfrm>
            <a:off x="6521400" y="4387680"/>
            <a:ext cx="254160" cy="291960"/>
            <a:chOff x="6521400" y="4387680"/>
            <a:chExt cx="254160" cy="291960"/>
          </a:xfrm>
        </p:grpSpPr>
        <p:sp>
          <p:nvSpPr>
            <p:cNvPr id="708" name="Rectangle 179"/>
            <p:cNvSpPr/>
            <p:nvPr/>
          </p:nvSpPr>
          <p:spPr>
            <a:xfrm>
              <a:off x="6521400" y="438768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180"/>
            <p:cNvSpPr/>
            <p:nvPr/>
          </p:nvSpPr>
          <p:spPr>
            <a:xfrm>
              <a:off x="6589800" y="44272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0" name="Group 181"/>
          <p:cNvGrpSpPr/>
          <p:nvPr/>
        </p:nvGrpSpPr>
        <p:grpSpPr>
          <a:xfrm>
            <a:off x="5054760" y="4400640"/>
            <a:ext cx="253800" cy="291960"/>
            <a:chOff x="5054760" y="4400640"/>
            <a:chExt cx="253800" cy="291960"/>
          </a:xfrm>
        </p:grpSpPr>
        <p:sp>
          <p:nvSpPr>
            <p:cNvPr id="711" name="Rectangle 182"/>
            <p:cNvSpPr/>
            <p:nvPr/>
          </p:nvSpPr>
          <p:spPr>
            <a:xfrm>
              <a:off x="5054760" y="4400640"/>
              <a:ext cx="25380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83"/>
            <p:cNvSpPr/>
            <p:nvPr/>
          </p:nvSpPr>
          <p:spPr>
            <a:xfrm>
              <a:off x="5122800" y="44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3" name="Group 184"/>
          <p:cNvGrpSpPr/>
          <p:nvPr/>
        </p:nvGrpSpPr>
        <p:grpSpPr>
          <a:xfrm>
            <a:off x="3124080" y="4413240"/>
            <a:ext cx="254160" cy="291960"/>
            <a:chOff x="3124080" y="4413240"/>
            <a:chExt cx="254160" cy="291960"/>
          </a:xfrm>
        </p:grpSpPr>
        <p:sp>
          <p:nvSpPr>
            <p:cNvPr id="714" name="Rectangle 185"/>
            <p:cNvSpPr/>
            <p:nvPr/>
          </p:nvSpPr>
          <p:spPr>
            <a:xfrm>
              <a:off x="3124080" y="441324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86"/>
            <p:cNvSpPr/>
            <p:nvPr/>
          </p:nvSpPr>
          <p:spPr>
            <a:xfrm>
              <a:off x="3192480" y="44528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Group 187"/>
          <p:cNvGrpSpPr/>
          <p:nvPr/>
        </p:nvGrpSpPr>
        <p:grpSpPr>
          <a:xfrm>
            <a:off x="1193760" y="4400640"/>
            <a:ext cx="254160" cy="291960"/>
            <a:chOff x="1193760" y="4400640"/>
            <a:chExt cx="254160" cy="291960"/>
          </a:xfrm>
        </p:grpSpPr>
        <p:sp>
          <p:nvSpPr>
            <p:cNvPr id="717" name="Rectangle 188"/>
            <p:cNvSpPr/>
            <p:nvPr/>
          </p:nvSpPr>
          <p:spPr>
            <a:xfrm>
              <a:off x="1193760" y="440064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Rectangle 189"/>
            <p:cNvSpPr/>
            <p:nvPr/>
          </p:nvSpPr>
          <p:spPr>
            <a:xfrm>
              <a:off x="1262160" y="44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9" name="Group 190"/>
          <p:cNvGrpSpPr/>
          <p:nvPr/>
        </p:nvGrpSpPr>
        <p:grpSpPr>
          <a:xfrm>
            <a:off x="2127240" y="5435640"/>
            <a:ext cx="254160" cy="291960"/>
            <a:chOff x="2127240" y="5435640"/>
            <a:chExt cx="254160" cy="291960"/>
          </a:xfrm>
        </p:grpSpPr>
        <p:sp>
          <p:nvSpPr>
            <p:cNvPr id="720" name="Rectangle 191"/>
            <p:cNvSpPr/>
            <p:nvPr/>
          </p:nvSpPr>
          <p:spPr>
            <a:xfrm>
              <a:off x="2127240" y="543564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Rectangle 192"/>
            <p:cNvSpPr/>
            <p:nvPr/>
          </p:nvSpPr>
          <p:spPr>
            <a:xfrm>
              <a:off x="2195640" y="5475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2" name="Group 193"/>
          <p:cNvGrpSpPr/>
          <p:nvPr/>
        </p:nvGrpSpPr>
        <p:grpSpPr>
          <a:xfrm>
            <a:off x="3308400" y="5442120"/>
            <a:ext cx="253800" cy="291960"/>
            <a:chOff x="3308400" y="5442120"/>
            <a:chExt cx="253800" cy="291960"/>
          </a:xfrm>
        </p:grpSpPr>
        <p:sp>
          <p:nvSpPr>
            <p:cNvPr id="723" name="Rectangle 194"/>
            <p:cNvSpPr/>
            <p:nvPr/>
          </p:nvSpPr>
          <p:spPr>
            <a:xfrm>
              <a:off x="3308400" y="5442120"/>
              <a:ext cx="25380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Rectangle 195"/>
            <p:cNvSpPr/>
            <p:nvPr/>
          </p:nvSpPr>
          <p:spPr>
            <a:xfrm>
              <a:off x="3376440" y="54817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Group 196"/>
          <p:cNvGrpSpPr/>
          <p:nvPr/>
        </p:nvGrpSpPr>
        <p:grpSpPr>
          <a:xfrm>
            <a:off x="4108320" y="5454720"/>
            <a:ext cx="254160" cy="291960"/>
            <a:chOff x="4108320" y="5454720"/>
            <a:chExt cx="254160" cy="291960"/>
          </a:xfrm>
        </p:grpSpPr>
        <p:sp>
          <p:nvSpPr>
            <p:cNvPr id="726" name="Rectangle 197"/>
            <p:cNvSpPr/>
            <p:nvPr/>
          </p:nvSpPr>
          <p:spPr>
            <a:xfrm>
              <a:off x="4108320" y="545472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198"/>
            <p:cNvSpPr/>
            <p:nvPr/>
          </p:nvSpPr>
          <p:spPr>
            <a:xfrm>
              <a:off x="4176720" y="54943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Group 199"/>
          <p:cNvGrpSpPr/>
          <p:nvPr/>
        </p:nvGrpSpPr>
        <p:grpSpPr>
          <a:xfrm>
            <a:off x="5302080" y="5454720"/>
            <a:ext cx="254160" cy="291960"/>
            <a:chOff x="5302080" y="5454720"/>
            <a:chExt cx="254160" cy="291960"/>
          </a:xfrm>
        </p:grpSpPr>
        <p:sp>
          <p:nvSpPr>
            <p:cNvPr id="729" name="Rectangle 200"/>
            <p:cNvSpPr/>
            <p:nvPr/>
          </p:nvSpPr>
          <p:spPr>
            <a:xfrm>
              <a:off x="5302080" y="5454720"/>
              <a:ext cx="25416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201"/>
            <p:cNvSpPr/>
            <p:nvPr/>
          </p:nvSpPr>
          <p:spPr>
            <a:xfrm>
              <a:off x="5370480" y="54943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1" name="Group 202"/>
          <p:cNvGrpSpPr/>
          <p:nvPr/>
        </p:nvGrpSpPr>
        <p:grpSpPr>
          <a:xfrm>
            <a:off x="6058080" y="5448240"/>
            <a:ext cx="253800" cy="291960"/>
            <a:chOff x="6058080" y="5448240"/>
            <a:chExt cx="253800" cy="291960"/>
          </a:xfrm>
        </p:grpSpPr>
        <p:sp>
          <p:nvSpPr>
            <p:cNvPr id="732" name="Rectangle 203"/>
            <p:cNvSpPr/>
            <p:nvPr/>
          </p:nvSpPr>
          <p:spPr>
            <a:xfrm>
              <a:off x="6058080" y="5448240"/>
              <a:ext cx="253800" cy="29196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204"/>
            <p:cNvSpPr/>
            <p:nvPr/>
          </p:nvSpPr>
          <p:spPr>
            <a:xfrm>
              <a:off x="6126120" y="54878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2A05-228B-4D83-826E-9F4550E12E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RL Algorithms – Prediction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087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Evaluation (the prediction problem): for a given policy, compute the state-value fun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knowledge of P and R, but access to the real system, or a “sample” model assu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“bootstrapping” and samp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7" name="Object 4"/>
          <p:cNvGraphicFramePr/>
          <p:nvPr/>
        </p:nvGraphicFramePr>
        <p:xfrm>
          <a:off x="1523880" y="4811760"/>
          <a:ext cx="5695920" cy="102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811760"/>
                    <a:ext cx="56959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74DE-3897-4F4C-83D4-0422E757F1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Advantages of TD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D methods do not require a model of the environment, only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D methods can be fully incre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lear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nowing the final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peak co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lear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final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incomplete se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F581-4302-4001-9E5D-5E3CB15C2E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RL Algorithms – Control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744" name="Object 3"/>
          <p:cNvGraphicFramePr/>
          <p:nvPr/>
        </p:nvGraphicFramePr>
        <p:xfrm>
          <a:off x="1138320" y="2438280"/>
          <a:ext cx="678168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2438280"/>
                    <a:ext cx="67816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 Box 4"/>
          <p:cNvSpPr/>
          <p:nvPr/>
        </p:nvSpPr>
        <p:spPr>
          <a:xfrm>
            <a:off x="762120" y="1905120"/>
            <a:ext cx="72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94a"/>
                </a:solidFill>
                <a:latin typeface="Arial"/>
              </a:rPr>
              <a:t>SARSA (State-Action-Reward-State-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7" name="Object 5"/>
          <p:cNvGraphicFramePr/>
          <p:nvPr/>
        </p:nvGraphicFramePr>
        <p:xfrm>
          <a:off x="1614600" y="4641840"/>
          <a:ext cx="6272280" cy="101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4600" y="4641840"/>
                    <a:ext cx="62722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Text Box 6"/>
          <p:cNvSpPr/>
          <p:nvPr/>
        </p:nvSpPr>
        <p:spPr>
          <a:xfrm>
            <a:off x="838080" y="4038480"/>
            <a:ext cx="20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94a"/>
                </a:solidFill>
                <a:latin typeface="Arial"/>
              </a:rPr>
              <a:t>Q-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F679-EEB4-414C-ACC6-66672A81D9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Cliffwalking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1751040" y="1293840"/>
            <a:ext cx="5691240" cy="52084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4572000" y="3048120"/>
            <a:ext cx="30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Symbol"/>
                <a:ea typeface="Symbol"/>
              </a:rPr>
              <a:t></a:t>
            </a:r>
            <a:r>
              <a:rPr b="0" lang="en-US" sz="2000" spc="-1" strike="noStrike">
                <a:solidFill>
                  <a:srgbClr val="3e3d2d"/>
                </a:solidFill>
                <a:latin typeface="Times New Roman"/>
                <a:ea typeface="MS PGothic"/>
              </a:rPr>
              <a:t>greedy</a:t>
            </a:r>
            <a:r>
              <a:rPr b="0" lang="en-US" sz="2000" spc="-1" strike="noStrike">
                <a:solidFill>
                  <a:srgbClr val="3e3d2d"/>
                </a:solidFill>
                <a:latin typeface="Symbol"/>
                <a:ea typeface="Symbol"/>
              </a:rPr>
              <a:t></a:t>
            </a:r>
            <a:r>
              <a:rPr b="0" lang="en-US" sz="2000" spc="-1" strike="noStrike">
                <a:solidFill>
                  <a:srgbClr val="3e3d2d"/>
                </a:solidFill>
                <a:latin typeface="Times New Roman"/>
                <a:ea typeface="MS PGothic"/>
              </a:rPr>
              <a:t>= 0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301D-59F6-4068-806B-F34A80D2C3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Actor-Critic Methods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927320" y="1587600"/>
            <a:ext cx="38098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icit representation of policy as well as valu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al computation to select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learn an explicit stochastic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put constraints on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ling as psychological and neural mode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7" name="Picture 4" descr=""/>
          <p:cNvPicPr/>
          <p:nvPr/>
        </p:nvPicPr>
        <p:blipFill>
          <a:blip r:embed="rId1"/>
          <a:stretch/>
        </p:blipFill>
        <p:spPr>
          <a:xfrm>
            <a:off x="685800" y="1549440"/>
            <a:ext cx="40194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2DDA-E455-40B5-8D07-5620D162AE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Actor-Critic Details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graphicFrame>
        <p:nvGraphicFramePr>
          <p:cNvPr id="760" name="Object 3"/>
          <p:cNvGraphicFramePr/>
          <p:nvPr/>
        </p:nvGraphicFramePr>
        <p:xfrm>
          <a:off x="1108080" y="1587600"/>
          <a:ext cx="431316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1587600"/>
                    <a:ext cx="43131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4"/>
          <p:cNvGraphicFramePr/>
          <p:nvPr/>
        </p:nvGraphicFramePr>
        <p:xfrm>
          <a:off x="1035000" y="3200400"/>
          <a:ext cx="7131240" cy="23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5000" y="3200400"/>
                    <a:ext cx="713124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Box 1"/>
          <p:cNvSpPr/>
          <p:nvPr/>
        </p:nvSpPr>
        <p:spPr>
          <a:xfrm>
            <a:off x="5651640" y="3789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5201"/>
                </a:solidFill>
                <a:latin typeface="Arial"/>
              </a:rPr>
              <a:t>Soft max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49640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Actor-Critic in the brain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B214-543F-43E4-8FAB-081FDEC75F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0" name="Picture 3" descr=""/>
          <p:cNvPicPr/>
          <p:nvPr/>
        </p:nvPicPr>
        <p:blipFill>
          <a:blip r:embed="rId2"/>
          <a:stretch/>
        </p:blipFill>
        <p:spPr>
          <a:xfrm>
            <a:off x="-36360" y="2924280"/>
            <a:ext cx="8019720" cy="39337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7" descr="http://drugline.org/img/ail/1383_1393_3.jpg"/>
          <p:cNvPicPr/>
          <p:nvPr/>
        </p:nvPicPr>
        <p:blipFill>
          <a:blip r:embed="rId3"/>
          <a:srcRect l="0" t="0" r="0" b="4840"/>
          <a:stretch/>
        </p:blipFill>
        <p:spPr>
          <a:xfrm>
            <a:off x="-33480" y="-19080"/>
            <a:ext cx="4573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ng best action at B and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oral Credit Assignment (In 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CFC0-9C0C-4A21-957A-95346894D2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0164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0BC1-495D-449E-90F6-23A6199CF1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Applications of RL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80880" y="196164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ot nav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v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copter pilo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orial opti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SI placement and routing , elevator disp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 pla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ammon – world’s best play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ational Neuro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ing of reward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submit exerc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 next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39CB-96FA-4CD9-8239-1ECB06C5E6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DA13-AEC1-43ED-9859-521F0D149F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chell, T. Machine Learning. McGraw Hill. 19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ssell, S. J. and Norvig, P. Artificial Intelligence – A modern approach. Pearson Educational. 2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tton, R.S. and Barto, A. G. Reinforcement Learning: An Introduction. MIT Press. 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an, P. and Abbott, L. F. Theoretical Neuroscience: Computational and Mathematical Modeling of Neural Systems. MIT Press. 20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tsikas, D. P. and Tsitsiklis, J. N. Neuro-Dynamic Programming. Athena Scientific. 19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E27C-7AA7-4933-8929-DF15547E2A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Reinforcement Learning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rial-and-error learning 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ards and Punish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just an algorithm but a new paradigm i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about a system –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minimal feed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by behavioural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161D-A3F4-4449-81D0-31DB5B05D2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RL Framework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from clos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chastic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sy delayed scalar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a measure of long term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657600" y="1981080"/>
            <a:ext cx="1981080" cy="685800"/>
          </a:xfrm>
          <a:prstGeom prst="rect">
            <a:avLst/>
          </a:prstGeom>
          <a:solidFill>
            <a:srgbClr val="94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670200" y="3505320"/>
            <a:ext cx="1981440" cy="761760"/>
          </a:xfrm>
          <a:prstGeom prst="rect">
            <a:avLst/>
          </a:prstGeom>
          <a:solidFill>
            <a:srgbClr val="e68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127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5651640" y="2276280"/>
            <a:ext cx="1371600" cy="1600560"/>
            <a:chOff x="5651640" y="2276280"/>
            <a:chExt cx="1371600" cy="1600560"/>
          </a:xfrm>
        </p:grpSpPr>
        <p:sp>
          <p:nvSpPr>
            <p:cNvPr id="88" name="Line 8"/>
            <p:cNvSpPr/>
            <p:nvPr/>
          </p:nvSpPr>
          <p:spPr>
            <a:xfrm>
              <a:off x="5651640" y="387684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9"/>
            <p:cNvSpPr/>
            <p:nvPr/>
          </p:nvSpPr>
          <p:spPr>
            <a:xfrm flipV="1">
              <a:off x="7023240" y="227628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 flipH="1">
              <a:off x="5651640" y="227664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930280" y="34959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2136600" y="2260440"/>
            <a:ext cx="1533240" cy="1600200"/>
            <a:chOff x="2136600" y="2260440"/>
            <a:chExt cx="1533240" cy="1600200"/>
          </a:xfrm>
        </p:grpSpPr>
        <p:sp>
          <p:nvSpPr>
            <p:cNvPr id="93" name="Line 13"/>
            <p:cNvSpPr/>
            <p:nvPr/>
          </p:nvSpPr>
          <p:spPr>
            <a:xfrm flipH="1">
              <a:off x="2145960" y="226044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2146320" y="226044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5"/>
            <p:cNvSpPr/>
            <p:nvPr/>
          </p:nvSpPr>
          <p:spPr>
            <a:xfrm>
              <a:off x="2136600" y="3860640"/>
              <a:ext cx="1524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16"/>
            <p:cNvSpPr/>
            <p:nvPr/>
          </p:nvSpPr>
          <p:spPr>
            <a:xfrm>
              <a:off x="2592000" y="34797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t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17"/>
          <p:cNvGrpSpPr/>
          <p:nvPr/>
        </p:nvGrpSpPr>
        <p:grpSpPr>
          <a:xfrm>
            <a:off x="3309120" y="2666880"/>
            <a:ext cx="1339200" cy="838440"/>
            <a:chOff x="3309120" y="2666880"/>
            <a:chExt cx="1339200" cy="838440"/>
          </a:xfrm>
        </p:grpSpPr>
        <p:sp>
          <p:nvSpPr>
            <p:cNvPr id="98" name="Line 18"/>
            <p:cNvSpPr/>
            <p:nvPr/>
          </p:nvSpPr>
          <p:spPr>
            <a:xfrm>
              <a:off x="4648320" y="2666880"/>
              <a:ext cx="0" cy="8384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19"/>
            <p:cNvSpPr/>
            <p:nvPr/>
          </p:nvSpPr>
          <p:spPr>
            <a:xfrm>
              <a:off x="3309120" y="2819520"/>
              <a:ext cx="130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valu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C335-64EB-4F51-8611-3842BD0582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Not Supervised Learning!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252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sparse “supervis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arget output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rror gradient information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 specifies next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 to estimate gradient – Trial and error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ation Vs. Explo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467160" y="1870200"/>
            <a:ext cx="1981080" cy="761760"/>
          </a:xfrm>
          <a:prstGeom prst="rect">
            <a:avLst/>
          </a:prstGeom>
          <a:solidFill>
            <a:srgbClr val="e68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24360" y="202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448240" y="224172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719320" y="18604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1933560" y="2225520"/>
            <a:ext cx="1523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81760" y="18446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6156360" y="223848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5940360" y="2886120"/>
            <a:ext cx="43200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H="1">
            <a:off x="6372000" y="303048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568920" y="259704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4500360" y="3030480"/>
            <a:ext cx="14396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V="1">
            <a:off x="4500720" y="2597040"/>
            <a:ext cx="0" cy="433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981320" y="2670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5003640" y="2741760"/>
            <a:ext cx="71928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 flipH="1">
            <a:off x="6659280" y="2670120"/>
            <a:ext cx="71892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7B9-69A0-4368-A210-F44B44A031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Not Unsupervised Learning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39621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se “supervision”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detection not primary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297240" y="2192400"/>
            <a:ext cx="1981080" cy="761760"/>
          </a:xfrm>
          <a:prstGeom prst="rect">
            <a:avLst/>
          </a:prstGeom>
          <a:solidFill>
            <a:srgbClr val="e68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749760" y="2349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273640" y="256860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292360" y="213372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758960" y="2552760"/>
            <a:ext cx="1523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204640" y="214632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4191120" y="2971440"/>
            <a:ext cx="1445400" cy="685800"/>
            <a:chOff x="4191120" y="2971440"/>
            <a:chExt cx="1445400" cy="685800"/>
          </a:xfrm>
        </p:grpSpPr>
        <p:sp>
          <p:nvSpPr>
            <p:cNvPr id="129" name="Line 11"/>
            <p:cNvSpPr/>
            <p:nvPr/>
          </p:nvSpPr>
          <p:spPr>
            <a:xfrm flipV="1">
              <a:off x="4191120" y="297144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4207680" y="305424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Evalu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5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ro to 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A17E-5353-4C29-B432-5DE51A44CC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Arial"/>
              </a:rPr>
              <a:t>TD Gammon</a:t>
            </a:r>
            <a:endParaRPr b="0" lang="en-US" sz="44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725560" y="106668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auro 1992, 1994, 1995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802040" y="2171880"/>
            <a:ext cx="4341960" cy="2373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2040" y="2356920"/>
            <a:ext cx="401796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te has just rolled a 5 and a 2 so can move one of his pieces 5 and one (possibly the same) 2 ste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is to advance all pieces to points 19-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 pieces, 24 locations implies enormous number of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branching factor of 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3:40:34Z</dcterms:created>
  <dc:creator>Balaraman Ravindran</dc:creator>
  <dc:description/>
  <dc:language>en-US</dc:language>
  <cp:lastModifiedBy>Omri Perez</cp:lastModifiedBy>
  <dcterms:modified xsi:type="dcterms:W3CDTF">2013-01-07T11:57:12Z</dcterms:modified>
  <cp:revision>41</cp:revision>
  <dc:subject/>
  <dc:title>Reinforcement Learning: Learning from Interaction</dc:title>
</cp:coreProperties>
</file>