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104F1-6726-43BF-AB7C-DB2CE358B68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המוטיבציה: תאור עצמים דמיוניים או אמיתיים ב </a:t>
            </a:r>
            <a:r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 מימדים במונחים מתמטיי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שיטה פופולרית אבל לא היחידה: תאור שפות העצמים (המשטחים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בתוך אלה, קיימים משטחים חלקים (שפת כדור), ומשטחים לא חלקים (שפת קוביה). קיימים משטחים אנליטיים (כדור גליל מישור) ומשטחים בעלי צורה חופשית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למשטחים בעלי צורה חופשית יש תאורים מתמטיים שונים. אחד מהם הוא ע”י תהליכי חלוקה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אפשר להסתכל על תהליך החלוקה כעל קופסה שחורה, ואז מה שנשאר לנו זה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היצוג של העקום ע”י פוליגון הבקרה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העקום עצמו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זה נקרא פוליגון בקרה, כי אם מזיזים את אחת מנקודות הבקרה, העקום משתנה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כבר רואים הבדל בסיסי בין סכימות אינטרפולטוריות לבין סכימות לא אינטרפולטוריות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7F36-77FC-471E-ACFF-C398607AE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33A7-C8B1-4DF3-8808-274BB6F99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3625-4C95-4000-8416-1C7EB2881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4752-88A3-4194-895D-DD8354AA1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28D94-8A7B-412E-B48A-337BED1F3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C2B87-0C84-4968-98B5-29A63D5B5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9D920-1914-474D-A6F1-17369C22C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0AF2D-3F7A-4756-B89C-8F7180ECC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96B2F-3E4B-4C13-9FE5-088AEEC61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D32E5-32A5-4EEB-AE4F-BBFC884EC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7CBA9-029E-43A8-9D65-BE808A5E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E158-8C0A-4FA3-B079-1CBBD47D9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410F6-616E-4233-8285-1DA17E96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6AD2E-1435-447E-9FBE-6D312EBB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085D1-B6B8-41BD-BF49-3C05278F3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7FE23-6D9C-464F-8BD1-35D0E94AB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EDD2C-74BF-4288-B5FC-D969D3F5D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5981-8ACF-4398-B8E8-64E205EC7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9CC8-32D5-45BD-B50D-3217C9164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78FA-6C8E-4D17-B9B4-63470533F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49F1-7C57-4F4E-8AB3-A42633B25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B1FB-EA3E-4104-B0F7-D02E0541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E773-8C9C-43E2-8980-404A0609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F38C-A810-498E-A0FE-5605A15D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CF185-A4C4-4405-8613-F1E503D82E69}" type="slidenum">
              <a:rPr b="0" lang="he-IL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519AE-9B8D-4F4D-A0F9-6EBEF916BD8D}" type="slidenum">
              <a:rPr b="0" lang="he-IL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854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Introduction to</a:t>
            </a:r>
            <a:br>
              <a:rPr sz="4400"/>
            </a:b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ubdivision Curv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orner Cutting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530440" y="2430360"/>
            <a:ext cx="4281480" cy="2884680"/>
          </a:xfrm>
          <a:custGeom>
            <a:avLst/>
            <a:gdLst/>
            <a:ahLst/>
            <a:rect l="l" t="t" r="r" b="b"/>
            <a:pathLst>
              <a:path w="2697" h="1817">
                <a:moveTo>
                  <a:pt x="6" y="1369"/>
                </a:moveTo>
                <a:cubicBezTo>
                  <a:pt x="12" y="1248"/>
                  <a:pt x="40" y="1084"/>
                  <a:pt x="66" y="965"/>
                </a:cubicBezTo>
                <a:cubicBezTo>
                  <a:pt x="92" y="846"/>
                  <a:pt x="123" y="746"/>
                  <a:pt x="162" y="653"/>
                </a:cubicBezTo>
                <a:cubicBezTo>
                  <a:pt x="201" y="560"/>
                  <a:pt x="246" y="484"/>
                  <a:pt x="302" y="409"/>
                </a:cubicBezTo>
                <a:cubicBezTo>
                  <a:pt x="358" y="334"/>
                  <a:pt x="433" y="264"/>
                  <a:pt x="498" y="205"/>
                </a:cubicBezTo>
                <a:cubicBezTo>
                  <a:pt x="563" y="146"/>
                  <a:pt x="631" y="87"/>
                  <a:pt x="694" y="53"/>
                </a:cubicBezTo>
                <a:cubicBezTo>
                  <a:pt x="757" y="19"/>
                  <a:pt x="816" y="2"/>
                  <a:pt x="874" y="1"/>
                </a:cubicBezTo>
                <a:cubicBezTo>
                  <a:pt x="932" y="0"/>
                  <a:pt x="986" y="17"/>
                  <a:pt x="1042" y="49"/>
                </a:cubicBezTo>
                <a:cubicBezTo>
                  <a:pt x="1098" y="81"/>
                  <a:pt x="1152" y="140"/>
                  <a:pt x="1210" y="193"/>
                </a:cubicBezTo>
                <a:cubicBezTo>
                  <a:pt x="1268" y="246"/>
                  <a:pt x="1323" y="313"/>
                  <a:pt x="1390" y="365"/>
                </a:cubicBezTo>
                <a:cubicBezTo>
                  <a:pt x="1457" y="417"/>
                  <a:pt x="1527" y="462"/>
                  <a:pt x="1614" y="505"/>
                </a:cubicBezTo>
                <a:cubicBezTo>
                  <a:pt x="1701" y="548"/>
                  <a:pt x="1801" y="592"/>
                  <a:pt x="1910" y="621"/>
                </a:cubicBezTo>
                <a:cubicBezTo>
                  <a:pt x="2019" y="650"/>
                  <a:pt x="2158" y="660"/>
                  <a:pt x="2266" y="681"/>
                </a:cubicBezTo>
                <a:cubicBezTo>
                  <a:pt x="2374" y="702"/>
                  <a:pt x="2491" y="719"/>
                  <a:pt x="2558" y="745"/>
                </a:cubicBezTo>
                <a:cubicBezTo>
                  <a:pt x="2625" y="771"/>
                  <a:pt x="2649" y="801"/>
                  <a:pt x="2670" y="837"/>
                </a:cubicBezTo>
                <a:cubicBezTo>
                  <a:pt x="2691" y="873"/>
                  <a:pt x="2697" y="913"/>
                  <a:pt x="2682" y="961"/>
                </a:cubicBezTo>
                <a:cubicBezTo>
                  <a:pt x="2667" y="1009"/>
                  <a:pt x="2625" y="1073"/>
                  <a:pt x="2582" y="1125"/>
                </a:cubicBezTo>
                <a:cubicBezTo>
                  <a:pt x="2539" y="1177"/>
                  <a:pt x="2484" y="1233"/>
                  <a:pt x="2426" y="1273"/>
                </a:cubicBezTo>
                <a:cubicBezTo>
                  <a:pt x="2368" y="1313"/>
                  <a:pt x="2307" y="1343"/>
                  <a:pt x="2234" y="1365"/>
                </a:cubicBezTo>
                <a:cubicBezTo>
                  <a:pt x="2161" y="1387"/>
                  <a:pt x="2085" y="1408"/>
                  <a:pt x="1990" y="1405"/>
                </a:cubicBezTo>
                <a:cubicBezTo>
                  <a:pt x="1895" y="1402"/>
                  <a:pt x="1775" y="1365"/>
                  <a:pt x="1666" y="1345"/>
                </a:cubicBezTo>
                <a:cubicBezTo>
                  <a:pt x="1557" y="1325"/>
                  <a:pt x="1437" y="1293"/>
                  <a:pt x="1338" y="1285"/>
                </a:cubicBezTo>
                <a:cubicBezTo>
                  <a:pt x="1239" y="1277"/>
                  <a:pt x="1157" y="1280"/>
                  <a:pt x="1070" y="1297"/>
                </a:cubicBezTo>
                <a:cubicBezTo>
                  <a:pt x="983" y="1314"/>
                  <a:pt x="900" y="1338"/>
                  <a:pt x="814" y="1385"/>
                </a:cubicBezTo>
                <a:cubicBezTo>
                  <a:pt x="728" y="1432"/>
                  <a:pt x="637" y="1518"/>
                  <a:pt x="554" y="1581"/>
                </a:cubicBezTo>
                <a:cubicBezTo>
                  <a:pt x="471" y="1644"/>
                  <a:pt x="385" y="1724"/>
                  <a:pt x="314" y="1761"/>
                </a:cubicBezTo>
                <a:cubicBezTo>
                  <a:pt x="243" y="1798"/>
                  <a:pt x="177" y="1817"/>
                  <a:pt x="130" y="1805"/>
                </a:cubicBezTo>
                <a:cubicBezTo>
                  <a:pt x="83" y="1793"/>
                  <a:pt x="50" y="1762"/>
                  <a:pt x="30" y="1689"/>
                </a:cubicBezTo>
                <a:cubicBezTo>
                  <a:pt x="10" y="1616"/>
                  <a:pt x="0" y="1490"/>
                  <a:pt x="6" y="1369"/>
                </a:cubicBezTo>
                <a:close/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1082520" y="2048040"/>
            <a:ext cx="7527960" cy="3975840"/>
            <a:chOff x="1082520" y="2048040"/>
            <a:chExt cx="7527960" cy="3975840"/>
          </a:xfrm>
        </p:grpSpPr>
        <p:sp>
          <p:nvSpPr>
            <p:cNvPr id="218" name=""/>
            <p:cNvSpPr/>
            <p:nvPr/>
          </p:nvSpPr>
          <p:spPr>
            <a:xfrm>
              <a:off x="5202360" y="5564160"/>
              <a:ext cx="340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The control polygon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219" name=""/>
            <p:cNvGrpSpPr/>
            <p:nvPr/>
          </p:nvGrpSpPr>
          <p:grpSpPr>
            <a:xfrm>
              <a:off x="1082520" y="2048040"/>
              <a:ext cx="6842160" cy="3666960"/>
              <a:chOff x="1082520" y="2048040"/>
              <a:chExt cx="6842160" cy="3666960"/>
            </a:xfrm>
          </p:grpSpPr>
          <p:sp>
            <p:nvSpPr>
              <p:cNvPr id="220" name=""/>
              <p:cNvSpPr/>
              <p:nvPr/>
            </p:nvSpPr>
            <p:spPr>
              <a:xfrm flipV="1">
                <a:off x="2590920" y="2144520"/>
                <a:ext cx="1325520" cy="1284120"/>
              </a:xfrm>
              <a:prstGeom prst="line">
                <a:avLst/>
              </a:prstGeom>
              <a:ln cap="rnd" w="12600">
                <a:solidFill>
                  <a:srgbClr val="402000"/>
                </a:solidFill>
                <a:custDash>
                  <a:ds d="100000" sp="1000"/>
                </a:custDash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914640" y="2157480"/>
                <a:ext cx="1114560" cy="1195200"/>
              </a:xfrm>
              <a:prstGeom prst="line">
                <a:avLst/>
              </a:prstGeom>
              <a:ln cap="rnd" w="12600">
                <a:solidFill>
                  <a:srgbClr val="402000"/>
                </a:solidFill>
                <a:custDash>
                  <a:ds d="100000" sp="1000"/>
                </a:custDash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029200" y="3352680"/>
                <a:ext cx="2085840" cy="303480"/>
              </a:xfrm>
              <a:prstGeom prst="line">
                <a:avLst/>
              </a:prstGeom>
              <a:ln cap="rnd" w="12600">
                <a:solidFill>
                  <a:srgbClr val="402000"/>
                </a:solidFill>
                <a:custDash>
                  <a:ds d="100000" sp="1000"/>
                </a:custDash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>
                <a:off x="6137280" y="3657600"/>
                <a:ext cx="990720" cy="1143000"/>
              </a:xfrm>
              <a:prstGeom prst="line">
                <a:avLst/>
              </a:prstGeom>
              <a:ln cap="rnd" w="12600">
                <a:solidFill>
                  <a:srgbClr val="402000"/>
                </a:solidFill>
                <a:custDash>
                  <a:ds d="100000" sp="1000"/>
                </a:custDash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4167000" y="4325400"/>
                <a:ext cx="1958760" cy="474840"/>
              </a:xfrm>
              <a:prstGeom prst="line">
                <a:avLst/>
              </a:prstGeom>
              <a:ln cap="rnd" w="12600">
                <a:solidFill>
                  <a:srgbClr val="402000"/>
                </a:solidFill>
                <a:custDash>
                  <a:ds d="100000" sp="1000"/>
                </a:custDash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2514240" y="4325760"/>
                <a:ext cx="1663560" cy="1389240"/>
              </a:xfrm>
              <a:prstGeom prst="line">
                <a:avLst/>
              </a:prstGeom>
              <a:ln cap="rnd" w="12600">
                <a:solidFill>
                  <a:srgbClr val="402000"/>
                </a:solidFill>
                <a:custDash>
                  <a:ds d="100000" sp="1000"/>
                </a:custDash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V="1">
                <a:off x="2514600" y="3429000"/>
                <a:ext cx="76320" cy="2286000"/>
              </a:xfrm>
              <a:prstGeom prst="line">
                <a:avLst/>
              </a:prstGeom>
              <a:ln cap="rnd" w="12600">
                <a:solidFill>
                  <a:srgbClr val="402000"/>
                </a:solidFill>
                <a:custDash>
                  <a:ds d="100000" sp="1000"/>
                </a:custDash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 flipV="1">
                <a:off x="6315120" y="4694400"/>
                <a:ext cx="93600" cy="86976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408640" y="2174760"/>
                <a:ext cx="251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d3333"/>
                    </a:solidFill>
                    <a:latin typeface="Times New Roman"/>
                  </a:rPr>
                  <a:t>The limit curve</a:t>
                </a:r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>
                <a:off x="5197320" y="2633760"/>
                <a:ext cx="763920" cy="565200"/>
              </a:xfrm>
              <a:prstGeom prst="line">
                <a:avLst/>
              </a:prstGeom>
              <a:ln w="9360">
                <a:solidFill>
                  <a:srgbClr val="cd33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082520" y="2048040"/>
                <a:ext cx="1785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02000"/>
                    </a:solidFill>
                    <a:latin typeface="Times New Roman"/>
                  </a:rPr>
                  <a:t>A control point</a:t>
                </a:r>
                <a:endParaRPr b="0" lang="en-US" sz="20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833480" y="2481120"/>
                <a:ext cx="682560" cy="87012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The 4-point schem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2590920" y="2133720"/>
            <a:ext cx="1371600" cy="129528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962520" y="2133720"/>
            <a:ext cx="1066680" cy="121896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3352680"/>
            <a:ext cx="2133720" cy="3049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6172200" y="3657600"/>
            <a:ext cx="990720" cy="114300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 flipV="1">
            <a:off x="4190760" y="4267080"/>
            <a:ext cx="1981080" cy="5335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514240" y="4267080"/>
            <a:ext cx="1676520" cy="14479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2514600" y="3429000"/>
            <a:ext cx="76320" cy="228600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The 4-point schem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2514600" y="3429000"/>
            <a:ext cx="76320" cy="2286000"/>
          </a:xfrm>
          <a:prstGeom prst="line">
            <a:avLst/>
          </a:prstGeom>
          <a:ln w="57240">
            <a:solidFill>
              <a:srgbClr val="9a7f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590920" y="2133720"/>
            <a:ext cx="1371600" cy="129528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62520" y="2133720"/>
            <a:ext cx="1066680" cy="121896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029200" y="3352680"/>
            <a:ext cx="2133720" cy="3049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6172200" y="3657600"/>
            <a:ext cx="990720" cy="114300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4190760" y="4267080"/>
            <a:ext cx="1981080" cy="5335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2514240" y="4267080"/>
            <a:ext cx="1676520" cy="14479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470320" y="3327480"/>
            <a:ext cx="212400" cy="212760"/>
          </a:xfrm>
          <a:prstGeom prst="ellipse">
            <a:avLst/>
          </a:prstGeom>
          <a:noFill/>
          <a:ln w="3816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44800" y="2009880"/>
            <a:ext cx="212760" cy="212760"/>
          </a:xfrm>
          <a:prstGeom prst="ellipse">
            <a:avLst/>
          </a:prstGeom>
          <a:noFill/>
          <a:ln w="3816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067280" y="4160880"/>
            <a:ext cx="212760" cy="212760"/>
          </a:xfrm>
          <a:prstGeom prst="ellipse">
            <a:avLst/>
          </a:prstGeom>
          <a:noFill/>
          <a:ln w="3816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408400" y="5607000"/>
            <a:ext cx="212400" cy="212760"/>
          </a:xfrm>
          <a:prstGeom prst="ellipse">
            <a:avLst/>
          </a:prstGeom>
          <a:noFill/>
          <a:ln w="3816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 flipV="1">
            <a:off x="2514600" y="3429000"/>
            <a:ext cx="76320" cy="2286000"/>
          </a:xfrm>
          <a:prstGeom prst="line">
            <a:avLst/>
          </a:prstGeom>
          <a:ln w="57240">
            <a:solidFill>
              <a:srgbClr val="9a7f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The 4-point schem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2590920" y="2133720"/>
            <a:ext cx="1371600" cy="129528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2133720"/>
            <a:ext cx="1066680" cy="121896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029200" y="3352680"/>
            <a:ext cx="2133720" cy="3049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6172200" y="3657600"/>
            <a:ext cx="990720" cy="114300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4190760" y="4267080"/>
            <a:ext cx="1981080" cy="5335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514240" y="4267080"/>
            <a:ext cx="1676520" cy="14479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92280" y="4457880"/>
            <a:ext cx="117720" cy="118800"/>
          </a:xfrm>
          <a:prstGeom prst="ellipse">
            <a:avLst/>
          </a:prstGeom>
          <a:solidFill>
            <a:srgbClr val="47ef2b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62520" y="2133720"/>
            <a:ext cx="228600" cy="2133360"/>
          </a:xfrm>
          <a:prstGeom prst="line">
            <a:avLst/>
          </a:prstGeom>
          <a:ln cap="rnd" w="324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16278000">
            <a:off x="2422800" y="4287240"/>
            <a:ext cx="89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1</a:t>
            </a: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  :  </a:t>
            </a: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21200" y="3174840"/>
            <a:ext cx="117360" cy="119160"/>
          </a:xfrm>
          <a:prstGeom prst="ellipse">
            <a:avLst/>
          </a:prstGeom>
          <a:solidFill>
            <a:srgbClr val="47ef2b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15789000">
            <a:off x="3327840" y="308808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1</a:t>
            </a: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  :  </a:t>
            </a: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470320" y="3327480"/>
            <a:ext cx="212400" cy="212760"/>
          </a:xfrm>
          <a:prstGeom prst="ellipse">
            <a:avLst/>
          </a:prstGeom>
          <a:noFill/>
          <a:ln w="3816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44800" y="2009880"/>
            <a:ext cx="212760" cy="212760"/>
          </a:xfrm>
          <a:prstGeom prst="ellipse">
            <a:avLst/>
          </a:prstGeom>
          <a:noFill/>
          <a:ln w="3816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067280" y="4160880"/>
            <a:ext cx="212760" cy="212760"/>
          </a:xfrm>
          <a:prstGeom prst="ellipse">
            <a:avLst/>
          </a:prstGeom>
          <a:noFill/>
          <a:ln w="3816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408400" y="5607000"/>
            <a:ext cx="212400" cy="212760"/>
          </a:xfrm>
          <a:prstGeom prst="ellipse">
            <a:avLst/>
          </a:prstGeom>
          <a:noFill/>
          <a:ln w="3816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The 4-point schem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962520" y="2133720"/>
            <a:ext cx="1066680" cy="121896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029200" y="3352680"/>
            <a:ext cx="2133720" cy="3049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2354040" y="3246480"/>
            <a:ext cx="1725480" cy="142704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6172200" y="3657600"/>
            <a:ext cx="990720" cy="114300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2514600" y="3429000"/>
            <a:ext cx="76320" cy="2286000"/>
          </a:xfrm>
          <a:prstGeom prst="line">
            <a:avLst/>
          </a:prstGeom>
          <a:ln w="57240">
            <a:solidFill>
              <a:srgbClr val="9a7f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2590920" y="2133720"/>
            <a:ext cx="1371600" cy="129528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4190760" y="4267080"/>
            <a:ext cx="1981080" cy="5335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962520" y="2133720"/>
            <a:ext cx="228600" cy="2133360"/>
          </a:xfrm>
          <a:prstGeom prst="line">
            <a:avLst/>
          </a:prstGeom>
          <a:ln cap="rnd" w="324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492280" y="4457880"/>
            <a:ext cx="117720" cy="118800"/>
          </a:xfrm>
          <a:prstGeom prst="ellipse">
            <a:avLst/>
          </a:prstGeom>
          <a:solidFill>
            <a:srgbClr val="47ef2b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21200" y="3174840"/>
            <a:ext cx="117360" cy="119160"/>
          </a:xfrm>
          <a:prstGeom prst="ellipse">
            <a:avLst/>
          </a:prstGeom>
          <a:solidFill>
            <a:srgbClr val="47ef2b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rot="19203000">
            <a:off x="1942200" y="38584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1 :          8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290680" y="4606920"/>
            <a:ext cx="117720" cy="119160"/>
          </a:xfrm>
          <a:prstGeom prst="ellipse">
            <a:avLst/>
          </a:prstGeom>
          <a:solidFill>
            <a:srgbClr val="cd3333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2514240" y="4267080"/>
            <a:ext cx="1676520" cy="14479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The 4-point schem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1066680" cy="121896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029200" y="3352680"/>
            <a:ext cx="2133720" cy="3049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6172200" y="3657600"/>
            <a:ext cx="990720" cy="114300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2514600" y="3429000"/>
            <a:ext cx="76320" cy="2286000"/>
          </a:xfrm>
          <a:prstGeom prst="line">
            <a:avLst/>
          </a:prstGeom>
          <a:ln w="57240">
            <a:solidFill>
              <a:srgbClr val="9a7f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590920" y="2133720"/>
            <a:ext cx="1371600" cy="129528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 flipV="1">
            <a:off x="4190760" y="4267080"/>
            <a:ext cx="1981080" cy="5335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290680" y="4606920"/>
            <a:ext cx="117720" cy="119160"/>
          </a:xfrm>
          <a:prstGeom prst="ellipse">
            <a:avLst/>
          </a:prstGeom>
          <a:solidFill>
            <a:srgbClr val="cd3333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2514240" y="4267080"/>
            <a:ext cx="1676520" cy="14479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The 4-point schem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590920" y="2133720"/>
            <a:ext cx="1371600" cy="1295280"/>
          </a:xfrm>
          <a:prstGeom prst="line">
            <a:avLst/>
          </a:prstGeom>
          <a:ln w="57240">
            <a:solidFill>
              <a:srgbClr val="9a7f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962520" y="2133720"/>
            <a:ext cx="1066680" cy="121896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029200" y="3352680"/>
            <a:ext cx="2133720" cy="3049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6172200" y="3657600"/>
            <a:ext cx="990720" cy="114300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 flipV="1">
            <a:off x="4190760" y="4267080"/>
            <a:ext cx="1981080" cy="5335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2514240" y="4267080"/>
            <a:ext cx="1676520" cy="14479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2514600" y="3429000"/>
            <a:ext cx="76320" cy="228600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25800" y="2598840"/>
            <a:ext cx="117360" cy="118800"/>
          </a:xfrm>
          <a:prstGeom prst="ellipse">
            <a:avLst/>
          </a:prstGeom>
          <a:solidFill>
            <a:srgbClr val="cd3333"/>
          </a:solidFill>
          <a:ln w="936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962520" y="2133720"/>
            <a:ext cx="1066680" cy="1218960"/>
          </a:xfrm>
          <a:prstGeom prst="line">
            <a:avLst/>
          </a:prstGeom>
          <a:ln w="57240">
            <a:solidFill>
              <a:srgbClr val="9a7f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The 4-point schem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2590920" y="2133720"/>
            <a:ext cx="1371600" cy="129528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29200" y="3352680"/>
            <a:ext cx="2133720" cy="3049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6172200" y="3657600"/>
            <a:ext cx="990720" cy="114300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 flipV="1">
            <a:off x="4190760" y="4267080"/>
            <a:ext cx="1981080" cy="5335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2514240" y="4267080"/>
            <a:ext cx="1676520" cy="14479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2514600" y="3429000"/>
            <a:ext cx="76320" cy="228600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356000" y="2503440"/>
            <a:ext cx="117720" cy="119160"/>
          </a:xfrm>
          <a:prstGeom prst="ellipse">
            <a:avLst/>
          </a:prstGeom>
          <a:solidFill>
            <a:srgbClr val="cd3333"/>
          </a:solidFill>
          <a:ln w="936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5029200" y="3352680"/>
            <a:ext cx="2133720" cy="304920"/>
          </a:xfrm>
          <a:prstGeom prst="line">
            <a:avLst/>
          </a:prstGeom>
          <a:ln w="57240">
            <a:solidFill>
              <a:srgbClr val="9a7f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The 4-point schem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2590920" y="2133720"/>
            <a:ext cx="1371600" cy="129528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962520" y="2133720"/>
            <a:ext cx="1066680" cy="121896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6172200" y="3657600"/>
            <a:ext cx="990720" cy="114300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 flipV="1">
            <a:off x="4190760" y="4267080"/>
            <a:ext cx="1981080" cy="5335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2514240" y="4267080"/>
            <a:ext cx="1676520" cy="14479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2514600" y="3429000"/>
            <a:ext cx="76320" cy="228600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122880" y="3444840"/>
            <a:ext cx="117720" cy="119160"/>
          </a:xfrm>
          <a:prstGeom prst="ellipse">
            <a:avLst/>
          </a:prstGeom>
          <a:solidFill>
            <a:srgbClr val="cd3333"/>
          </a:solidFill>
          <a:ln w="936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 flipH="1">
            <a:off x="6172200" y="3657600"/>
            <a:ext cx="990720" cy="1143000"/>
          </a:xfrm>
          <a:prstGeom prst="line">
            <a:avLst/>
          </a:prstGeom>
          <a:ln w="57240">
            <a:solidFill>
              <a:srgbClr val="9a7f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The 4-point schem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2590920" y="2133720"/>
            <a:ext cx="1371600" cy="129528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962520" y="2133720"/>
            <a:ext cx="1066680" cy="121896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029200" y="3352680"/>
            <a:ext cx="2133720" cy="3049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 flipV="1">
            <a:off x="4190760" y="4267080"/>
            <a:ext cx="1981080" cy="5335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2514240" y="4267080"/>
            <a:ext cx="1676520" cy="14479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2514600" y="3429000"/>
            <a:ext cx="76320" cy="228600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867360" y="4229280"/>
            <a:ext cx="117720" cy="118800"/>
          </a:xfrm>
          <a:prstGeom prst="ellipse">
            <a:avLst/>
          </a:prstGeom>
          <a:solidFill>
            <a:srgbClr val="cd3333"/>
          </a:solidFill>
          <a:ln w="936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orner Cutting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2590920" y="2133720"/>
            <a:ext cx="1371600" cy="129528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62520" y="2133720"/>
            <a:ext cx="1066680" cy="121896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3352680"/>
            <a:ext cx="2133720" cy="3049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172200" y="3657600"/>
            <a:ext cx="990720" cy="114300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4190760" y="4267080"/>
            <a:ext cx="1981080" cy="5335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514240" y="4267080"/>
            <a:ext cx="1676520" cy="14479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514600" y="3429000"/>
            <a:ext cx="76320" cy="228600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 flipH="1" flipV="1">
            <a:off x="4190760" y="4267080"/>
            <a:ext cx="1981080" cy="533520"/>
          </a:xfrm>
          <a:prstGeom prst="line">
            <a:avLst/>
          </a:prstGeom>
          <a:ln w="57240">
            <a:solidFill>
              <a:srgbClr val="9a7f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The 4-point schem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2590920" y="2133720"/>
            <a:ext cx="1371600" cy="129528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962520" y="2133720"/>
            <a:ext cx="1066680" cy="121896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2133720" cy="3049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6172200" y="3657600"/>
            <a:ext cx="990720" cy="114300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2514240" y="4267080"/>
            <a:ext cx="1676520" cy="14479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514600" y="3429000"/>
            <a:ext cx="76320" cy="228600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091120" y="4427640"/>
            <a:ext cx="117360" cy="118800"/>
          </a:xfrm>
          <a:prstGeom prst="ellipse">
            <a:avLst/>
          </a:prstGeom>
          <a:solidFill>
            <a:srgbClr val="cd3333"/>
          </a:solidFill>
          <a:ln w="936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 flipH="1">
            <a:off x="2514240" y="4267080"/>
            <a:ext cx="1676520" cy="1447920"/>
          </a:xfrm>
          <a:prstGeom prst="line">
            <a:avLst/>
          </a:prstGeom>
          <a:ln w="57240">
            <a:solidFill>
              <a:srgbClr val="9a7f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The 4-point schem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2590920" y="2133720"/>
            <a:ext cx="1371600" cy="129528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62520" y="2133720"/>
            <a:ext cx="1066680" cy="121896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029200" y="3352680"/>
            <a:ext cx="2133720" cy="3049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6172200" y="3657600"/>
            <a:ext cx="990720" cy="114300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 flipV="1">
            <a:off x="4190760" y="4267080"/>
            <a:ext cx="1981080" cy="5335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2514600" y="3429000"/>
            <a:ext cx="76320" cy="228600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286080" y="4902120"/>
            <a:ext cx="117360" cy="119160"/>
          </a:xfrm>
          <a:prstGeom prst="ellipse">
            <a:avLst/>
          </a:prstGeom>
          <a:solidFill>
            <a:srgbClr val="cd3333"/>
          </a:solidFill>
          <a:ln w="936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The 4-point schem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2590920" y="2133720"/>
            <a:ext cx="1371600" cy="129528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962520" y="2133720"/>
            <a:ext cx="1066680" cy="121896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29200" y="3352680"/>
            <a:ext cx="2133720" cy="3049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6172200" y="3657600"/>
            <a:ext cx="990720" cy="114300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4190760" y="4267080"/>
            <a:ext cx="1981080" cy="5335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2514240" y="4267080"/>
            <a:ext cx="1676520" cy="14479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2514600" y="3429000"/>
            <a:ext cx="76320" cy="228600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282760" y="4678200"/>
            <a:ext cx="117720" cy="119160"/>
          </a:xfrm>
          <a:prstGeom prst="ellipse">
            <a:avLst/>
          </a:prstGeom>
          <a:solidFill>
            <a:srgbClr val="cd3333"/>
          </a:solidFill>
          <a:ln w="936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25800" y="2598840"/>
            <a:ext cx="117360" cy="118800"/>
          </a:xfrm>
          <a:prstGeom prst="ellipse">
            <a:avLst/>
          </a:prstGeom>
          <a:solidFill>
            <a:srgbClr val="cd3333"/>
          </a:solidFill>
          <a:ln w="936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356000" y="2503440"/>
            <a:ext cx="117720" cy="119160"/>
          </a:xfrm>
          <a:prstGeom prst="ellipse">
            <a:avLst/>
          </a:prstGeom>
          <a:solidFill>
            <a:srgbClr val="cd3333"/>
          </a:solidFill>
          <a:ln w="936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122880" y="3444840"/>
            <a:ext cx="117720" cy="119160"/>
          </a:xfrm>
          <a:prstGeom prst="ellipse">
            <a:avLst/>
          </a:prstGeom>
          <a:solidFill>
            <a:srgbClr val="cd3333"/>
          </a:solidFill>
          <a:ln w="936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867360" y="4229280"/>
            <a:ext cx="117720" cy="118800"/>
          </a:xfrm>
          <a:prstGeom prst="ellipse">
            <a:avLst/>
          </a:prstGeom>
          <a:solidFill>
            <a:srgbClr val="cd3333"/>
          </a:solidFill>
          <a:ln w="936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091120" y="4427640"/>
            <a:ext cx="117360" cy="118800"/>
          </a:xfrm>
          <a:prstGeom prst="ellipse">
            <a:avLst/>
          </a:prstGeom>
          <a:solidFill>
            <a:srgbClr val="cd3333"/>
          </a:solidFill>
          <a:ln w="936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286080" y="4902120"/>
            <a:ext cx="117360" cy="119160"/>
          </a:xfrm>
          <a:prstGeom prst="ellipse">
            <a:avLst/>
          </a:prstGeom>
          <a:solidFill>
            <a:srgbClr val="cd3333"/>
          </a:solidFill>
          <a:ln w="936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The 4-point schem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 flipV="1">
            <a:off x="2349000" y="4709880"/>
            <a:ext cx="158760" cy="1004760"/>
          </a:xfrm>
          <a:prstGeom prst="line">
            <a:avLst/>
          </a:prstGeom>
          <a:ln w="38160">
            <a:solidFill>
              <a:srgbClr val="cd33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3333600" y="4275000"/>
            <a:ext cx="860400" cy="696960"/>
          </a:xfrm>
          <a:prstGeom prst="line">
            <a:avLst/>
          </a:prstGeom>
          <a:ln w="38160">
            <a:solidFill>
              <a:srgbClr val="cd33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075280" y="4454640"/>
            <a:ext cx="1090440" cy="352440"/>
          </a:xfrm>
          <a:prstGeom prst="line">
            <a:avLst/>
          </a:prstGeom>
          <a:ln w="38160">
            <a:solidFill>
              <a:srgbClr val="cd33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6919920" y="3663720"/>
            <a:ext cx="236520" cy="626760"/>
          </a:xfrm>
          <a:prstGeom prst="line">
            <a:avLst/>
          </a:prstGeom>
          <a:ln w="38160">
            <a:solidFill>
              <a:srgbClr val="cd33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 flipV="1">
            <a:off x="5008680" y="3330720"/>
            <a:ext cx="1110960" cy="172800"/>
          </a:xfrm>
          <a:prstGeom prst="line">
            <a:avLst/>
          </a:prstGeom>
          <a:ln w="38160">
            <a:solidFill>
              <a:srgbClr val="cd33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 flipV="1">
            <a:off x="3949200" y="2115720"/>
            <a:ext cx="444600" cy="405000"/>
          </a:xfrm>
          <a:prstGeom prst="line">
            <a:avLst/>
          </a:prstGeom>
          <a:ln w="38160">
            <a:solidFill>
              <a:srgbClr val="cd33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2577960" y="2665440"/>
            <a:ext cx="508320" cy="744480"/>
          </a:xfrm>
          <a:prstGeom prst="line">
            <a:avLst/>
          </a:prstGeom>
          <a:ln w="38160">
            <a:solidFill>
              <a:srgbClr val="cd33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3086280" y="2111040"/>
            <a:ext cx="861840" cy="554040"/>
          </a:xfrm>
          <a:prstGeom prst="line">
            <a:avLst/>
          </a:prstGeom>
          <a:ln w="38160">
            <a:solidFill>
              <a:srgbClr val="cd33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394160" y="2521080"/>
            <a:ext cx="615960" cy="811080"/>
          </a:xfrm>
          <a:prstGeom prst="line">
            <a:avLst/>
          </a:prstGeom>
          <a:ln w="38160">
            <a:solidFill>
              <a:srgbClr val="cd33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6165720" y="4295880"/>
            <a:ext cx="749520" cy="511200"/>
          </a:xfrm>
          <a:prstGeom prst="line">
            <a:avLst/>
          </a:prstGeom>
          <a:ln w="38160">
            <a:solidFill>
              <a:srgbClr val="cd33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113520" y="3500280"/>
            <a:ext cx="1033560" cy="160560"/>
          </a:xfrm>
          <a:prstGeom prst="line">
            <a:avLst/>
          </a:prstGeom>
          <a:ln w="38160">
            <a:solidFill>
              <a:srgbClr val="cd33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191120" y="4273560"/>
            <a:ext cx="877680" cy="177840"/>
          </a:xfrm>
          <a:prstGeom prst="line">
            <a:avLst/>
          </a:prstGeom>
          <a:ln w="38160">
            <a:solidFill>
              <a:srgbClr val="cd33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2508120" y="4982760"/>
            <a:ext cx="836640" cy="731880"/>
          </a:xfrm>
          <a:prstGeom prst="line">
            <a:avLst/>
          </a:prstGeom>
          <a:ln w="38160">
            <a:solidFill>
              <a:srgbClr val="cd33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2346480" y="3406320"/>
            <a:ext cx="231480" cy="1298520"/>
          </a:xfrm>
          <a:prstGeom prst="line">
            <a:avLst/>
          </a:prstGeom>
          <a:ln w="38160">
            <a:solidFill>
              <a:srgbClr val="cd33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The 4-point schem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 flipV="1">
            <a:off x="2349000" y="4709880"/>
            <a:ext cx="158760" cy="100476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3333600" y="4275000"/>
            <a:ext cx="860400" cy="69696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075280" y="4454640"/>
            <a:ext cx="1090440" cy="35244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6919920" y="3663720"/>
            <a:ext cx="236520" cy="62676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 flipV="1">
            <a:off x="5008680" y="3330720"/>
            <a:ext cx="1110960" cy="17280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 flipV="1">
            <a:off x="3949200" y="2115720"/>
            <a:ext cx="444600" cy="40500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2577960" y="2665440"/>
            <a:ext cx="508320" cy="74448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3086280" y="2111040"/>
            <a:ext cx="861840" cy="55404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394160" y="2521080"/>
            <a:ext cx="615960" cy="81108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6165720" y="4295880"/>
            <a:ext cx="749520" cy="51120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113520" y="3500280"/>
            <a:ext cx="1033560" cy="16056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191120" y="4273560"/>
            <a:ext cx="877680" cy="17784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2508120" y="4982760"/>
            <a:ext cx="836640" cy="73188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2346480" y="3406320"/>
            <a:ext cx="231480" cy="12985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The 4-point schem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238480" y="2101680"/>
            <a:ext cx="5113080" cy="3768840"/>
          </a:xfrm>
          <a:custGeom>
            <a:avLst/>
            <a:gdLst/>
            <a:ahLst/>
            <a:rect l="l" t="t" r="r" b="b"/>
            <a:pathLst>
              <a:path w="3221" h="2374">
                <a:moveTo>
                  <a:pt x="168" y="2284"/>
                </a:moveTo>
                <a:cubicBezTo>
                  <a:pt x="0" y="2194"/>
                  <a:pt x="59" y="1211"/>
                  <a:pt x="212" y="832"/>
                </a:cubicBezTo>
                <a:cubicBezTo>
                  <a:pt x="365" y="453"/>
                  <a:pt x="828" y="18"/>
                  <a:pt x="1086" y="9"/>
                </a:cubicBezTo>
                <a:cubicBezTo>
                  <a:pt x="1344" y="0"/>
                  <a:pt x="1424" y="617"/>
                  <a:pt x="1760" y="780"/>
                </a:cubicBezTo>
                <a:cubicBezTo>
                  <a:pt x="2096" y="943"/>
                  <a:pt x="2981" y="835"/>
                  <a:pt x="3101" y="987"/>
                </a:cubicBezTo>
                <a:cubicBezTo>
                  <a:pt x="3221" y="1139"/>
                  <a:pt x="2793" y="1627"/>
                  <a:pt x="2479" y="1691"/>
                </a:cubicBezTo>
                <a:cubicBezTo>
                  <a:pt x="2165" y="1755"/>
                  <a:pt x="1603" y="1274"/>
                  <a:pt x="1219" y="1372"/>
                </a:cubicBezTo>
                <a:cubicBezTo>
                  <a:pt x="835" y="1470"/>
                  <a:pt x="336" y="2374"/>
                  <a:pt x="168" y="2284"/>
                </a:cubicBezTo>
                <a:close/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The 4-point schem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238480" y="2101680"/>
            <a:ext cx="5113080" cy="3768840"/>
          </a:xfrm>
          <a:custGeom>
            <a:avLst/>
            <a:gdLst/>
            <a:ahLst/>
            <a:rect l="l" t="t" r="r" b="b"/>
            <a:pathLst>
              <a:path w="3221" h="2374">
                <a:moveTo>
                  <a:pt x="168" y="2284"/>
                </a:moveTo>
                <a:cubicBezTo>
                  <a:pt x="0" y="2194"/>
                  <a:pt x="59" y="1211"/>
                  <a:pt x="212" y="832"/>
                </a:cubicBezTo>
                <a:cubicBezTo>
                  <a:pt x="365" y="453"/>
                  <a:pt x="828" y="18"/>
                  <a:pt x="1086" y="9"/>
                </a:cubicBezTo>
                <a:cubicBezTo>
                  <a:pt x="1344" y="0"/>
                  <a:pt x="1424" y="617"/>
                  <a:pt x="1760" y="780"/>
                </a:cubicBezTo>
                <a:cubicBezTo>
                  <a:pt x="2096" y="943"/>
                  <a:pt x="2981" y="835"/>
                  <a:pt x="3101" y="987"/>
                </a:cubicBezTo>
                <a:cubicBezTo>
                  <a:pt x="3221" y="1139"/>
                  <a:pt x="2793" y="1627"/>
                  <a:pt x="2479" y="1691"/>
                </a:cubicBezTo>
                <a:cubicBezTo>
                  <a:pt x="2165" y="1755"/>
                  <a:pt x="1603" y="1274"/>
                  <a:pt x="1219" y="1372"/>
                </a:cubicBezTo>
                <a:cubicBezTo>
                  <a:pt x="835" y="1470"/>
                  <a:pt x="336" y="2374"/>
                  <a:pt x="168" y="2284"/>
                </a:cubicBezTo>
                <a:close/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297240" y="5657760"/>
            <a:ext cx="340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e control polygo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2576520" y="2117520"/>
            <a:ext cx="1327320" cy="1306440"/>
          </a:xfrm>
          <a:prstGeom prst="line">
            <a:avLst/>
          </a:prstGeom>
          <a:ln cap="rnd" w="12600">
            <a:solidFill>
              <a:srgbClr val="402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900600" y="2122560"/>
            <a:ext cx="1128600" cy="1230120"/>
          </a:xfrm>
          <a:prstGeom prst="line">
            <a:avLst/>
          </a:prstGeom>
          <a:ln cap="rnd" w="12600">
            <a:solidFill>
              <a:srgbClr val="402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29200" y="3352680"/>
            <a:ext cx="2104920" cy="297000"/>
          </a:xfrm>
          <a:prstGeom prst="line">
            <a:avLst/>
          </a:prstGeom>
          <a:ln cap="rnd" w="12600">
            <a:solidFill>
              <a:srgbClr val="402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6129360" y="3651120"/>
            <a:ext cx="1008000" cy="1149480"/>
          </a:xfrm>
          <a:prstGeom prst="line">
            <a:avLst/>
          </a:prstGeom>
          <a:ln cap="rnd" w="12600">
            <a:solidFill>
              <a:srgbClr val="402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 flipV="1">
            <a:off x="4157640" y="4285800"/>
            <a:ext cx="1968480" cy="514440"/>
          </a:xfrm>
          <a:prstGeom prst="line">
            <a:avLst/>
          </a:prstGeom>
          <a:ln cap="rnd" w="12600">
            <a:solidFill>
              <a:srgbClr val="402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2513160" y="4287960"/>
            <a:ext cx="1644480" cy="1449360"/>
          </a:xfrm>
          <a:prstGeom prst="line">
            <a:avLst/>
          </a:prstGeom>
          <a:ln cap="rnd" w="12600">
            <a:solidFill>
              <a:srgbClr val="402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2509920" y="3422520"/>
            <a:ext cx="66600" cy="2316240"/>
          </a:xfrm>
          <a:prstGeom prst="line">
            <a:avLst/>
          </a:prstGeom>
          <a:ln cap="rnd" w="12600">
            <a:solidFill>
              <a:srgbClr val="402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4433760" y="4530600"/>
            <a:ext cx="223920" cy="117504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950080" y="2070000"/>
            <a:ext cx="251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3333"/>
                </a:solidFill>
                <a:latin typeface="Times New Roman"/>
              </a:rPr>
              <a:t>The limit curv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6783120" y="2575080"/>
            <a:ext cx="153720" cy="930240"/>
          </a:xfrm>
          <a:prstGeom prst="line">
            <a:avLst/>
          </a:prstGeom>
          <a:ln w="9360">
            <a:solidFill>
              <a:srgbClr val="cd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082520" y="2048040"/>
            <a:ext cx="17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A control point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833480" y="2481120"/>
            <a:ext cx="682560" cy="8701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ubdivision curv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238480" y="2101680"/>
            <a:ext cx="5113080" cy="3768840"/>
          </a:xfrm>
          <a:custGeom>
            <a:avLst/>
            <a:gdLst/>
            <a:ahLst/>
            <a:rect l="l" t="t" r="r" b="b"/>
            <a:pathLst>
              <a:path w="3221" h="2374">
                <a:moveTo>
                  <a:pt x="168" y="2284"/>
                </a:moveTo>
                <a:cubicBezTo>
                  <a:pt x="0" y="2194"/>
                  <a:pt x="59" y="1211"/>
                  <a:pt x="212" y="832"/>
                </a:cubicBezTo>
                <a:cubicBezTo>
                  <a:pt x="365" y="453"/>
                  <a:pt x="828" y="18"/>
                  <a:pt x="1086" y="9"/>
                </a:cubicBezTo>
                <a:cubicBezTo>
                  <a:pt x="1344" y="0"/>
                  <a:pt x="1424" y="617"/>
                  <a:pt x="1760" y="780"/>
                </a:cubicBezTo>
                <a:cubicBezTo>
                  <a:pt x="2096" y="943"/>
                  <a:pt x="2981" y="835"/>
                  <a:pt x="3101" y="987"/>
                </a:cubicBezTo>
                <a:cubicBezTo>
                  <a:pt x="3221" y="1139"/>
                  <a:pt x="2793" y="1627"/>
                  <a:pt x="2479" y="1691"/>
                </a:cubicBezTo>
                <a:cubicBezTo>
                  <a:pt x="2165" y="1755"/>
                  <a:pt x="1603" y="1274"/>
                  <a:pt x="1219" y="1372"/>
                </a:cubicBezTo>
                <a:cubicBezTo>
                  <a:pt x="835" y="1470"/>
                  <a:pt x="336" y="2374"/>
                  <a:pt x="168" y="2284"/>
                </a:cubicBezTo>
                <a:close/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530440" y="2430360"/>
            <a:ext cx="4281480" cy="2884680"/>
          </a:xfrm>
          <a:custGeom>
            <a:avLst/>
            <a:gdLst/>
            <a:ahLst/>
            <a:rect l="l" t="t" r="r" b="b"/>
            <a:pathLst>
              <a:path w="2697" h="1817">
                <a:moveTo>
                  <a:pt x="6" y="1369"/>
                </a:moveTo>
                <a:cubicBezTo>
                  <a:pt x="12" y="1248"/>
                  <a:pt x="40" y="1084"/>
                  <a:pt x="66" y="965"/>
                </a:cubicBezTo>
                <a:cubicBezTo>
                  <a:pt x="92" y="846"/>
                  <a:pt x="123" y="746"/>
                  <a:pt x="162" y="653"/>
                </a:cubicBezTo>
                <a:cubicBezTo>
                  <a:pt x="201" y="560"/>
                  <a:pt x="246" y="484"/>
                  <a:pt x="302" y="409"/>
                </a:cubicBezTo>
                <a:cubicBezTo>
                  <a:pt x="358" y="334"/>
                  <a:pt x="433" y="264"/>
                  <a:pt x="498" y="205"/>
                </a:cubicBezTo>
                <a:cubicBezTo>
                  <a:pt x="563" y="146"/>
                  <a:pt x="631" y="87"/>
                  <a:pt x="694" y="53"/>
                </a:cubicBezTo>
                <a:cubicBezTo>
                  <a:pt x="757" y="19"/>
                  <a:pt x="816" y="2"/>
                  <a:pt x="874" y="1"/>
                </a:cubicBezTo>
                <a:cubicBezTo>
                  <a:pt x="932" y="0"/>
                  <a:pt x="986" y="17"/>
                  <a:pt x="1042" y="49"/>
                </a:cubicBezTo>
                <a:cubicBezTo>
                  <a:pt x="1098" y="81"/>
                  <a:pt x="1152" y="140"/>
                  <a:pt x="1210" y="193"/>
                </a:cubicBezTo>
                <a:cubicBezTo>
                  <a:pt x="1268" y="246"/>
                  <a:pt x="1323" y="313"/>
                  <a:pt x="1390" y="365"/>
                </a:cubicBezTo>
                <a:cubicBezTo>
                  <a:pt x="1457" y="417"/>
                  <a:pt x="1527" y="462"/>
                  <a:pt x="1614" y="505"/>
                </a:cubicBezTo>
                <a:cubicBezTo>
                  <a:pt x="1701" y="548"/>
                  <a:pt x="1801" y="592"/>
                  <a:pt x="1910" y="621"/>
                </a:cubicBezTo>
                <a:cubicBezTo>
                  <a:pt x="2019" y="650"/>
                  <a:pt x="2158" y="660"/>
                  <a:pt x="2266" y="681"/>
                </a:cubicBezTo>
                <a:cubicBezTo>
                  <a:pt x="2374" y="702"/>
                  <a:pt x="2491" y="719"/>
                  <a:pt x="2558" y="745"/>
                </a:cubicBezTo>
                <a:cubicBezTo>
                  <a:pt x="2625" y="771"/>
                  <a:pt x="2649" y="801"/>
                  <a:pt x="2670" y="837"/>
                </a:cubicBezTo>
                <a:cubicBezTo>
                  <a:pt x="2691" y="873"/>
                  <a:pt x="2697" y="913"/>
                  <a:pt x="2682" y="961"/>
                </a:cubicBezTo>
                <a:cubicBezTo>
                  <a:pt x="2667" y="1009"/>
                  <a:pt x="2625" y="1073"/>
                  <a:pt x="2582" y="1125"/>
                </a:cubicBezTo>
                <a:cubicBezTo>
                  <a:pt x="2539" y="1177"/>
                  <a:pt x="2484" y="1233"/>
                  <a:pt x="2426" y="1273"/>
                </a:cubicBezTo>
                <a:cubicBezTo>
                  <a:pt x="2368" y="1313"/>
                  <a:pt x="2307" y="1343"/>
                  <a:pt x="2234" y="1365"/>
                </a:cubicBezTo>
                <a:cubicBezTo>
                  <a:pt x="2161" y="1387"/>
                  <a:pt x="2085" y="1408"/>
                  <a:pt x="1990" y="1405"/>
                </a:cubicBezTo>
                <a:cubicBezTo>
                  <a:pt x="1895" y="1402"/>
                  <a:pt x="1775" y="1365"/>
                  <a:pt x="1666" y="1345"/>
                </a:cubicBezTo>
                <a:cubicBezTo>
                  <a:pt x="1557" y="1325"/>
                  <a:pt x="1437" y="1293"/>
                  <a:pt x="1338" y="1285"/>
                </a:cubicBezTo>
                <a:cubicBezTo>
                  <a:pt x="1239" y="1277"/>
                  <a:pt x="1157" y="1280"/>
                  <a:pt x="1070" y="1297"/>
                </a:cubicBezTo>
                <a:cubicBezTo>
                  <a:pt x="983" y="1314"/>
                  <a:pt x="900" y="1338"/>
                  <a:pt x="814" y="1385"/>
                </a:cubicBezTo>
                <a:cubicBezTo>
                  <a:pt x="728" y="1432"/>
                  <a:pt x="637" y="1518"/>
                  <a:pt x="554" y="1581"/>
                </a:cubicBezTo>
                <a:cubicBezTo>
                  <a:pt x="471" y="1644"/>
                  <a:pt x="385" y="1724"/>
                  <a:pt x="314" y="1761"/>
                </a:cubicBezTo>
                <a:cubicBezTo>
                  <a:pt x="243" y="1798"/>
                  <a:pt x="177" y="1817"/>
                  <a:pt x="130" y="1805"/>
                </a:cubicBezTo>
                <a:cubicBezTo>
                  <a:pt x="83" y="1793"/>
                  <a:pt x="50" y="1762"/>
                  <a:pt x="30" y="1689"/>
                </a:cubicBezTo>
                <a:cubicBezTo>
                  <a:pt x="10" y="1616"/>
                  <a:pt x="0" y="1490"/>
                  <a:pt x="6" y="1369"/>
                </a:cubicBezTo>
                <a:close/>
              </a:path>
            </a:pathLst>
          </a:custGeom>
          <a:noFill/>
          <a:ln w="28440">
            <a:solidFill>
              <a:srgbClr val="29c30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2590920" y="2123640"/>
            <a:ext cx="1326960" cy="1305000"/>
          </a:xfrm>
          <a:prstGeom prst="line">
            <a:avLst/>
          </a:prstGeom>
          <a:ln cap="rnd" w="12600">
            <a:solidFill>
              <a:srgbClr val="402000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16440" y="2127240"/>
            <a:ext cx="1112760" cy="1225440"/>
          </a:xfrm>
          <a:prstGeom prst="line">
            <a:avLst/>
          </a:prstGeom>
          <a:ln cap="rnd" w="12600">
            <a:solidFill>
              <a:srgbClr val="402000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029200" y="3352680"/>
            <a:ext cx="2104920" cy="300240"/>
          </a:xfrm>
          <a:prstGeom prst="line">
            <a:avLst/>
          </a:prstGeom>
          <a:ln cap="rnd" w="12600">
            <a:solidFill>
              <a:srgbClr val="402000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6136920" y="3648240"/>
            <a:ext cx="1003320" cy="1152360"/>
          </a:xfrm>
          <a:prstGeom prst="line">
            <a:avLst/>
          </a:prstGeom>
          <a:ln cap="rnd" w="12600">
            <a:solidFill>
              <a:srgbClr val="402000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 flipV="1">
            <a:off x="4152600" y="4282920"/>
            <a:ext cx="1989000" cy="516240"/>
          </a:xfrm>
          <a:prstGeom prst="line">
            <a:avLst/>
          </a:prstGeom>
          <a:ln cap="rnd" w="12600">
            <a:solidFill>
              <a:srgbClr val="402000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2514600" y="4278240"/>
            <a:ext cx="1635120" cy="1436760"/>
          </a:xfrm>
          <a:prstGeom prst="line">
            <a:avLst/>
          </a:prstGeom>
          <a:ln cap="rnd" w="12600">
            <a:solidFill>
              <a:srgbClr val="402000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2514600" y="3429000"/>
            <a:ext cx="76320" cy="2286000"/>
          </a:xfrm>
          <a:prstGeom prst="line">
            <a:avLst/>
          </a:prstGeom>
          <a:ln cap="rnd" w="12600">
            <a:solidFill>
              <a:srgbClr val="402000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727520" y="1903320"/>
            <a:ext cx="3795840" cy="785520"/>
          </a:xfrm>
          <a:prstGeom prst="rect">
            <a:avLst/>
          </a:prstGeom>
          <a:noFill/>
          <a:ln w="9360">
            <a:solidFill>
              <a:srgbClr val="29c3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Non interpolatory subdivision scheme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Corner Cutting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751200" y="5078520"/>
            <a:ext cx="3795840" cy="785520"/>
          </a:xfrm>
          <a:prstGeom prst="rect">
            <a:avLst/>
          </a:prstGeom>
          <a:noFill/>
          <a:ln w="936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Interpolatory subdivision scheme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The 4-point scheme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Basic concepts of Subdivisio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026720" y="1828800"/>
            <a:ext cx="7513560" cy="45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 </a:t>
            </a:r>
            <a:r>
              <a:rPr b="0" lang="en-US" sz="2800" spc="-1" strike="noStrike" u="sng">
                <a:solidFill>
                  <a:srgbClr val="402000"/>
                </a:solidFill>
                <a:uFillTx/>
                <a:latin typeface="Times New Roman"/>
              </a:rPr>
              <a:t>subdivision curve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is generated by repeatedly applying a subdivision operator to a given polygon (called the </a:t>
            </a:r>
            <a:r>
              <a:rPr b="0" lang="en-US" sz="2800" spc="-1" strike="noStrike" u="sng">
                <a:solidFill>
                  <a:srgbClr val="402000"/>
                </a:solidFill>
                <a:uFillTx/>
                <a:latin typeface="Times New Roman"/>
              </a:rPr>
              <a:t>control polygon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he central theoretical questions: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02000"/>
                </a:solidFill>
                <a:uFillTx/>
                <a:latin typeface="Times New Roman"/>
              </a:rPr>
              <a:t>Convergence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: Given a subdivision operator and a control polygon, does  the subdivision process converge?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02000"/>
                </a:solidFill>
                <a:uFillTx/>
                <a:latin typeface="Times New Roman"/>
              </a:rPr>
              <a:t>Smoothness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: Does the subdivision process converge to a smooth curve?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ubdivision schemes for surfac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A </a:t>
            </a:r>
            <a:r>
              <a:rPr b="0" lang="en-US" sz="2400" spc="-1" strike="noStrike" u="sng">
                <a:solidFill>
                  <a:srgbClr val="402000"/>
                </a:solidFill>
                <a:uFillTx/>
                <a:latin typeface="Times New Roman"/>
              </a:rPr>
              <a:t>Control net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consists of </a:t>
            </a:r>
            <a:r>
              <a:rPr b="0" lang="en-US" sz="2400" spc="-1" strike="noStrike" u="sng">
                <a:solidFill>
                  <a:srgbClr val="402000"/>
                </a:solidFill>
                <a:uFillTx/>
                <a:latin typeface="Times New Roman"/>
              </a:rPr>
              <a:t>vertices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, </a:t>
            </a:r>
            <a:r>
              <a:rPr b="0" lang="en-US" sz="2400" spc="-1" strike="noStrike" u="sng">
                <a:solidFill>
                  <a:srgbClr val="402000"/>
                </a:solidFill>
                <a:uFillTx/>
                <a:latin typeface="Times New Roman"/>
              </a:rPr>
              <a:t>edges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, and </a:t>
            </a:r>
            <a:r>
              <a:rPr b="0" lang="en-US" sz="2400" spc="-1" strike="noStrike" u="sng">
                <a:solidFill>
                  <a:srgbClr val="402000"/>
                </a:solidFill>
                <a:uFillTx/>
                <a:latin typeface="Times New Roman"/>
              </a:rPr>
              <a:t>faces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n each iteration, the subdivision operator refines the control net, increasing the number of vertices (approximately) by a factor of 4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n the limit the vertices of the control net converge to a </a:t>
            </a:r>
            <a:r>
              <a:rPr b="0" lang="en-US" sz="2400" spc="-1" strike="noStrike" u="sng">
                <a:solidFill>
                  <a:srgbClr val="402000"/>
                </a:solidFill>
                <a:uFillTx/>
                <a:latin typeface="Times New Roman"/>
              </a:rPr>
              <a:t>limit surface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Every subdivision method has a method to generate the </a:t>
            </a:r>
            <a:r>
              <a:rPr b="0" lang="en-US" sz="2400" spc="-1" strike="noStrike" u="sng">
                <a:solidFill>
                  <a:srgbClr val="402000"/>
                </a:solidFill>
                <a:uFillTx/>
                <a:latin typeface="Times New Roman"/>
              </a:rPr>
              <a:t>topology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of the refined net, and rules to calculate the </a:t>
            </a:r>
            <a:r>
              <a:rPr b="0" lang="en-US" sz="2400" spc="-1" strike="noStrike" u="sng">
                <a:solidFill>
                  <a:srgbClr val="402000"/>
                </a:solidFill>
                <a:uFillTx/>
                <a:latin typeface="Times New Roman"/>
              </a:rPr>
              <a:t>location of the new vertices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orner Cutting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590920" y="2133720"/>
            <a:ext cx="1371600" cy="129528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62520" y="2133720"/>
            <a:ext cx="1066680" cy="121896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29200" y="3352680"/>
            <a:ext cx="2133720" cy="3049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6172200" y="3657600"/>
            <a:ext cx="990720" cy="114300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4190760" y="4267080"/>
            <a:ext cx="1981080" cy="5335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514240" y="4267080"/>
            <a:ext cx="1676520" cy="14479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514600" y="3429000"/>
            <a:ext cx="76320" cy="228600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664080" y="2435400"/>
            <a:ext cx="533160" cy="0"/>
          </a:xfrm>
          <a:prstGeom prst="line">
            <a:avLst/>
          </a:prstGeom>
          <a:ln cap="rnd" w="38160">
            <a:solidFill>
              <a:srgbClr val="cd3333"/>
            </a:solidFill>
            <a:custDash>
              <a:ds d="100000" sp="1000"/>
            </a:custDash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906400">
            <a:off x="3843000" y="2529000"/>
            <a:ext cx="20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1 :      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8975000">
            <a:off x="2682000" y="2166480"/>
            <a:ext cx="11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3       : 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orner Cutting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590920" y="2435400"/>
            <a:ext cx="1073160" cy="99360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91120" y="2435400"/>
            <a:ext cx="838080" cy="91728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029200" y="3352680"/>
            <a:ext cx="2133720" cy="3049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6172200" y="3657600"/>
            <a:ext cx="990720" cy="114300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4190760" y="4267080"/>
            <a:ext cx="1981080" cy="5335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514240" y="4267080"/>
            <a:ext cx="1676520" cy="14479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514600" y="3429000"/>
            <a:ext cx="76320" cy="228600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664080" y="2435400"/>
            <a:ext cx="533160" cy="0"/>
          </a:xfrm>
          <a:prstGeom prst="line">
            <a:avLst/>
          </a:prstGeom>
          <a:ln w="38160">
            <a:solidFill>
              <a:srgbClr val="cd33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orner Cutting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40120" y="2435400"/>
            <a:ext cx="723960" cy="66960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91120" y="2435400"/>
            <a:ext cx="533160" cy="6127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86400" y="3429000"/>
            <a:ext cx="1219320" cy="15228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6400800" y="3962520"/>
            <a:ext cx="457200" cy="53316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4647960" y="4419720"/>
            <a:ext cx="1066680" cy="30456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971800" y="4572000"/>
            <a:ext cx="838080" cy="7621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514600" y="3916440"/>
            <a:ext cx="76320" cy="13399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664080" y="2435400"/>
            <a:ext cx="533160" cy="0"/>
          </a:xfrm>
          <a:prstGeom prst="line">
            <a:avLst/>
          </a:prstGeom>
          <a:ln w="38160">
            <a:solidFill>
              <a:srgbClr val="cd33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2590920" y="3105000"/>
            <a:ext cx="349200" cy="811440"/>
          </a:xfrm>
          <a:prstGeom prst="line">
            <a:avLst/>
          </a:prstGeom>
          <a:ln w="38160">
            <a:solidFill>
              <a:srgbClr val="cd33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14600" y="5256360"/>
            <a:ext cx="457200" cy="77760"/>
          </a:xfrm>
          <a:prstGeom prst="line">
            <a:avLst/>
          </a:prstGeom>
          <a:ln w="38160">
            <a:solidFill>
              <a:srgbClr val="cd33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3048120"/>
            <a:ext cx="762120" cy="380880"/>
          </a:xfrm>
          <a:prstGeom prst="line">
            <a:avLst/>
          </a:prstGeom>
          <a:ln w="38160">
            <a:solidFill>
              <a:srgbClr val="cd33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05720" y="3581280"/>
            <a:ext cx="152280" cy="381240"/>
          </a:xfrm>
          <a:prstGeom prst="line">
            <a:avLst/>
          </a:prstGeom>
          <a:ln w="38160">
            <a:solidFill>
              <a:srgbClr val="cd33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5714640" y="4495680"/>
            <a:ext cx="685800" cy="228600"/>
          </a:xfrm>
          <a:prstGeom prst="line">
            <a:avLst/>
          </a:prstGeom>
          <a:ln w="38160">
            <a:solidFill>
              <a:srgbClr val="cd33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809520" y="4419720"/>
            <a:ext cx="838440" cy="152280"/>
          </a:xfrm>
          <a:prstGeom prst="line">
            <a:avLst/>
          </a:prstGeom>
          <a:ln w="38160">
            <a:solidFill>
              <a:srgbClr val="cd33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orner Cutting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940120" y="2435400"/>
            <a:ext cx="723960" cy="66960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91120" y="2435400"/>
            <a:ext cx="533160" cy="6127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86400" y="3429000"/>
            <a:ext cx="1219320" cy="15228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6400800" y="3962520"/>
            <a:ext cx="457200" cy="53316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4647960" y="4419720"/>
            <a:ext cx="1066680" cy="30456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971800" y="4572000"/>
            <a:ext cx="838080" cy="7621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514600" y="3916440"/>
            <a:ext cx="76320" cy="13399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664080" y="2435400"/>
            <a:ext cx="533160" cy="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590920" y="3105000"/>
            <a:ext cx="349200" cy="81144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14600" y="5256360"/>
            <a:ext cx="457200" cy="7776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724280" y="3048120"/>
            <a:ext cx="762120" cy="38088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05720" y="3581280"/>
            <a:ext cx="152280" cy="38124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5714640" y="4495680"/>
            <a:ext cx="685800" cy="22860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3809520" y="4419720"/>
            <a:ext cx="838440" cy="15228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orner Cutting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125880" y="2597040"/>
            <a:ext cx="361800" cy="3319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324320" y="2592360"/>
            <a:ext cx="271440" cy="31284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800680" y="3467160"/>
            <a:ext cx="642960" cy="763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6505560" y="4071960"/>
            <a:ext cx="257040" cy="29520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4900680" y="4491000"/>
            <a:ext cx="590400" cy="16200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3180960" y="4734000"/>
            <a:ext cx="452520" cy="40464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523960" y="4258800"/>
            <a:ext cx="38160" cy="69228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787920" y="2435400"/>
            <a:ext cx="271440" cy="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2690640" y="3262320"/>
            <a:ext cx="187560" cy="4255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38440" y="5275440"/>
            <a:ext cx="233280" cy="3960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90960" y="3138480"/>
            <a:ext cx="419400" cy="20484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38840" y="3686040"/>
            <a:ext cx="81000" cy="18108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890680" y="4548240"/>
            <a:ext cx="366840" cy="1141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4024080" y="4457880"/>
            <a:ext cx="409320" cy="7128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3487680" y="2435040"/>
            <a:ext cx="300240" cy="161640"/>
          </a:xfrm>
          <a:prstGeom prst="line">
            <a:avLst/>
          </a:prstGeom>
          <a:ln w="38160">
            <a:solidFill>
              <a:srgbClr val="cd33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059360" y="2435400"/>
            <a:ext cx="264960" cy="152280"/>
          </a:xfrm>
          <a:prstGeom prst="line">
            <a:avLst/>
          </a:prstGeom>
          <a:ln w="38160">
            <a:solidFill>
              <a:srgbClr val="cd33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5491080" y="4653000"/>
            <a:ext cx="399960" cy="9360"/>
          </a:xfrm>
          <a:prstGeom prst="line">
            <a:avLst/>
          </a:prstGeom>
          <a:ln w="38160">
            <a:solidFill>
              <a:srgbClr val="cd33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6257880" y="4366800"/>
            <a:ext cx="247680" cy="181080"/>
          </a:xfrm>
          <a:prstGeom prst="line">
            <a:avLst/>
          </a:prstGeom>
          <a:ln w="38160">
            <a:solidFill>
              <a:srgbClr val="cd33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762600" y="3866760"/>
            <a:ext cx="57240" cy="204840"/>
          </a:xfrm>
          <a:prstGeom prst="line">
            <a:avLst/>
          </a:prstGeom>
          <a:ln w="38160">
            <a:solidFill>
              <a:srgbClr val="cd33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10360" y="3343320"/>
            <a:ext cx="490320" cy="123840"/>
          </a:xfrm>
          <a:prstGeom prst="line">
            <a:avLst/>
          </a:prstGeom>
          <a:ln w="38160">
            <a:solidFill>
              <a:srgbClr val="cd33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95760" y="2905200"/>
            <a:ext cx="304920" cy="233280"/>
          </a:xfrm>
          <a:prstGeom prst="line">
            <a:avLst/>
          </a:prstGeom>
          <a:ln w="38160">
            <a:solidFill>
              <a:srgbClr val="cd33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43640" y="3543480"/>
            <a:ext cx="295200" cy="142560"/>
          </a:xfrm>
          <a:prstGeom prst="line">
            <a:avLst/>
          </a:prstGeom>
          <a:ln w="38160">
            <a:solidFill>
              <a:srgbClr val="cd33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433760" y="4457880"/>
            <a:ext cx="466920" cy="33120"/>
          </a:xfrm>
          <a:prstGeom prst="line">
            <a:avLst/>
          </a:prstGeom>
          <a:ln w="38160">
            <a:solidFill>
              <a:srgbClr val="cd33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3633840" y="4528800"/>
            <a:ext cx="390600" cy="204840"/>
          </a:xfrm>
          <a:prstGeom prst="line">
            <a:avLst/>
          </a:prstGeom>
          <a:ln w="38160">
            <a:solidFill>
              <a:srgbClr val="cd33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878200" y="5138640"/>
            <a:ext cx="303120" cy="176400"/>
          </a:xfrm>
          <a:prstGeom prst="line">
            <a:avLst/>
          </a:prstGeom>
          <a:ln w="38160">
            <a:solidFill>
              <a:srgbClr val="cd33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523960" y="4951440"/>
            <a:ext cx="114480" cy="324000"/>
          </a:xfrm>
          <a:prstGeom prst="line">
            <a:avLst/>
          </a:prstGeom>
          <a:ln w="38160">
            <a:solidFill>
              <a:srgbClr val="cd33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2562120" y="3687480"/>
            <a:ext cx="128520" cy="571320"/>
          </a:xfrm>
          <a:prstGeom prst="line">
            <a:avLst/>
          </a:prstGeom>
          <a:ln w="38160">
            <a:solidFill>
              <a:srgbClr val="cd33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2871720" y="2928960"/>
            <a:ext cx="254160" cy="333360"/>
          </a:xfrm>
          <a:prstGeom prst="line">
            <a:avLst/>
          </a:prstGeom>
          <a:ln w="38160">
            <a:solidFill>
              <a:srgbClr val="cd33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orner Cutting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3125880" y="2597040"/>
            <a:ext cx="361800" cy="3319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24320" y="2592360"/>
            <a:ext cx="271440" cy="31284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800680" y="3467160"/>
            <a:ext cx="642960" cy="763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6505560" y="4071960"/>
            <a:ext cx="257040" cy="29520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4900680" y="4491000"/>
            <a:ext cx="590400" cy="16200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180960" y="4734000"/>
            <a:ext cx="452520" cy="40464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523960" y="4258800"/>
            <a:ext cx="38160" cy="69228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787920" y="2435400"/>
            <a:ext cx="271440" cy="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690640" y="3262320"/>
            <a:ext cx="187560" cy="4255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638440" y="5275440"/>
            <a:ext cx="233280" cy="3960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90960" y="3138480"/>
            <a:ext cx="419400" cy="20484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738840" y="3686040"/>
            <a:ext cx="81000" cy="18108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5890680" y="4548240"/>
            <a:ext cx="366840" cy="1141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4024080" y="4457880"/>
            <a:ext cx="409320" cy="7128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87680" y="2435040"/>
            <a:ext cx="300240" cy="16164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059360" y="2435400"/>
            <a:ext cx="264960" cy="15228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491080" y="4653000"/>
            <a:ext cx="399960" cy="936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6257880" y="4366800"/>
            <a:ext cx="247680" cy="18108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6762600" y="3866760"/>
            <a:ext cx="57240" cy="20484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10360" y="3343320"/>
            <a:ext cx="490320" cy="12384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95760" y="2905200"/>
            <a:ext cx="304920" cy="23328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43640" y="3543480"/>
            <a:ext cx="295200" cy="14256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33760" y="4457880"/>
            <a:ext cx="466920" cy="331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3633840" y="4528800"/>
            <a:ext cx="390600" cy="20484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2878200" y="5138640"/>
            <a:ext cx="303120" cy="17640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2523960" y="4951440"/>
            <a:ext cx="114480" cy="32400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2562120" y="3687480"/>
            <a:ext cx="128520" cy="5713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871720" y="2928960"/>
            <a:ext cx="254160" cy="33336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orner Cutting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30440" y="2430360"/>
            <a:ext cx="4281480" cy="2884680"/>
          </a:xfrm>
          <a:custGeom>
            <a:avLst/>
            <a:gdLst/>
            <a:ahLst/>
            <a:rect l="l" t="t" r="r" b="b"/>
            <a:pathLst>
              <a:path w="2697" h="1817">
                <a:moveTo>
                  <a:pt x="6" y="1369"/>
                </a:moveTo>
                <a:cubicBezTo>
                  <a:pt x="12" y="1248"/>
                  <a:pt x="40" y="1084"/>
                  <a:pt x="66" y="965"/>
                </a:cubicBezTo>
                <a:cubicBezTo>
                  <a:pt x="92" y="846"/>
                  <a:pt x="123" y="746"/>
                  <a:pt x="162" y="653"/>
                </a:cubicBezTo>
                <a:cubicBezTo>
                  <a:pt x="201" y="560"/>
                  <a:pt x="246" y="484"/>
                  <a:pt x="302" y="409"/>
                </a:cubicBezTo>
                <a:cubicBezTo>
                  <a:pt x="358" y="334"/>
                  <a:pt x="433" y="264"/>
                  <a:pt x="498" y="205"/>
                </a:cubicBezTo>
                <a:cubicBezTo>
                  <a:pt x="563" y="146"/>
                  <a:pt x="631" y="87"/>
                  <a:pt x="694" y="53"/>
                </a:cubicBezTo>
                <a:cubicBezTo>
                  <a:pt x="757" y="19"/>
                  <a:pt x="816" y="2"/>
                  <a:pt x="874" y="1"/>
                </a:cubicBezTo>
                <a:cubicBezTo>
                  <a:pt x="932" y="0"/>
                  <a:pt x="986" y="17"/>
                  <a:pt x="1042" y="49"/>
                </a:cubicBezTo>
                <a:cubicBezTo>
                  <a:pt x="1098" y="81"/>
                  <a:pt x="1152" y="140"/>
                  <a:pt x="1210" y="193"/>
                </a:cubicBezTo>
                <a:cubicBezTo>
                  <a:pt x="1268" y="246"/>
                  <a:pt x="1323" y="313"/>
                  <a:pt x="1390" y="365"/>
                </a:cubicBezTo>
                <a:cubicBezTo>
                  <a:pt x="1457" y="417"/>
                  <a:pt x="1527" y="462"/>
                  <a:pt x="1614" y="505"/>
                </a:cubicBezTo>
                <a:cubicBezTo>
                  <a:pt x="1701" y="548"/>
                  <a:pt x="1801" y="592"/>
                  <a:pt x="1910" y="621"/>
                </a:cubicBezTo>
                <a:cubicBezTo>
                  <a:pt x="2019" y="650"/>
                  <a:pt x="2158" y="660"/>
                  <a:pt x="2266" y="681"/>
                </a:cubicBezTo>
                <a:cubicBezTo>
                  <a:pt x="2374" y="702"/>
                  <a:pt x="2491" y="719"/>
                  <a:pt x="2558" y="745"/>
                </a:cubicBezTo>
                <a:cubicBezTo>
                  <a:pt x="2625" y="771"/>
                  <a:pt x="2649" y="801"/>
                  <a:pt x="2670" y="837"/>
                </a:cubicBezTo>
                <a:cubicBezTo>
                  <a:pt x="2691" y="873"/>
                  <a:pt x="2697" y="913"/>
                  <a:pt x="2682" y="961"/>
                </a:cubicBezTo>
                <a:cubicBezTo>
                  <a:pt x="2667" y="1009"/>
                  <a:pt x="2625" y="1073"/>
                  <a:pt x="2582" y="1125"/>
                </a:cubicBezTo>
                <a:cubicBezTo>
                  <a:pt x="2539" y="1177"/>
                  <a:pt x="2484" y="1233"/>
                  <a:pt x="2426" y="1273"/>
                </a:cubicBezTo>
                <a:cubicBezTo>
                  <a:pt x="2368" y="1313"/>
                  <a:pt x="2307" y="1343"/>
                  <a:pt x="2234" y="1365"/>
                </a:cubicBezTo>
                <a:cubicBezTo>
                  <a:pt x="2161" y="1387"/>
                  <a:pt x="2085" y="1408"/>
                  <a:pt x="1990" y="1405"/>
                </a:cubicBezTo>
                <a:cubicBezTo>
                  <a:pt x="1895" y="1402"/>
                  <a:pt x="1775" y="1365"/>
                  <a:pt x="1666" y="1345"/>
                </a:cubicBezTo>
                <a:cubicBezTo>
                  <a:pt x="1557" y="1325"/>
                  <a:pt x="1437" y="1293"/>
                  <a:pt x="1338" y="1285"/>
                </a:cubicBezTo>
                <a:cubicBezTo>
                  <a:pt x="1239" y="1277"/>
                  <a:pt x="1157" y="1280"/>
                  <a:pt x="1070" y="1297"/>
                </a:cubicBezTo>
                <a:cubicBezTo>
                  <a:pt x="983" y="1314"/>
                  <a:pt x="900" y="1338"/>
                  <a:pt x="814" y="1385"/>
                </a:cubicBezTo>
                <a:cubicBezTo>
                  <a:pt x="728" y="1432"/>
                  <a:pt x="637" y="1518"/>
                  <a:pt x="554" y="1581"/>
                </a:cubicBezTo>
                <a:cubicBezTo>
                  <a:pt x="471" y="1644"/>
                  <a:pt x="385" y="1724"/>
                  <a:pt x="314" y="1761"/>
                </a:cubicBezTo>
                <a:cubicBezTo>
                  <a:pt x="243" y="1798"/>
                  <a:pt x="177" y="1817"/>
                  <a:pt x="130" y="1805"/>
                </a:cubicBezTo>
                <a:cubicBezTo>
                  <a:pt x="83" y="1793"/>
                  <a:pt x="50" y="1762"/>
                  <a:pt x="30" y="1689"/>
                </a:cubicBezTo>
                <a:cubicBezTo>
                  <a:pt x="10" y="1616"/>
                  <a:pt x="0" y="1490"/>
                  <a:pt x="6" y="1369"/>
                </a:cubicBezTo>
                <a:close/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8T09:53:57Z</dcterms:created>
  <dc:creator>Adi Levin</dc:creator>
  <dc:description/>
  <dc:language>en-US</dc:language>
  <cp:lastModifiedBy>Adi</cp:lastModifiedBy>
  <dcterms:modified xsi:type="dcterms:W3CDTF">2001-04-25T17:13:34Z</dcterms:modified>
  <cp:revision>517</cp:revision>
  <dc:subject/>
  <dc:title>Subdivision Surfaces</dc:title>
</cp:coreProperties>
</file>